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6.wmf" ContentType="image/x-wmf"/>
  <Override PartName="/ppt/media/image10.png" ContentType="image/png"/>
  <Override PartName="/ppt/media/image28.wmf" ContentType="image/x-wmf"/>
  <Override PartName="/ppt/media/image9.png" ContentType="image/png"/>
  <Override PartName="/ppt/media/image8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5.jpeg" ContentType="image/jpeg"/>
  <Override PartName="/ppt/media/image4.jpeg" ContentType="image/jpeg"/>
  <Override PartName="/ppt/media/image25.png" ContentType="image/png"/>
  <Override PartName="/ppt/media/image2.jpeg" ContentType="image/jpeg"/>
  <Override PartName="/ppt/media/image3.jpeg" ContentType="image/jpeg"/>
  <Override PartName="/ppt/media/image27.png" ContentType="image/png"/>
  <Override PartName="/ppt/media/image26.png" ContentType="image/png"/>
  <Override PartName="/ppt/media/image14.png" ContentType="image/png"/>
  <Override PartName="/ppt/media/image23.wmf" ContentType="image/x-wmf"/>
  <Override PartName="/ppt/media/image1.png" ContentType="image/png"/>
  <Override PartName="/ppt/media/image24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wmf" ContentType="image/x-wmf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15FE1-EE23-4D55-B487-C0AF370809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662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028400"/>
            <a:ext cx="822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EC143-8BEB-46DF-AABC-0D73C9119B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662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0284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0284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EE55D-2B1B-45D1-9380-F70EB48E68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662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02840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02840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02840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5A024-6039-4599-8904-896D343A88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662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662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662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662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447560" y="304920"/>
            <a:ext cx="6629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662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284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662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0D4C9-8BEA-4C3D-803F-6F7C015336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662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40284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662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28400"/>
            <a:ext cx="822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662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4028400"/>
            <a:ext cx="822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662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284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40284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662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402840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402840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402840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662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F358D-7B4B-47A3-B2C5-CC32B320D0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662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A5B22-0FCE-4902-9662-C0E67223BA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662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B84BB-3573-42D7-90C2-3CABE021E8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447560" y="304920"/>
            <a:ext cx="6629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57D04-19F9-4B11-8CA7-14E5D6CDEF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662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0284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B3B90-B2F7-48A3-B764-7E36B6972B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662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0284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78246-E205-4F93-9AFC-76EBDD42DE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662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28400"/>
            <a:ext cx="822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FC9F2-E556-4808-B577-5CDA421EF8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662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90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229600" y="6477120"/>
            <a:ext cx="914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1495B-636F-403F-9160-710BCF4BC396}" type="slidenum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>
            <a:alphaModFix amt="15000"/>
          </a:blip>
          <a:stretch/>
        </p:blipFill>
        <p:spPr>
          <a:xfrm>
            <a:off x="7721640" y="2671920"/>
            <a:ext cx="1403280" cy="144936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>
            <a:lum bright="24000"/>
            <a:alphaModFix amt="15000"/>
          </a:blip>
          <a:stretch/>
        </p:blipFill>
        <p:spPr>
          <a:xfrm>
            <a:off x="7721640" y="4132440"/>
            <a:ext cx="1403280" cy="142848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4">
            <a:lum bright="24000"/>
            <a:alphaModFix amt="15000"/>
          </a:blip>
          <a:stretch/>
        </p:blipFill>
        <p:spPr>
          <a:xfrm>
            <a:off x="7721640" y="5407200"/>
            <a:ext cx="1392120" cy="14382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5">
            <a:lum bright="54000"/>
            <a:alphaModFix amt="15000"/>
          </a:blip>
          <a:stretch/>
        </p:blipFill>
        <p:spPr>
          <a:xfrm>
            <a:off x="7721640" y="1219320"/>
            <a:ext cx="1406520" cy="1452600"/>
          </a:xfrm>
          <a:prstGeom prst="rect">
            <a:avLst/>
          </a:prstGeom>
          <a:ln w="0">
            <a:noFill/>
          </a:ln>
        </p:spPr>
      </p:pic>
      <p:grpSp>
        <p:nvGrpSpPr>
          <p:cNvPr id="7" name=""/>
          <p:cNvGrpSpPr/>
          <p:nvPr/>
        </p:nvGrpSpPr>
        <p:grpSpPr>
          <a:xfrm>
            <a:off x="7721640" y="0"/>
            <a:ext cx="1422360" cy="1175760"/>
            <a:chOff x="7721640" y="0"/>
            <a:chExt cx="1422360" cy="1175760"/>
          </a:xfrm>
        </p:grpSpPr>
        <p:sp>
          <p:nvSpPr>
            <p:cNvPr id="8" name=""/>
            <p:cNvSpPr/>
            <p:nvPr/>
          </p:nvSpPr>
          <p:spPr>
            <a:xfrm>
              <a:off x="8402400" y="0"/>
              <a:ext cx="179640" cy="640800"/>
            </a:xfrm>
            <a:custGeom>
              <a:avLst/>
              <a:gdLst/>
              <a:ahLst/>
              <a:rect l="l" t="t" r="r" b="b"/>
              <a:pathLst>
                <a:path w="659" h="1633">
                  <a:moveTo>
                    <a:pt x="0" y="1633"/>
                  </a:moveTo>
                  <a:lnTo>
                    <a:pt x="14" y="1593"/>
                  </a:lnTo>
                  <a:lnTo>
                    <a:pt x="31" y="1552"/>
                  </a:lnTo>
                  <a:lnTo>
                    <a:pt x="50" y="1511"/>
                  </a:lnTo>
                  <a:lnTo>
                    <a:pt x="69" y="1469"/>
                  </a:lnTo>
                  <a:lnTo>
                    <a:pt x="90" y="1426"/>
                  </a:lnTo>
                  <a:lnTo>
                    <a:pt x="110" y="1382"/>
                  </a:lnTo>
                  <a:lnTo>
                    <a:pt x="130" y="1340"/>
                  </a:lnTo>
                  <a:lnTo>
                    <a:pt x="151" y="1297"/>
                  </a:lnTo>
                  <a:lnTo>
                    <a:pt x="169" y="1257"/>
                  </a:lnTo>
                  <a:lnTo>
                    <a:pt x="187" y="1218"/>
                  </a:lnTo>
                  <a:lnTo>
                    <a:pt x="202" y="1180"/>
                  </a:lnTo>
                  <a:lnTo>
                    <a:pt x="215" y="1145"/>
                  </a:lnTo>
                  <a:lnTo>
                    <a:pt x="225" y="1113"/>
                  </a:lnTo>
                  <a:lnTo>
                    <a:pt x="232" y="1082"/>
                  </a:lnTo>
                  <a:lnTo>
                    <a:pt x="236" y="1055"/>
                  </a:lnTo>
                  <a:lnTo>
                    <a:pt x="235" y="1033"/>
                  </a:lnTo>
                  <a:lnTo>
                    <a:pt x="227" y="991"/>
                  </a:lnTo>
                  <a:lnTo>
                    <a:pt x="218" y="952"/>
                  </a:lnTo>
                  <a:lnTo>
                    <a:pt x="210" y="918"/>
                  </a:lnTo>
                  <a:lnTo>
                    <a:pt x="201" y="884"/>
                  </a:lnTo>
                  <a:lnTo>
                    <a:pt x="192" y="854"/>
                  </a:lnTo>
                  <a:lnTo>
                    <a:pt x="182" y="826"/>
                  </a:lnTo>
                  <a:lnTo>
                    <a:pt x="174" y="800"/>
                  </a:lnTo>
                  <a:lnTo>
                    <a:pt x="166" y="776"/>
                  </a:lnTo>
                  <a:lnTo>
                    <a:pt x="159" y="752"/>
                  </a:lnTo>
                  <a:lnTo>
                    <a:pt x="152" y="731"/>
                  </a:lnTo>
                  <a:lnTo>
                    <a:pt x="147" y="710"/>
                  </a:lnTo>
                  <a:lnTo>
                    <a:pt x="143" y="690"/>
                  </a:lnTo>
                  <a:lnTo>
                    <a:pt x="141" y="670"/>
                  </a:lnTo>
                  <a:lnTo>
                    <a:pt x="140" y="650"/>
                  </a:lnTo>
                  <a:lnTo>
                    <a:pt x="141" y="630"/>
                  </a:lnTo>
                  <a:lnTo>
                    <a:pt x="144" y="609"/>
                  </a:lnTo>
                  <a:lnTo>
                    <a:pt x="149" y="588"/>
                  </a:lnTo>
                  <a:lnTo>
                    <a:pt x="157" y="565"/>
                  </a:lnTo>
                  <a:lnTo>
                    <a:pt x="167" y="542"/>
                  </a:lnTo>
                  <a:lnTo>
                    <a:pt x="181" y="517"/>
                  </a:lnTo>
                  <a:lnTo>
                    <a:pt x="198" y="490"/>
                  </a:lnTo>
                  <a:lnTo>
                    <a:pt x="217" y="461"/>
                  </a:lnTo>
                  <a:lnTo>
                    <a:pt x="241" y="430"/>
                  </a:lnTo>
                  <a:lnTo>
                    <a:pt x="267" y="396"/>
                  </a:lnTo>
                  <a:lnTo>
                    <a:pt x="299" y="359"/>
                  </a:lnTo>
                  <a:lnTo>
                    <a:pt x="334" y="319"/>
                  </a:lnTo>
                  <a:lnTo>
                    <a:pt x="372" y="277"/>
                  </a:lnTo>
                  <a:lnTo>
                    <a:pt x="416" y="230"/>
                  </a:lnTo>
                  <a:lnTo>
                    <a:pt x="465" y="179"/>
                  </a:lnTo>
                  <a:lnTo>
                    <a:pt x="518" y="123"/>
                  </a:lnTo>
                  <a:lnTo>
                    <a:pt x="577" y="64"/>
                  </a:lnTo>
                  <a:lnTo>
                    <a:pt x="640" y="0"/>
                  </a:lnTo>
                  <a:lnTo>
                    <a:pt x="610" y="86"/>
                  </a:lnTo>
                  <a:lnTo>
                    <a:pt x="587" y="164"/>
                  </a:lnTo>
                  <a:lnTo>
                    <a:pt x="568" y="238"/>
                  </a:lnTo>
                  <a:lnTo>
                    <a:pt x="555" y="305"/>
                  </a:lnTo>
                  <a:lnTo>
                    <a:pt x="546" y="367"/>
                  </a:lnTo>
                  <a:lnTo>
                    <a:pt x="541" y="425"/>
                  </a:lnTo>
                  <a:lnTo>
                    <a:pt x="539" y="478"/>
                  </a:lnTo>
                  <a:lnTo>
                    <a:pt x="541" y="526"/>
                  </a:lnTo>
                  <a:lnTo>
                    <a:pt x="545" y="571"/>
                  </a:lnTo>
                  <a:lnTo>
                    <a:pt x="552" y="611"/>
                  </a:lnTo>
                  <a:lnTo>
                    <a:pt x="560" y="649"/>
                  </a:lnTo>
                  <a:lnTo>
                    <a:pt x="570" y="683"/>
                  </a:lnTo>
                  <a:lnTo>
                    <a:pt x="582" y="715"/>
                  </a:lnTo>
                  <a:lnTo>
                    <a:pt x="593" y="745"/>
                  </a:lnTo>
                  <a:lnTo>
                    <a:pt x="605" y="773"/>
                  </a:lnTo>
                  <a:lnTo>
                    <a:pt x="616" y="799"/>
                  </a:lnTo>
                  <a:lnTo>
                    <a:pt x="628" y="824"/>
                  </a:lnTo>
                  <a:lnTo>
                    <a:pt x="638" y="848"/>
                  </a:lnTo>
                  <a:lnTo>
                    <a:pt x="646" y="872"/>
                  </a:lnTo>
                  <a:lnTo>
                    <a:pt x="653" y="894"/>
                  </a:lnTo>
                  <a:lnTo>
                    <a:pt x="657" y="918"/>
                  </a:lnTo>
                  <a:lnTo>
                    <a:pt x="659" y="941"/>
                  </a:lnTo>
                  <a:lnTo>
                    <a:pt x="657" y="966"/>
                  </a:lnTo>
                  <a:lnTo>
                    <a:pt x="653" y="991"/>
                  </a:lnTo>
                  <a:lnTo>
                    <a:pt x="644" y="1019"/>
                  </a:lnTo>
                  <a:lnTo>
                    <a:pt x="631" y="1047"/>
                  </a:lnTo>
                  <a:lnTo>
                    <a:pt x="612" y="1078"/>
                  </a:lnTo>
                  <a:lnTo>
                    <a:pt x="589" y="1111"/>
                  </a:lnTo>
                  <a:lnTo>
                    <a:pt x="559" y="1147"/>
                  </a:lnTo>
                  <a:lnTo>
                    <a:pt x="524" y="1186"/>
                  </a:lnTo>
                  <a:lnTo>
                    <a:pt x="483" y="1229"/>
                  </a:lnTo>
                  <a:lnTo>
                    <a:pt x="434" y="1275"/>
                  </a:lnTo>
                  <a:lnTo>
                    <a:pt x="417" y="1289"/>
                  </a:lnTo>
                  <a:lnTo>
                    <a:pt x="398" y="1306"/>
                  </a:lnTo>
                  <a:lnTo>
                    <a:pt x="376" y="1324"/>
                  </a:lnTo>
                  <a:lnTo>
                    <a:pt x="353" y="1343"/>
                  </a:lnTo>
                  <a:lnTo>
                    <a:pt x="328" y="1365"/>
                  </a:lnTo>
                  <a:lnTo>
                    <a:pt x="302" y="1386"/>
                  </a:lnTo>
                  <a:lnTo>
                    <a:pt x="273" y="1410"/>
                  </a:lnTo>
                  <a:lnTo>
                    <a:pt x="245" y="1433"/>
                  </a:lnTo>
                  <a:lnTo>
                    <a:pt x="215" y="1458"/>
                  </a:lnTo>
                  <a:lnTo>
                    <a:pt x="184" y="1482"/>
                  </a:lnTo>
                  <a:lnTo>
                    <a:pt x="153" y="1508"/>
                  </a:lnTo>
                  <a:lnTo>
                    <a:pt x="122" y="1533"/>
                  </a:lnTo>
                  <a:lnTo>
                    <a:pt x="91" y="1559"/>
                  </a:lnTo>
                  <a:lnTo>
                    <a:pt x="60" y="1583"/>
                  </a:lnTo>
                  <a:lnTo>
                    <a:pt x="29" y="1609"/>
                  </a:lnTo>
                  <a:lnTo>
                    <a:pt x="0" y="1633"/>
                  </a:lnTo>
                  <a:close/>
                </a:path>
              </a:pathLst>
            </a:custGeom>
            <a:solidFill>
              <a:srgbClr val="ff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721640" y="3960"/>
              <a:ext cx="1422360" cy="997560"/>
            </a:xfrm>
            <a:custGeom>
              <a:avLst/>
              <a:gdLst/>
              <a:ahLst/>
              <a:rect l="l" t="t" r="r" b="b"/>
              <a:pathLst>
                <a:path w="5178" h="2549">
                  <a:moveTo>
                    <a:pt x="2407" y="1589"/>
                  </a:moveTo>
                  <a:lnTo>
                    <a:pt x="2422" y="1551"/>
                  </a:lnTo>
                  <a:lnTo>
                    <a:pt x="2438" y="1511"/>
                  </a:lnTo>
                  <a:lnTo>
                    <a:pt x="2455" y="1471"/>
                  </a:lnTo>
                  <a:lnTo>
                    <a:pt x="2475" y="1429"/>
                  </a:lnTo>
                  <a:lnTo>
                    <a:pt x="2495" y="1387"/>
                  </a:lnTo>
                  <a:lnTo>
                    <a:pt x="2514" y="1345"/>
                  </a:lnTo>
                  <a:lnTo>
                    <a:pt x="2535" y="1304"/>
                  </a:lnTo>
                  <a:lnTo>
                    <a:pt x="2554" y="1263"/>
                  </a:lnTo>
                  <a:lnTo>
                    <a:pt x="2573" y="1223"/>
                  </a:lnTo>
                  <a:lnTo>
                    <a:pt x="2590" y="1185"/>
                  </a:lnTo>
                  <a:lnTo>
                    <a:pt x="2604" y="1148"/>
                  </a:lnTo>
                  <a:lnTo>
                    <a:pt x="2618" y="1115"/>
                  </a:lnTo>
                  <a:lnTo>
                    <a:pt x="2627" y="1082"/>
                  </a:lnTo>
                  <a:lnTo>
                    <a:pt x="2634" y="1054"/>
                  </a:lnTo>
                  <a:lnTo>
                    <a:pt x="2637" y="1028"/>
                  </a:lnTo>
                  <a:lnTo>
                    <a:pt x="2636" y="1006"/>
                  </a:lnTo>
                  <a:lnTo>
                    <a:pt x="2629" y="965"/>
                  </a:lnTo>
                  <a:lnTo>
                    <a:pt x="2621" y="927"/>
                  </a:lnTo>
                  <a:lnTo>
                    <a:pt x="2612" y="893"/>
                  </a:lnTo>
                  <a:lnTo>
                    <a:pt x="2603" y="861"/>
                  </a:lnTo>
                  <a:lnTo>
                    <a:pt x="2594" y="831"/>
                  </a:lnTo>
                  <a:lnTo>
                    <a:pt x="2586" y="804"/>
                  </a:lnTo>
                  <a:lnTo>
                    <a:pt x="2578" y="779"/>
                  </a:lnTo>
                  <a:lnTo>
                    <a:pt x="2570" y="755"/>
                  </a:lnTo>
                  <a:lnTo>
                    <a:pt x="2562" y="733"/>
                  </a:lnTo>
                  <a:lnTo>
                    <a:pt x="2556" y="712"/>
                  </a:lnTo>
                  <a:lnTo>
                    <a:pt x="2550" y="691"/>
                  </a:lnTo>
                  <a:lnTo>
                    <a:pt x="2547" y="671"/>
                  </a:lnTo>
                  <a:lnTo>
                    <a:pt x="2544" y="651"/>
                  </a:lnTo>
                  <a:lnTo>
                    <a:pt x="2543" y="632"/>
                  </a:lnTo>
                  <a:lnTo>
                    <a:pt x="2544" y="613"/>
                  </a:lnTo>
                  <a:lnTo>
                    <a:pt x="2547" y="593"/>
                  </a:lnTo>
                  <a:lnTo>
                    <a:pt x="2552" y="572"/>
                  </a:lnTo>
                  <a:lnTo>
                    <a:pt x="2560" y="550"/>
                  </a:lnTo>
                  <a:lnTo>
                    <a:pt x="2571" y="528"/>
                  </a:lnTo>
                  <a:lnTo>
                    <a:pt x="2584" y="503"/>
                  </a:lnTo>
                  <a:lnTo>
                    <a:pt x="2600" y="477"/>
                  </a:lnTo>
                  <a:lnTo>
                    <a:pt x="2620" y="449"/>
                  </a:lnTo>
                  <a:lnTo>
                    <a:pt x="2642" y="419"/>
                  </a:lnTo>
                  <a:lnTo>
                    <a:pt x="2669" y="386"/>
                  </a:lnTo>
                  <a:lnTo>
                    <a:pt x="2698" y="350"/>
                  </a:lnTo>
                  <a:lnTo>
                    <a:pt x="2732" y="311"/>
                  </a:lnTo>
                  <a:lnTo>
                    <a:pt x="2771" y="270"/>
                  </a:lnTo>
                  <a:lnTo>
                    <a:pt x="2813" y="224"/>
                  </a:lnTo>
                  <a:lnTo>
                    <a:pt x="2860" y="174"/>
                  </a:lnTo>
                  <a:lnTo>
                    <a:pt x="2912" y="121"/>
                  </a:lnTo>
                  <a:lnTo>
                    <a:pt x="2968" y="62"/>
                  </a:lnTo>
                  <a:lnTo>
                    <a:pt x="3030" y="0"/>
                  </a:lnTo>
                  <a:lnTo>
                    <a:pt x="3001" y="83"/>
                  </a:lnTo>
                  <a:lnTo>
                    <a:pt x="2979" y="160"/>
                  </a:lnTo>
                  <a:lnTo>
                    <a:pt x="2961" y="232"/>
                  </a:lnTo>
                  <a:lnTo>
                    <a:pt x="2947" y="297"/>
                  </a:lnTo>
                  <a:lnTo>
                    <a:pt x="2938" y="357"/>
                  </a:lnTo>
                  <a:lnTo>
                    <a:pt x="2934" y="414"/>
                  </a:lnTo>
                  <a:lnTo>
                    <a:pt x="2932" y="465"/>
                  </a:lnTo>
                  <a:lnTo>
                    <a:pt x="2934" y="511"/>
                  </a:lnTo>
                  <a:lnTo>
                    <a:pt x="2938" y="555"/>
                  </a:lnTo>
                  <a:lnTo>
                    <a:pt x="2944" y="595"/>
                  </a:lnTo>
                  <a:lnTo>
                    <a:pt x="2952" y="631"/>
                  </a:lnTo>
                  <a:lnTo>
                    <a:pt x="2963" y="665"/>
                  </a:lnTo>
                  <a:lnTo>
                    <a:pt x="2973" y="696"/>
                  </a:lnTo>
                  <a:lnTo>
                    <a:pt x="2985" y="725"/>
                  </a:lnTo>
                  <a:lnTo>
                    <a:pt x="2996" y="752"/>
                  </a:lnTo>
                  <a:lnTo>
                    <a:pt x="3008" y="778"/>
                  </a:lnTo>
                  <a:lnTo>
                    <a:pt x="3019" y="801"/>
                  </a:lnTo>
                  <a:lnTo>
                    <a:pt x="3028" y="825"/>
                  </a:lnTo>
                  <a:lnTo>
                    <a:pt x="3036" y="848"/>
                  </a:lnTo>
                  <a:lnTo>
                    <a:pt x="3043" y="871"/>
                  </a:lnTo>
                  <a:lnTo>
                    <a:pt x="3047" y="893"/>
                  </a:lnTo>
                  <a:lnTo>
                    <a:pt x="3049" y="916"/>
                  </a:lnTo>
                  <a:lnTo>
                    <a:pt x="3047" y="940"/>
                  </a:lnTo>
                  <a:lnTo>
                    <a:pt x="3043" y="965"/>
                  </a:lnTo>
                  <a:lnTo>
                    <a:pt x="3034" y="991"/>
                  </a:lnTo>
                  <a:lnTo>
                    <a:pt x="3021" y="1019"/>
                  </a:lnTo>
                  <a:lnTo>
                    <a:pt x="3003" y="1048"/>
                  </a:lnTo>
                  <a:lnTo>
                    <a:pt x="2980" y="1081"/>
                  </a:lnTo>
                  <a:lnTo>
                    <a:pt x="2952" y="1116"/>
                  </a:lnTo>
                  <a:lnTo>
                    <a:pt x="2918" y="1154"/>
                  </a:lnTo>
                  <a:lnTo>
                    <a:pt x="2877" y="1195"/>
                  </a:lnTo>
                  <a:lnTo>
                    <a:pt x="2830" y="1240"/>
                  </a:lnTo>
                  <a:lnTo>
                    <a:pt x="2814" y="1255"/>
                  </a:lnTo>
                  <a:lnTo>
                    <a:pt x="2795" y="1271"/>
                  </a:lnTo>
                  <a:lnTo>
                    <a:pt x="2775" y="1288"/>
                  </a:lnTo>
                  <a:lnTo>
                    <a:pt x="2751" y="1308"/>
                  </a:lnTo>
                  <a:lnTo>
                    <a:pt x="2727" y="1327"/>
                  </a:lnTo>
                  <a:lnTo>
                    <a:pt x="2701" y="1348"/>
                  </a:lnTo>
                  <a:lnTo>
                    <a:pt x="2674" y="1371"/>
                  </a:lnTo>
                  <a:lnTo>
                    <a:pt x="2646" y="1394"/>
                  </a:lnTo>
                  <a:lnTo>
                    <a:pt x="2617" y="1418"/>
                  </a:lnTo>
                  <a:lnTo>
                    <a:pt x="2587" y="1442"/>
                  </a:lnTo>
                  <a:lnTo>
                    <a:pt x="2556" y="1467"/>
                  </a:lnTo>
                  <a:lnTo>
                    <a:pt x="2527" y="1491"/>
                  </a:lnTo>
                  <a:lnTo>
                    <a:pt x="2496" y="1516"/>
                  </a:lnTo>
                  <a:lnTo>
                    <a:pt x="2465" y="1541"/>
                  </a:lnTo>
                  <a:lnTo>
                    <a:pt x="2436" y="1565"/>
                  </a:lnTo>
                  <a:lnTo>
                    <a:pt x="2407" y="1589"/>
                  </a:lnTo>
                  <a:close/>
                  <a:moveTo>
                    <a:pt x="0" y="1584"/>
                  </a:moveTo>
                  <a:lnTo>
                    <a:pt x="0" y="2549"/>
                  </a:lnTo>
                  <a:lnTo>
                    <a:pt x="184" y="2521"/>
                  </a:lnTo>
                  <a:lnTo>
                    <a:pt x="366" y="2496"/>
                  </a:lnTo>
                  <a:lnTo>
                    <a:pt x="545" y="2472"/>
                  </a:lnTo>
                  <a:lnTo>
                    <a:pt x="725" y="2450"/>
                  </a:lnTo>
                  <a:lnTo>
                    <a:pt x="901" y="2430"/>
                  </a:lnTo>
                  <a:lnTo>
                    <a:pt x="1078" y="2412"/>
                  </a:lnTo>
                  <a:lnTo>
                    <a:pt x="1253" y="2396"/>
                  </a:lnTo>
                  <a:lnTo>
                    <a:pt x="1425" y="2381"/>
                  </a:lnTo>
                  <a:lnTo>
                    <a:pt x="1597" y="2369"/>
                  </a:lnTo>
                  <a:lnTo>
                    <a:pt x="1767" y="2359"/>
                  </a:lnTo>
                  <a:lnTo>
                    <a:pt x="1937" y="2350"/>
                  </a:lnTo>
                  <a:lnTo>
                    <a:pt x="2104" y="2343"/>
                  </a:lnTo>
                  <a:lnTo>
                    <a:pt x="2269" y="2338"/>
                  </a:lnTo>
                  <a:lnTo>
                    <a:pt x="2435" y="2334"/>
                  </a:lnTo>
                  <a:lnTo>
                    <a:pt x="2598" y="2331"/>
                  </a:lnTo>
                  <a:lnTo>
                    <a:pt x="2761" y="2331"/>
                  </a:lnTo>
                  <a:lnTo>
                    <a:pt x="2921" y="2334"/>
                  </a:lnTo>
                  <a:lnTo>
                    <a:pt x="3080" y="2337"/>
                  </a:lnTo>
                  <a:lnTo>
                    <a:pt x="3238" y="2342"/>
                  </a:lnTo>
                  <a:lnTo>
                    <a:pt x="3395" y="2348"/>
                  </a:lnTo>
                  <a:lnTo>
                    <a:pt x="3551" y="2356"/>
                  </a:lnTo>
                  <a:lnTo>
                    <a:pt x="3705" y="2366"/>
                  </a:lnTo>
                  <a:lnTo>
                    <a:pt x="3858" y="2377"/>
                  </a:lnTo>
                  <a:lnTo>
                    <a:pt x="4009" y="2391"/>
                  </a:lnTo>
                  <a:lnTo>
                    <a:pt x="4160" y="2405"/>
                  </a:lnTo>
                  <a:lnTo>
                    <a:pt x="4309" y="2421"/>
                  </a:lnTo>
                  <a:lnTo>
                    <a:pt x="4456" y="2439"/>
                  </a:lnTo>
                  <a:lnTo>
                    <a:pt x="4603" y="2458"/>
                  </a:lnTo>
                  <a:lnTo>
                    <a:pt x="4749" y="2478"/>
                  </a:lnTo>
                  <a:lnTo>
                    <a:pt x="4893" y="2501"/>
                  </a:lnTo>
                  <a:lnTo>
                    <a:pt x="5036" y="2524"/>
                  </a:lnTo>
                  <a:lnTo>
                    <a:pt x="5178" y="2549"/>
                  </a:lnTo>
                  <a:lnTo>
                    <a:pt x="5178" y="1584"/>
                  </a:lnTo>
                  <a:lnTo>
                    <a:pt x="5177" y="1580"/>
                  </a:lnTo>
                  <a:lnTo>
                    <a:pt x="5174" y="1575"/>
                  </a:lnTo>
                  <a:lnTo>
                    <a:pt x="5168" y="1568"/>
                  </a:lnTo>
                  <a:lnTo>
                    <a:pt x="5161" y="1560"/>
                  </a:lnTo>
                  <a:lnTo>
                    <a:pt x="5150" y="1550"/>
                  </a:lnTo>
                  <a:lnTo>
                    <a:pt x="5138" y="1538"/>
                  </a:lnTo>
                  <a:lnTo>
                    <a:pt x="5124" y="1526"/>
                  </a:lnTo>
                  <a:lnTo>
                    <a:pt x="5106" y="1512"/>
                  </a:lnTo>
                  <a:lnTo>
                    <a:pt x="5087" y="1497"/>
                  </a:lnTo>
                  <a:lnTo>
                    <a:pt x="5066" y="1481"/>
                  </a:lnTo>
                  <a:lnTo>
                    <a:pt x="5042" y="1464"/>
                  </a:lnTo>
                  <a:lnTo>
                    <a:pt x="5016" y="1446"/>
                  </a:lnTo>
                  <a:lnTo>
                    <a:pt x="4987" y="1428"/>
                  </a:lnTo>
                  <a:lnTo>
                    <a:pt x="4955" y="1409"/>
                  </a:lnTo>
                  <a:lnTo>
                    <a:pt x="4923" y="1388"/>
                  </a:lnTo>
                  <a:lnTo>
                    <a:pt x="4886" y="1368"/>
                  </a:lnTo>
                  <a:lnTo>
                    <a:pt x="4847" y="1346"/>
                  </a:lnTo>
                  <a:lnTo>
                    <a:pt x="4806" y="1325"/>
                  </a:lnTo>
                  <a:lnTo>
                    <a:pt x="4762" y="1304"/>
                  </a:lnTo>
                  <a:lnTo>
                    <a:pt x="4717" y="1281"/>
                  </a:lnTo>
                  <a:lnTo>
                    <a:pt x="4668" y="1259"/>
                  </a:lnTo>
                  <a:lnTo>
                    <a:pt x="4616" y="1236"/>
                  </a:lnTo>
                  <a:lnTo>
                    <a:pt x="4562" y="1214"/>
                  </a:lnTo>
                  <a:lnTo>
                    <a:pt x="4505" y="1191"/>
                  </a:lnTo>
                  <a:lnTo>
                    <a:pt x="4446" y="1169"/>
                  </a:lnTo>
                  <a:lnTo>
                    <a:pt x="4384" y="1146"/>
                  </a:lnTo>
                  <a:lnTo>
                    <a:pt x="4319" y="1124"/>
                  </a:lnTo>
                  <a:lnTo>
                    <a:pt x="4251" y="1103"/>
                  </a:lnTo>
                  <a:lnTo>
                    <a:pt x="4181" y="1081"/>
                  </a:lnTo>
                  <a:lnTo>
                    <a:pt x="4108" y="1060"/>
                  </a:lnTo>
                  <a:lnTo>
                    <a:pt x="4032" y="1039"/>
                  </a:lnTo>
                  <a:lnTo>
                    <a:pt x="3953" y="1020"/>
                  </a:lnTo>
                  <a:lnTo>
                    <a:pt x="3873" y="1001"/>
                  </a:lnTo>
                  <a:lnTo>
                    <a:pt x="3794" y="983"/>
                  </a:lnTo>
                  <a:lnTo>
                    <a:pt x="3714" y="968"/>
                  </a:lnTo>
                  <a:lnTo>
                    <a:pt x="3635" y="952"/>
                  </a:lnTo>
                  <a:lnTo>
                    <a:pt x="3557" y="939"/>
                  </a:lnTo>
                  <a:lnTo>
                    <a:pt x="3478" y="927"/>
                  </a:lnTo>
                  <a:lnTo>
                    <a:pt x="3401" y="916"/>
                  </a:lnTo>
                  <a:lnTo>
                    <a:pt x="3323" y="907"/>
                  </a:lnTo>
                  <a:lnTo>
                    <a:pt x="3246" y="898"/>
                  </a:lnTo>
                  <a:lnTo>
                    <a:pt x="3170" y="890"/>
                  </a:lnTo>
                  <a:lnTo>
                    <a:pt x="3093" y="884"/>
                  </a:lnTo>
                  <a:lnTo>
                    <a:pt x="3018" y="879"/>
                  </a:lnTo>
                  <a:lnTo>
                    <a:pt x="2943" y="875"/>
                  </a:lnTo>
                  <a:lnTo>
                    <a:pt x="2869" y="872"/>
                  </a:lnTo>
                  <a:lnTo>
                    <a:pt x="2794" y="870"/>
                  </a:lnTo>
                  <a:lnTo>
                    <a:pt x="2721" y="869"/>
                  </a:lnTo>
                  <a:lnTo>
                    <a:pt x="2648" y="870"/>
                  </a:lnTo>
                  <a:lnTo>
                    <a:pt x="2576" y="870"/>
                  </a:lnTo>
                  <a:lnTo>
                    <a:pt x="2503" y="872"/>
                  </a:lnTo>
                  <a:lnTo>
                    <a:pt x="2432" y="875"/>
                  </a:lnTo>
                  <a:lnTo>
                    <a:pt x="2361" y="878"/>
                  </a:lnTo>
                  <a:lnTo>
                    <a:pt x="2291" y="883"/>
                  </a:lnTo>
                  <a:lnTo>
                    <a:pt x="2221" y="888"/>
                  </a:lnTo>
                  <a:lnTo>
                    <a:pt x="2153" y="894"/>
                  </a:lnTo>
                  <a:lnTo>
                    <a:pt x="2085" y="900"/>
                  </a:lnTo>
                  <a:lnTo>
                    <a:pt x="2017" y="909"/>
                  </a:lnTo>
                  <a:lnTo>
                    <a:pt x="1950" y="917"/>
                  </a:lnTo>
                  <a:lnTo>
                    <a:pt x="1884" y="925"/>
                  </a:lnTo>
                  <a:lnTo>
                    <a:pt x="1818" y="935"/>
                  </a:lnTo>
                  <a:lnTo>
                    <a:pt x="1753" y="945"/>
                  </a:lnTo>
                  <a:lnTo>
                    <a:pt x="1689" y="956"/>
                  </a:lnTo>
                  <a:lnTo>
                    <a:pt x="1625" y="967"/>
                  </a:lnTo>
                  <a:lnTo>
                    <a:pt x="1562" y="978"/>
                  </a:lnTo>
                  <a:lnTo>
                    <a:pt x="1500" y="990"/>
                  </a:lnTo>
                  <a:lnTo>
                    <a:pt x="1437" y="1002"/>
                  </a:lnTo>
                  <a:lnTo>
                    <a:pt x="1376" y="1015"/>
                  </a:lnTo>
                  <a:lnTo>
                    <a:pt x="1316" y="1027"/>
                  </a:lnTo>
                  <a:lnTo>
                    <a:pt x="1256" y="1039"/>
                  </a:lnTo>
                  <a:lnTo>
                    <a:pt x="1195" y="1052"/>
                  </a:lnTo>
                  <a:lnTo>
                    <a:pt x="1137" y="1066"/>
                  </a:lnTo>
                  <a:lnTo>
                    <a:pt x="1079" y="1080"/>
                  </a:lnTo>
                  <a:lnTo>
                    <a:pt x="1021" y="1093"/>
                  </a:lnTo>
                  <a:lnTo>
                    <a:pt x="965" y="1109"/>
                  </a:lnTo>
                  <a:lnTo>
                    <a:pt x="909" y="1124"/>
                  </a:lnTo>
                  <a:lnTo>
                    <a:pt x="854" y="1139"/>
                  </a:lnTo>
                  <a:lnTo>
                    <a:pt x="798" y="1156"/>
                  </a:lnTo>
                  <a:lnTo>
                    <a:pt x="745" y="1172"/>
                  </a:lnTo>
                  <a:lnTo>
                    <a:pt x="693" y="1189"/>
                  </a:lnTo>
                  <a:lnTo>
                    <a:pt x="641" y="1208"/>
                  </a:lnTo>
                  <a:lnTo>
                    <a:pt x="590" y="1227"/>
                  </a:lnTo>
                  <a:lnTo>
                    <a:pt x="541" y="1246"/>
                  </a:lnTo>
                  <a:lnTo>
                    <a:pt x="492" y="1267"/>
                  </a:lnTo>
                  <a:lnTo>
                    <a:pt x="445" y="1288"/>
                  </a:lnTo>
                  <a:lnTo>
                    <a:pt x="398" y="1310"/>
                  </a:lnTo>
                  <a:lnTo>
                    <a:pt x="353" y="1333"/>
                  </a:lnTo>
                  <a:lnTo>
                    <a:pt x="308" y="1357"/>
                  </a:lnTo>
                  <a:lnTo>
                    <a:pt x="265" y="1381"/>
                  </a:lnTo>
                  <a:lnTo>
                    <a:pt x="224" y="1407"/>
                  </a:lnTo>
                  <a:lnTo>
                    <a:pt x="183" y="1434"/>
                  </a:lnTo>
                  <a:lnTo>
                    <a:pt x="144" y="1462"/>
                  </a:lnTo>
                  <a:lnTo>
                    <a:pt x="106" y="1490"/>
                  </a:lnTo>
                  <a:lnTo>
                    <a:pt x="69" y="1521"/>
                  </a:lnTo>
                  <a:lnTo>
                    <a:pt x="34" y="1552"/>
                  </a:lnTo>
                  <a:lnTo>
                    <a:pt x="0" y="1584"/>
                  </a:lnTo>
                  <a:close/>
                </a:path>
              </a:pathLst>
            </a:custGeom>
            <a:solidFill>
              <a:srgbClr val="0000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685360" y="617400"/>
              <a:ext cx="228960" cy="258480"/>
            </a:xfrm>
            <a:custGeom>
              <a:avLst/>
              <a:gdLst/>
              <a:ahLst/>
              <a:rect l="l" t="t" r="r" b="b"/>
              <a:pathLst>
                <a:path w="835" h="660">
                  <a:moveTo>
                    <a:pt x="0" y="660"/>
                  </a:moveTo>
                  <a:lnTo>
                    <a:pt x="430" y="0"/>
                  </a:lnTo>
                  <a:lnTo>
                    <a:pt x="776" y="0"/>
                  </a:lnTo>
                  <a:lnTo>
                    <a:pt x="777" y="20"/>
                  </a:lnTo>
                  <a:lnTo>
                    <a:pt x="778" y="42"/>
                  </a:lnTo>
                  <a:lnTo>
                    <a:pt x="780" y="62"/>
                  </a:lnTo>
                  <a:lnTo>
                    <a:pt x="782" y="84"/>
                  </a:lnTo>
                  <a:lnTo>
                    <a:pt x="784" y="105"/>
                  </a:lnTo>
                  <a:lnTo>
                    <a:pt x="786" y="127"/>
                  </a:lnTo>
                  <a:lnTo>
                    <a:pt x="789" y="148"/>
                  </a:lnTo>
                  <a:lnTo>
                    <a:pt x="791" y="169"/>
                  </a:lnTo>
                  <a:lnTo>
                    <a:pt x="793" y="191"/>
                  </a:lnTo>
                  <a:lnTo>
                    <a:pt x="796" y="212"/>
                  </a:lnTo>
                  <a:lnTo>
                    <a:pt x="798" y="234"/>
                  </a:lnTo>
                  <a:lnTo>
                    <a:pt x="800" y="254"/>
                  </a:lnTo>
                  <a:lnTo>
                    <a:pt x="802" y="276"/>
                  </a:lnTo>
                  <a:lnTo>
                    <a:pt x="804" y="296"/>
                  </a:lnTo>
                  <a:lnTo>
                    <a:pt x="805" y="317"/>
                  </a:lnTo>
                  <a:lnTo>
                    <a:pt x="806" y="338"/>
                  </a:lnTo>
                  <a:lnTo>
                    <a:pt x="807" y="361"/>
                  </a:lnTo>
                  <a:lnTo>
                    <a:pt x="809" y="385"/>
                  </a:lnTo>
                  <a:lnTo>
                    <a:pt x="810" y="406"/>
                  </a:lnTo>
                  <a:lnTo>
                    <a:pt x="812" y="428"/>
                  </a:lnTo>
                  <a:lnTo>
                    <a:pt x="816" y="448"/>
                  </a:lnTo>
                  <a:lnTo>
                    <a:pt x="818" y="468"/>
                  </a:lnTo>
                  <a:lnTo>
                    <a:pt x="820" y="489"/>
                  </a:lnTo>
                  <a:lnTo>
                    <a:pt x="823" y="507"/>
                  </a:lnTo>
                  <a:lnTo>
                    <a:pt x="825" y="527"/>
                  </a:lnTo>
                  <a:lnTo>
                    <a:pt x="827" y="545"/>
                  </a:lnTo>
                  <a:lnTo>
                    <a:pt x="830" y="564"/>
                  </a:lnTo>
                  <a:lnTo>
                    <a:pt x="831" y="583"/>
                  </a:lnTo>
                  <a:lnTo>
                    <a:pt x="833" y="601"/>
                  </a:lnTo>
                  <a:lnTo>
                    <a:pt x="834" y="620"/>
                  </a:lnTo>
                  <a:lnTo>
                    <a:pt x="835" y="638"/>
                  </a:lnTo>
                  <a:lnTo>
                    <a:pt x="835" y="656"/>
                  </a:lnTo>
                  <a:lnTo>
                    <a:pt x="539" y="656"/>
                  </a:lnTo>
                  <a:lnTo>
                    <a:pt x="538" y="622"/>
                  </a:lnTo>
                  <a:lnTo>
                    <a:pt x="538" y="584"/>
                  </a:lnTo>
                  <a:lnTo>
                    <a:pt x="539" y="545"/>
                  </a:lnTo>
                  <a:lnTo>
                    <a:pt x="540" y="504"/>
                  </a:lnTo>
                  <a:lnTo>
                    <a:pt x="541" y="463"/>
                  </a:lnTo>
                  <a:lnTo>
                    <a:pt x="543" y="422"/>
                  </a:lnTo>
                  <a:lnTo>
                    <a:pt x="545" y="382"/>
                  </a:lnTo>
                  <a:lnTo>
                    <a:pt x="546" y="342"/>
                  </a:lnTo>
                  <a:lnTo>
                    <a:pt x="547" y="305"/>
                  </a:lnTo>
                  <a:lnTo>
                    <a:pt x="548" y="270"/>
                  </a:lnTo>
                  <a:lnTo>
                    <a:pt x="549" y="239"/>
                  </a:lnTo>
                  <a:lnTo>
                    <a:pt x="549" y="212"/>
                  </a:lnTo>
                  <a:lnTo>
                    <a:pt x="548" y="189"/>
                  </a:lnTo>
                  <a:lnTo>
                    <a:pt x="546" y="171"/>
                  </a:lnTo>
                  <a:lnTo>
                    <a:pt x="543" y="160"/>
                  </a:lnTo>
                  <a:lnTo>
                    <a:pt x="539" y="155"/>
                  </a:lnTo>
                  <a:lnTo>
                    <a:pt x="303" y="656"/>
                  </a:lnTo>
                  <a:lnTo>
                    <a:pt x="0" y="66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65320" y="613440"/>
              <a:ext cx="123480" cy="256680"/>
            </a:xfrm>
            <a:custGeom>
              <a:avLst/>
              <a:gdLst/>
              <a:ahLst/>
              <a:rect l="l" t="t" r="r" b="b"/>
              <a:pathLst>
                <a:path w="453" h="655">
                  <a:moveTo>
                    <a:pt x="0" y="655"/>
                  </a:moveTo>
                  <a:lnTo>
                    <a:pt x="165" y="0"/>
                  </a:lnTo>
                  <a:lnTo>
                    <a:pt x="453" y="0"/>
                  </a:lnTo>
                  <a:lnTo>
                    <a:pt x="287" y="655"/>
                  </a:lnTo>
                  <a:lnTo>
                    <a:pt x="0" y="655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215920" y="613440"/>
              <a:ext cx="176760" cy="256680"/>
            </a:xfrm>
            <a:custGeom>
              <a:avLst/>
              <a:gdLst/>
              <a:ahLst/>
              <a:rect l="l" t="t" r="r" b="b"/>
              <a:pathLst>
                <a:path w="646" h="655">
                  <a:moveTo>
                    <a:pt x="26" y="655"/>
                  </a:moveTo>
                  <a:lnTo>
                    <a:pt x="151" y="162"/>
                  </a:lnTo>
                  <a:lnTo>
                    <a:pt x="0" y="162"/>
                  </a:lnTo>
                  <a:lnTo>
                    <a:pt x="40" y="0"/>
                  </a:lnTo>
                  <a:lnTo>
                    <a:pt x="646" y="0"/>
                  </a:lnTo>
                  <a:lnTo>
                    <a:pt x="607" y="162"/>
                  </a:lnTo>
                  <a:lnTo>
                    <a:pt x="441" y="162"/>
                  </a:lnTo>
                  <a:lnTo>
                    <a:pt x="314" y="655"/>
                  </a:lnTo>
                  <a:lnTo>
                    <a:pt x="26" y="655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78320" y="609840"/>
              <a:ext cx="226080" cy="266040"/>
            </a:xfrm>
            <a:custGeom>
              <a:avLst/>
              <a:gdLst/>
              <a:ahLst/>
              <a:rect l="l" t="t" r="r" b="b"/>
              <a:pathLst>
                <a:path w="823" h="681">
                  <a:moveTo>
                    <a:pt x="0" y="395"/>
                  </a:moveTo>
                  <a:lnTo>
                    <a:pt x="0" y="381"/>
                  </a:lnTo>
                  <a:lnTo>
                    <a:pt x="2" y="369"/>
                  </a:lnTo>
                  <a:lnTo>
                    <a:pt x="4" y="356"/>
                  </a:lnTo>
                  <a:lnTo>
                    <a:pt x="7" y="343"/>
                  </a:lnTo>
                  <a:lnTo>
                    <a:pt x="10" y="330"/>
                  </a:lnTo>
                  <a:lnTo>
                    <a:pt x="14" y="318"/>
                  </a:lnTo>
                  <a:lnTo>
                    <a:pt x="20" y="305"/>
                  </a:lnTo>
                  <a:lnTo>
                    <a:pt x="25" y="292"/>
                  </a:lnTo>
                  <a:lnTo>
                    <a:pt x="30" y="280"/>
                  </a:lnTo>
                  <a:lnTo>
                    <a:pt x="36" y="268"/>
                  </a:lnTo>
                  <a:lnTo>
                    <a:pt x="43" y="256"/>
                  </a:lnTo>
                  <a:lnTo>
                    <a:pt x="50" y="244"/>
                  </a:lnTo>
                  <a:lnTo>
                    <a:pt x="56" y="232"/>
                  </a:lnTo>
                  <a:lnTo>
                    <a:pt x="63" y="221"/>
                  </a:lnTo>
                  <a:lnTo>
                    <a:pt x="72" y="210"/>
                  </a:lnTo>
                  <a:lnTo>
                    <a:pt x="79" y="199"/>
                  </a:lnTo>
                  <a:lnTo>
                    <a:pt x="87" y="186"/>
                  </a:lnTo>
                  <a:lnTo>
                    <a:pt x="95" y="175"/>
                  </a:lnTo>
                  <a:lnTo>
                    <a:pt x="104" y="164"/>
                  </a:lnTo>
                  <a:lnTo>
                    <a:pt x="115" y="153"/>
                  </a:lnTo>
                  <a:lnTo>
                    <a:pt x="124" y="141"/>
                  </a:lnTo>
                  <a:lnTo>
                    <a:pt x="134" y="131"/>
                  </a:lnTo>
                  <a:lnTo>
                    <a:pt x="145" y="121"/>
                  </a:lnTo>
                  <a:lnTo>
                    <a:pt x="156" y="111"/>
                  </a:lnTo>
                  <a:lnTo>
                    <a:pt x="168" y="102"/>
                  </a:lnTo>
                  <a:lnTo>
                    <a:pt x="179" y="92"/>
                  </a:lnTo>
                  <a:lnTo>
                    <a:pt x="191" y="83"/>
                  </a:lnTo>
                  <a:lnTo>
                    <a:pt x="203" y="75"/>
                  </a:lnTo>
                  <a:lnTo>
                    <a:pt x="216" y="68"/>
                  </a:lnTo>
                  <a:lnTo>
                    <a:pt x="228" y="61"/>
                  </a:lnTo>
                  <a:lnTo>
                    <a:pt x="240" y="55"/>
                  </a:lnTo>
                  <a:lnTo>
                    <a:pt x="253" y="48"/>
                  </a:lnTo>
                  <a:lnTo>
                    <a:pt x="268" y="42"/>
                  </a:lnTo>
                  <a:lnTo>
                    <a:pt x="283" y="36"/>
                  </a:lnTo>
                  <a:lnTo>
                    <a:pt x="298" y="31"/>
                  </a:lnTo>
                  <a:lnTo>
                    <a:pt x="314" y="26"/>
                  </a:lnTo>
                  <a:lnTo>
                    <a:pt x="330" y="22"/>
                  </a:lnTo>
                  <a:lnTo>
                    <a:pt x="346" y="18"/>
                  </a:lnTo>
                  <a:lnTo>
                    <a:pt x="363" y="14"/>
                  </a:lnTo>
                  <a:lnTo>
                    <a:pt x="379" y="11"/>
                  </a:lnTo>
                  <a:lnTo>
                    <a:pt x="395" y="8"/>
                  </a:lnTo>
                  <a:lnTo>
                    <a:pt x="412" y="6"/>
                  </a:lnTo>
                  <a:lnTo>
                    <a:pt x="428" y="4"/>
                  </a:lnTo>
                  <a:lnTo>
                    <a:pt x="444" y="2"/>
                  </a:lnTo>
                  <a:lnTo>
                    <a:pt x="461" y="1"/>
                  </a:lnTo>
                  <a:lnTo>
                    <a:pt x="477" y="0"/>
                  </a:lnTo>
                  <a:lnTo>
                    <a:pt x="493" y="0"/>
                  </a:lnTo>
                  <a:lnTo>
                    <a:pt x="510" y="0"/>
                  </a:lnTo>
                  <a:lnTo>
                    <a:pt x="522" y="0"/>
                  </a:lnTo>
                  <a:lnTo>
                    <a:pt x="535" y="1"/>
                  </a:lnTo>
                  <a:lnTo>
                    <a:pt x="548" y="1"/>
                  </a:lnTo>
                  <a:lnTo>
                    <a:pt x="561" y="2"/>
                  </a:lnTo>
                  <a:lnTo>
                    <a:pt x="574" y="4"/>
                  </a:lnTo>
                  <a:lnTo>
                    <a:pt x="586" y="5"/>
                  </a:lnTo>
                  <a:lnTo>
                    <a:pt x="598" y="7"/>
                  </a:lnTo>
                  <a:lnTo>
                    <a:pt x="611" y="9"/>
                  </a:lnTo>
                  <a:lnTo>
                    <a:pt x="623" y="12"/>
                  </a:lnTo>
                  <a:lnTo>
                    <a:pt x="634" y="14"/>
                  </a:lnTo>
                  <a:lnTo>
                    <a:pt x="645" y="17"/>
                  </a:lnTo>
                  <a:lnTo>
                    <a:pt x="657" y="20"/>
                  </a:lnTo>
                  <a:lnTo>
                    <a:pt x="667" y="23"/>
                  </a:lnTo>
                  <a:lnTo>
                    <a:pt x="676" y="27"/>
                  </a:lnTo>
                  <a:lnTo>
                    <a:pt x="685" y="30"/>
                  </a:lnTo>
                  <a:lnTo>
                    <a:pt x="693" y="34"/>
                  </a:lnTo>
                  <a:lnTo>
                    <a:pt x="711" y="43"/>
                  </a:lnTo>
                  <a:lnTo>
                    <a:pt x="726" y="55"/>
                  </a:lnTo>
                  <a:lnTo>
                    <a:pt x="741" y="67"/>
                  </a:lnTo>
                  <a:lnTo>
                    <a:pt x="755" y="79"/>
                  </a:lnTo>
                  <a:lnTo>
                    <a:pt x="766" y="92"/>
                  </a:lnTo>
                  <a:lnTo>
                    <a:pt x="776" y="107"/>
                  </a:lnTo>
                  <a:lnTo>
                    <a:pt x="786" y="122"/>
                  </a:lnTo>
                  <a:lnTo>
                    <a:pt x="794" y="136"/>
                  </a:lnTo>
                  <a:lnTo>
                    <a:pt x="802" y="153"/>
                  </a:lnTo>
                  <a:lnTo>
                    <a:pt x="808" y="168"/>
                  </a:lnTo>
                  <a:lnTo>
                    <a:pt x="812" y="183"/>
                  </a:lnTo>
                  <a:lnTo>
                    <a:pt x="816" y="199"/>
                  </a:lnTo>
                  <a:lnTo>
                    <a:pt x="819" y="214"/>
                  </a:lnTo>
                  <a:lnTo>
                    <a:pt x="821" y="229"/>
                  </a:lnTo>
                  <a:lnTo>
                    <a:pt x="823" y="243"/>
                  </a:lnTo>
                  <a:lnTo>
                    <a:pt x="823" y="258"/>
                  </a:lnTo>
                  <a:lnTo>
                    <a:pt x="823" y="270"/>
                  </a:lnTo>
                  <a:lnTo>
                    <a:pt x="822" y="282"/>
                  </a:lnTo>
                  <a:lnTo>
                    <a:pt x="821" y="294"/>
                  </a:lnTo>
                  <a:lnTo>
                    <a:pt x="819" y="307"/>
                  </a:lnTo>
                  <a:lnTo>
                    <a:pt x="817" y="319"/>
                  </a:lnTo>
                  <a:lnTo>
                    <a:pt x="815" y="331"/>
                  </a:lnTo>
                  <a:lnTo>
                    <a:pt x="812" y="343"/>
                  </a:lnTo>
                  <a:lnTo>
                    <a:pt x="808" y="356"/>
                  </a:lnTo>
                  <a:lnTo>
                    <a:pt x="805" y="368"/>
                  </a:lnTo>
                  <a:lnTo>
                    <a:pt x="801" y="380"/>
                  </a:lnTo>
                  <a:lnTo>
                    <a:pt x="795" y="392"/>
                  </a:lnTo>
                  <a:lnTo>
                    <a:pt x="790" y="405"/>
                  </a:lnTo>
                  <a:lnTo>
                    <a:pt x="785" y="417"/>
                  </a:lnTo>
                  <a:lnTo>
                    <a:pt x="780" y="428"/>
                  </a:lnTo>
                  <a:lnTo>
                    <a:pt x="774" y="440"/>
                  </a:lnTo>
                  <a:lnTo>
                    <a:pt x="768" y="452"/>
                  </a:lnTo>
                  <a:lnTo>
                    <a:pt x="760" y="464"/>
                  </a:lnTo>
                  <a:lnTo>
                    <a:pt x="753" y="476"/>
                  </a:lnTo>
                  <a:lnTo>
                    <a:pt x="743" y="488"/>
                  </a:lnTo>
                  <a:lnTo>
                    <a:pt x="735" y="500"/>
                  </a:lnTo>
                  <a:lnTo>
                    <a:pt x="726" y="512"/>
                  </a:lnTo>
                  <a:lnTo>
                    <a:pt x="716" y="523"/>
                  </a:lnTo>
                  <a:lnTo>
                    <a:pt x="706" y="534"/>
                  </a:lnTo>
                  <a:lnTo>
                    <a:pt x="695" y="545"/>
                  </a:lnTo>
                  <a:lnTo>
                    <a:pt x="685" y="555"/>
                  </a:lnTo>
                  <a:lnTo>
                    <a:pt x="674" y="565"/>
                  </a:lnTo>
                  <a:lnTo>
                    <a:pt x="663" y="574"/>
                  </a:lnTo>
                  <a:lnTo>
                    <a:pt x="650" y="583"/>
                  </a:lnTo>
                  <a:lnTo>
                    <a:pt x="638" y="593"/>
                  </a:lnTo>
                  <a:lnTo>
                    <a:pt x="626" y="601"/>
                  </a:lnTo>
                  <a:lnTo>
                    <a:pt x="614" y="609"/>
                  </a:lnTo>
                  <a:lnTo>
                    <a:pt x="600" y="616"/>
                  </a:lnTo>
                  <a:lnTo>
                    <a:pt x="586" y="623"/>
                  </a:lnTo>
                  <a:lnTo>
                    <a:pt x="571" y="629"/>
                  </a:lnTo>
                  <a:lnTo>
                    <a:pt x="556" y="636"/>
                  </a:lnTo>
                  <a:lnTo>
                    <a:pt x="540" y="643"/>
                  </a:lnTo>
                  <a:lnTo>
                    <a:pt x="524" y="648"/>
                  </a:lnTo>
                  <a:lnTo>
                    <a:pt x="507" y="654"/>
                  </a:lnTo>
                  <a:lnTo>
                    <a:pt x="489" y="658"/>
                  </a:lnTo>
                  <a:lnTo>
                    <a:pt x="472" y="663"/>
                  </a:lnTo>
                  <a:lnTo>
                    <a:pt x="453" y="667"/>
                  </a:lnTo>
                  <a:lnTo>
                    <a:pt x="435" y="671"/>
                  </a:lnTo>
                  <a:lnTo>
                    <a:pt x="417" y="674"/>
                  </a:lnTo>
                  <a:lnTo>
                    <a:pt x="398" y="676"/>
                  </a:lnTo>
                  <a:lnTo>
                    <a:pt x="380" y="678"/>
                  </a:lnTo>
                  <a:lnTo>
                    <a:pt x="361" y="680"/>
                  </a:lnTo>
                  <a:lnTo>
                    <a:pt x="342" y="681"/>
                  </a:lnTo>
                  <a:lnTo>
                    <a:pt x="323" y="681"/>
                  </a:lnTo>
                  <a:lnTo>
                    <a:pt x="301" y="681"/>
                  </a:lnTo>
                  <a:lnTo>
                    <a:pt x="282" y="680"/>
                  </a:lnTo>
                  <a:lnTo>
                    <a:pt x="262" y="678"/>
                  </a:lnTo>
                  <a:lnTo>
                    <a:pt x="243" y="675"/>
                  </a:lnTo>
                  <a:lnTo>
                    <a:pt x="224" y="672"/>
                  </a:lnTo>
                  <a:lnTo>
                    <a:pt x="206" y="669"/>
                  </a:lnTo>
                  <a:lnTo>
                    <a:pt x="190" y="664"/>
                  </a:lnTo>
                  <a:lnTo>
                    <a:pt x="174" y="659"/>
                  </a:lnTo>
                  <a:lnTo>
                    <a:pt x="157" y="654"/>
                  </a:lnTo>
                  <a:lnTo>
                    <a:pt x="143" y="648"/>
                  </a:lnTo>
                  <a:lnTo>
                    <a:pt x="130" y="641"/>
                  </a:lnTo>
                  <a:lnTo>
                    <a:pt x="117" y="633"/>
                  </a:lnTo>
                  <a:lnTo>
                    <a:pt x="104" y="626"/>
                  </a:lnTo>
                  <a:lnTo>
                    <a:pt x="93" y="618"/>
                  </a:lnTo>
                  <a:lnTo>
                    <a:pt x="83" y="609"/>
                  </a:lnTo>
                  <a:lnTo>
                    <a:pt x="74" y="600"/>
                  </a:lnTo>
                  <a:lnTo>
                    <a:pt x="63" y="588"/>
                  </a:lnTo>
                  <a:lnTo>
                    <a:pt x="54" y="577"/>
                  </a:lnTo>
                  <a:lnTo>
                    <a:pt x="45" y="566"/>
                  </a:lnTo>
                  <a:lnTo>
                    <a:pt x="38" y="554"/>
                  </a:lnTo>
                  <a:lnTo>
                    <a:pt x="31" y="540"/>
                  </a:lnTo>
                  <a:lnTo>
                    <a:pt x="25" y="528"/>
                  </a:lnTo>
                  <a:lnTo>
                    <a:pt x="20" y="515"/>
                  </a:lnTo>
                  <a:lnTo>
                    <a:pt x="15" y="502"/>
                  </a:lnTo>
                  <a:lnTo>
                    <a:pt x="11" y="488"/>
                  </a:lnTo>
                  <a:lnTo>
                    <a:pt x="8" y="475"/>
                  </a:lnTo>
                  <a:lnTo>
                    <a:pt x="5" y="462"/>
                  </a:lnTo>
                  <a:lnTo>
                    <a:pt x="3" y="449"/>
                  </a:lnTo>
                  <a:lnTo>
                    <a:pt x="2" y="434"/>
                  </a:lnTo>
                  <a:lnTo>
                    <a:pt x="1" y="421"/>
                  </a:lnTo>
                  <a:lnTo>
                    <a:pt x="0" y="408"/>
                  </a:lnTo>
                  <a:lnTo>
                    <a:pt x="0" y="395"/>
                  </a:lnTo>
                  <a:close/>
                  <a:moveTo>
                    <a:pt x="292" y="396"/>
                  </a:moveTo>
                  <a:lnTo>
                    <a:pt x="292" y="410"/>
                  </a:lnTo>
                  <a:lnTo>
                    <a:pt x="293" y="427"/>
                  </a:lnTo>
                  <a:lnTo>
                    <a:pt x="297" y="448"/>
                  </a:lnTo>
                  <a:lnTo>
                    <a:pt x="304" y="467"/>
                  </a:lnTo>
                  <a:lnTo>
                    <a:pt x="315" y="486"/>
                  </a:lnTo>
                  <a:lnTo>
                    <a:pt x="330" y="501"/>
                  </a:lnTo>
                  <a:lnTo>
                    <a:pt x="350" y="510"/>
                  </a:lnTo>
                  <a:lnTo>
                    <a:pt x="376" y="512"/>
                  </a:lnTo>
                  <a:lnTo>
                    <a:pt x="390" y="509"/>
                  </a:lnTo>
                  <a:lnTo>
                    <a:pt x="405" y="505"/>
                  </a:lnTo>
                  <a:lnTo>
                    <a:pt x="420" y="498"/>
                  </a:lnTo>
                  <a:lnTo>
                    <a:pt x="433" y="489"/>
                  </a:lnTo>
                  <a:lnTo>
                    <a:pt x="446" y="479"/>
                  </a:lnTo>
                  <a:lnTo>
                    <a:pt x="459" y="468"/>
                  </a:lnTo>
                  <a:lnTo>
                    <a:pt x="469" y="456"/>
                  </a:lnTo>
                  <a:lnTo>
                    <a:pt x="478" y="442"/>
                  </a:lnTo>
                  <a:lnTo>
                    <a:pt x="488" y="425"/>
                  </a:lnTo>
                  <a:lnTo>
                    <a:pt x="497" y="407"/>
                  </a:lnTo>
                  <a:lnTo>
                    <a:pt x="508" y="388"/>
                  </a:lnTo>
                  <a:lnTo>
                    <a:pt x="516" y="369"/>
                  </a:lnTo>
                  <a:lnTo>
                    <a:pt x="524" y="350"/>
                  </a:lnTo>
                  <a:lnTo>
                    <a:pt x="529" y="329"/>
                  </a:lnTo>
                  <a:lnTo>
                    <a:pt x="534" y="309"/>
                  </a:lnTo>
                  <a:lnTo>
                    <a:pt x="536" y="287"/>
                  </a:lnTo>
                  <a:lnTo>
                    <a:pt x="537" y="271"/>
                  </a:lnTo>
                  <a:lnTo>
                    <a:pt x="536" y="252"/>
                  </a:lnTo>
                  <a:lnTo>
                    <a:pt x="534" y="231"/>
                  </a:lnTo>
                  <a:lnTo>
                    <a:pt x="529" y="210"/>
                  </a:lnTo>
                  <a:lnTo>
                    <a:pt x="519" y="190"/>
                  </a:lnTo>
                  <a:lnTo>
                    <a:pt x="504" y="175"/>
                  </a:lnTo>
                  <a:lnTo>
                    <a:pt x="483" y="165"/>
                  </a:lnTo>
                  <a:lnTo>
                    <a:pt x="453" y="161"/>
                  </a:lnTo>
                  <a:lnTo>
                    <a:pt x="436" y="162"/>
                  </a:lnTo>
                  <a:lnTo>
                    <a:pt x="420" y="166"/>
                  </a:lnTo>
                  <a:lnTo>
                    <a:pt x="404" y="172"/>
                  </a:lnTo>
                  <a:lnTo>
                    <a:pt x="390" y="181"/>
                  </a:lnTo>
                  <a:lnTo>
                    <a:pt x="376" y="192"/>
                  </a:lnTo>
                  <a:lnTo>
                    <a:pt x="364" y="205"/>
                  </a:lnTo>
                  <a:lnTo>
                    <a:pt x="352" y="220"/>
                  </a:lnTo>
                  <a:lnTo>
                    <a:pt x="342" y="237"/>
                  </a:lnTo>
                  <a:lnTo>
                    <a:pt x="333" y="256"/>
                  </a:lnTo>
                  <a:lnTo>
                    <a:pt x="325" y="275"/>
                  </a:lnTo>
                  <a:lnTo>
                    <a:pt x="316" y="294"/>
                  </a:lnTo>
                  <a:lnTo>
                    <a:pt x="308" y="315"/>
                  </a:lnTo>
                  <a:lnTo>
                    <a:pt x="301" y="334"/>
                  </a:lnTo>
                  <a:lnTo>
                    <a:pt x="296" y="355"/>
                  </a:lnTo>
                  <a:lnTo>
                    <a:pt x="293" y="375"/>
                  </a:lnTo>
                  <a:lnTo>
                    <a:pt x="292" y="396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755840" y="611640"/>
              <a:ext cx="222480" cy="258480"/>
            </a:xfrm>
            <a:custGeom>
              <a:avLst/>
              <a:gdLst/>
              <a:ahLst/>
              <a:rect l="l" t="t" r="r" b="b"/>
              <a:pathLst>
                <a:path w="814" h="656">
                  <a:moveTo>
                    <a:pt x="0" y="656"/>
                  </a:moveTo>
                  <a:lnTo>
                    <a:pt x="163" y="0"/>
                  </a:lnTo>
                  <a:lnTo>
                    <a:pt x="444" y="0"/>
                  </a:lnTo>
                  <a:lnTo>
                    <a:pt x="466" y="0"/>
                  </a:lnTo>
                  <a:lnTo>
                    <a:pt x="489" y="1"/>
                  </a:lnTo>
                  <a:lnTo>
                    <a:pt x="512" y="2"/>
                  </a:lnTo>
                  <a:lnTo>
                    <a:pt x="534" y="3"/>
                  </a:lnTo>
                  <a:lnTo>
                    <a:pt x="558" y="5"/>
                  </a:lnTo>
                  <a:lnTo>
                    <a:pt x="581" y="8"/>
                  </a:lnTo>
                  <a:lnTo>
                    <a:pt x="605" y="11"/>
                  </a:lnTo>
                  <a:lnTo>
                    <a:pt x="627" y="15"/>
                  </a:lnTo>
                  <a:lnTo>
                    <a:pt x="649" y="20"/>
                  </a:lnTo>
                  <a:lnTo>
                    <a:pt x="670" y="25"/>
                  </a:lnTo>
                  <a:lnTo>
                    <a:pt x="691" y="31"/>
                  </a:lnTo>
                  <a:lnTo>
                    <a:pt x="709" y="38"/>
                  </a:lnTo>
                  <a:lnTo>
                    <a:pt x="727" y="47"/>
                  </a:lnTo>
                  <a:lnTo>
                    <a:pt x="744" y="57"/>
                  </a:lnTo>
                  <a:lnTo>
                    <a:pt x="758" y="67"/>
                  </a:lnTo>
                  <a:lnTo>
                    <a:pt x="771" y="78"/>
                  </a:lnTo>
                  <a:lnTo>
                    <a:pt x="779" y="87"/>
                  </a:lnTo>
                  <a:lnTo>
                    <a:pt x="787" y="97"/>
                  </a:lnTo>
                  <a:lnTo>
                    <a:pt x="793" y="107"/>
                  </a:lnTo>
                  <a:lnTo>
                    <a:pt x="799" y="118"/>
                  </a:lnTo>
                  <a:lnTo>
                    <a:pt x="803" y="128"/>
                  </a:lnTo>
                  <a:lnTo>
                    <a:pt x="807" y="140"/>
                  </a:lnTo>
                  <a:lnTo>
                    <a:pt x="810" y="152"/>
                  </a:lnTo>
                  <a:lnTo>
                    <a:pt x="812" y="163"/>
                  </a:lnTo>
                  <a:lnTo>
                    <a:pt x="813" y="175"/>
                  </a:lnTo>
                  <a:lnTo>
                    <a:pt x="814" y="186"/>
                  </a:lnTo>
                  <a:lnTo>
                    <a:pt x="814" y="199"/>
                  </a:lnTo>
                  <a:lnTo>
                    <a:pt x="813" y="210"/>
                  </a:lnTo>
                  <a:lnTo>
                    <a:pt x="812" y="221"/>
                  </a:lnTo>
                  <a:lnTo>
                    <a:pt x="810" y="232"/>
                  </a:lnTo>
                  <a:lnTo>
                    <a:pt x="807" y="243"/>
                  </a:lnTo>
                  <a:lnTo>
                    <a:pt x="804" y="253"/>
                  </a:lnTo>
                  <a:lnTo>
                    <a:pt x="795" y="276"/>
                  </a:lnTo>
                  <a:lnTo>
                    <a:pt x="783" y="298"/>
                  </a:lnTo>
                  <a:lnTo>
                    <a:pt x="768" y="318"/>
                  </a:lnTo>
                  <a:lnTo>
                    <a:pt x="751" y="337"/>
                  </a:lnTo>
                  <a:lnTo>
                    <a:pt x="730" y="354"/>
                  </a:lnTo>
                  <a:lnTo>
                    <a:pt x="707" y="370"/>
                  </a:lnTo>
                  <a:lnTo>
                    <a:pt x="681" y="384"/>
                  </a:lnTo>
                  <a:lnTo>
                    <a:pt x="654" y="397"/>
                  </a:lnTo>
                  <a:lnTo>
                    <a:pt x="623" y="408"/>
                  </a:lnTo>
                  <a:lnTo>
                    <a:pt x="590" y="418"/>
                  </a:lnTo>
                  <a:lnTo>
                    <a:pt x="555" y="426"/>
                  </a:lnTo>
                  <a:lnTo>
                    <a:pt x="516" y="432"/>
                  </a:lnTo>
                  <a:lnTo>
                    <a:pt x="476" y="438"/>
                  </a:lnTo>
                  <a:lnTo>
                    <a:pt x="434" y="442"/>
                  </a:lnTo>
                  <a:lnTo>
                    <a:pt x="390" y="443"/>
                  </a:lnTo>
                  <a:lnTo>
                    <a:pt x="343" y="443"/>
                  </a:lnTo>
                  <a:lnTo>
                    <a:pt x="285" y="656"/>
                  </a:lnTo>
                  <a:lnTo>
                    <a:pt x="0" y="656"/>
                  </a:lnTo>
                  <a:close/>
                  <a:moveTo>
                    <a:pt x="375" y="284"/>
                  </a:moveTo>
                  <a:lnTo>
                    <a:pt x="393" y="285"/>
                  </a:lnTo>
                  <a:lnTo>
                    <a:pt x="409" y="285"/>
                  </a:lnTo>
                  <a:lnTo>
                    <a:pt x="424" y="284"/>
                  </a:lnTo>
                  <a:lnTo>
                    <a:pt x="440" y="282"/>
                  </a:lnTo>
                  <a:lnTo>
                    <a:pt x="455" y="280"/>
                  </a:lnTo>
                  <a:lnTo>
                    <a:pt x="469" y="276"/>
                  </a:lnTo>
                  <a:lnTo>
                    <a:pt x="481" y="271"/>
                  </a:lnTo>
                  <a:lnTo>
                    <a:pt x="494" y="265"/>
                  </a:lnTo>
                  <a:lnTo>
                    <a:pt x="505" y="259"/>
                  </a:lnTo>
                  <a:lnTo>
                    <a:pt x="515" y="252"/>
                  </a:lnTo>
                  <a:lnTo>
                    <a:pt x="523" y="244"/>
                  </a:lnTo>
                  <a:lnTo>
                    <a:pt x="531" y="235"/>
                  </a:lnTo>
                  <a:lnTo>
                    <a:pt x="537" y="226"/>
                  </a:lnTo>
                  <a:lnTo>
                    <a:pt x="542" y="216"/>
                  </a:lnTo>
                  <a:lnTo>
                    <a:pt x="544" y="206"/>
                  </a:lnTo>
                  <a:lnTo>
                    <a:pt x="545" y="196"/>
                  </a:lnTo>
                  <a:lnTo>
                    <a:pt x="543" y="175"/>
                  </a:lnTo>
                  <a:lnTo>
                    <a:pt x="538" y="158"/>
                  </a:lnTo>
                  <a:lnTo>
                    <a:pt x="529" y="144"/>
                  </a:lnTo>
                  <a:lnTo>
                    <a:pt x="517" y="131"/>
                  </a:lnTo>
                  <a:lnTo>
                    <a:pt x="500" y="122"/>
                  </a:lnTo>
                  <a:lnTo>
                    <a:pt x="478" y="116"/>
                  </a:lnTo>
                  <a:lnTo>
                    <a:pt x="453" y="112"/>
                  </a:lnTo>
                  <a:lnTo>
                    <a:pt x="422" y="111"/>
                  </a:lnTo>
                  <a:lnTo>
                    <a:pt x="375" y="28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933760" y="613440"/>
              <a:ext cx="187920" cy="266400"/>
            </a:xfrm>
            <a:custGeom>
              <a:avLst/>
              <a:gdLst/>
              <a:ahLst/>
              <a:rect l="l" t="t" r="r" b="b"/>
              <a:pathLst>
                <a:path w="685" h="682">
                  <a:moveTo>
                    <a:pt x="50" y="444"/>
                  </a:moveTo>
                  <a:lnTo>
                    <a:pt x="67" y="462"/>
                  </a:lnTo>
                  <a:lnTo>
                    <a:pt x="85" y="477"/>
                  </a:lnTo>
                  <a:lnTo>
                    <a:pt x="104" y="491"/>
                  </a:lnTo>
                  <a:lnTo>
                    <a:pt x="125" y="501"/>
                  </a:lnTo>
                  <a:lnTo>
                    <a:pt x="146" y="509"/>
                  </a:lnTo>
                  <a:lnTo>
                    <a:pt x="168" y="515"/>
                  </a:lnTo>
                  <a:lnTo>
                    <a:pt x="190" y="519"/>
                  </a:lnTo>
                  <a:lnTo>
                    <a:pt x="212" y="520"/>
                  </a:lnTo>
                  <a:lnTo>
                    <a:pt x="232" y="519"/>
                  </a:lnTo>
                  <a:lnTo>
                    <a:pt x="250" y="517"/>
                  </a:lnTo>
                  <a:lnTo>
                    <a:pt x="267" y="513"/>
                  </a:lnTo>
                  <a:lnTo>
                    <a:pt x="280" y="508"/>
                  </a:lnTo>
                  <a:lnTo>
                    <a:pt x="291" y="502"/>
                  </a:lnTo>
                  <a:lnTo>
                    <a:pt x="300" y="494"/>
                  </a:lnTo>
                  <a:lnTo>
                    <a:pt x="308" y="485"/>
                  </a:lnTo>
                  <a:lnTo>
                    <a:pt x="313" y="474"/>
                  </a:lnTo>
                  <a:lnTo>
                    <a:pt x="313" y="469"/>
                  </a:lnTo>
                  <a:lnTo>
                    <a:pt x="311" y="463"/>
                  </a:lnTo>
                  <a:lnTo>
                    <a:pt x="307" y="456"/>
                  </a:lnTo>
                  <a:lnTo>
                    <a:pt x="299" y="448"/>
                  </a:lnTo>
                  <a:lnTo>
                    <a:pt x="289" y="439"/>
                  </a:lnTo>
                  <a:lnTo>
                    <a:pt x="277" y="428"/>
                  </a:lnTo>
                  <a:lnTo>
                    <a:pt x="263" y="418"/>
                  </a:lnTo>
                  <a:lnTo>
                    <a:pt x="245" y="407"/>
                  </a:lnTo>
                  <a:lnTo>
                    <a:pt x="229" y="397"/>
                  </a:lnTo>
                  <a:lnTo>
                    <a:pt x="213" y="387"/>
                  </a:lnTo>
                  <a:lnTo>
                    <a:pt x="197" y="377"/>
                  </a:lnTo>
                  <a:lnTo>
                    <a:pt x="183" y="368"/>
                  </a:lnTo>
                  <a:lnTo>
                    <a:pt x="170" y="360"/>
                  </a:lnTo>
                  <a:lnTo>
                    <a:pt x="158" y="352"/>
                  </a:lnTo>
                  <a:lnTo>
                    <a:pt x="146" y="344"/>
                  </a:lnTo>
                  <a:lnTo>
                    <a:pt x="136" y="335"/>
                  </a:lnTo>
                  <a:lnTo>
                    <a:pt x="127" y="325"/>
                  </a:lnTo>
                  <a:lnTo>
                    <a:pt x="120" y="316"/>
                  </a:lnTo>
                  <a:lnTo>
                    <a:pt x="113" y="306"/>
                  </a:lnTo>
                  <a:lnTo>
                    <a:pt x="108" y="295"/>
                  </a:lnTo>
                  <a:lnTo>
                    <a:pt x="104" y="282"/>
                  </a:lnTo>
                  <a:lnTo>
                    <a:pt x="101" y="269"/>
                  </a:lnTo>
                  <a:lnTo>
                    <a:pt x="100" y="255"/>
                  </a:lnTo>
                  <a:lnTo>
                    <a:pt x="101" y="239"/>
                  </a:lnTo>
                  <a:lnTo>
                    <a:pt x="102" y="225"/>
                  </a:lnTo>
                  <a:lnTo>
                    <a:pt x="105" y="212"/>
                  </a:lnTo>
                  <a:lnTo>
                    <a:pt x="109" y="200"/>
                  </a:lnTo>
                  <a:lnTo>
                    <a:pt x="114" y="188"/>
                  </a:lnTo>
                  <a:lnTo>
                    <a:pt x="120" y="175"/>
                  </a:lnTo>
                  <a:lnTo>
                    <a:pt x="126" y="163"/>
                  </a:lnTo>
                  <a:lnTo>
                    <a:pt x="134" y="152"/>
                  </a:lnTo>
                  <a:lnTo>
                    <a:pt x="142" y="142"/>
                  </a:lnTo>
                  <a:lnTo>
                    <a:pt x="150" y="130"/>
                  </a:lnTo>
                  <a:lnTo>
                    <a:pt x="161" y="120"/>
                  </a:lnTo>
                  <a:lnTo>
                    <a:pt x="171" y="111"/>
                  </a:lnTo>
                  <a:lnTo>
                    <a:pt x="182" y="102"/>
                  </a:lnTo>
                  <a:lnTo>
                    <a:pt x="193" y="93"/>
                  </a:lnTo>
                  <a:lnTo>
                    <a:pt x="204" y="83"/>
                  </a:lnTo>
                  <a:lnTo>
                    <a:pt x="217" y="75"/>
                  </a:lnTo>
                  <a:lnTo>
                    <a:pt x="229" y="67"/>
                  </a:lnTo>
                  <a:lnTo>
                    <a:pt x="243" y="59"/>
                  </a:lnTo>
                  <a:lnTo>
                    <a:pt x="258" y="52"/>
                  </a:lnTo>
                  <a:lnTo>
                    <a:pt x="272" y="45"/>
                  </a:lnTo>
                  <a:lnTo>
                    <a:pt x="287" y="37"/>
                  </a:lnTo>
                  <a:lnTo>
                    <a:pt x="302" y="31"/>
                  </a:lnTo>
                  <a:lnTo>
                    <a:pt x="318" y="26"/>
                  </a:lnTo>
                  <a:lnTo>
                    <a:pt x="333" y="21"/>
                  </a:lnTo>
                  <a:lnTo>
                    <a:pt x="349" y="16"/>
                  </a:lnTo>
                  <a:lnTo>
                    <a:pt x="366" y="13"/>
                  </a:lnTo>
                  <a:lnTo>
                    <a:pt x="382" y="9"/>
                  </a:lnTo>
                  <a:lnTo>
                    <a:pt x="399" y="6"/>
                  </a:lnTo>
                  <a:lnTo>
                    <a:pt x="417" y="4"/>
                  </a:lnTo>
                  <a:lnTo>
                    <a:pt x="434" y="2"/>
                  </a:lnTo>
                  <a:lnTo>
                    <a:pt x="453" y="1"/>
                  </a:lnTo>
                  <a:lnTo>
                    <a:pt x="471" y="0"/>
                  </a:lnTo>
                  <a:lnTo>
                    <a:pt x="489" y="0"/>
                  </a:lnTo>
                  <a:lnTo>
                    <a:pt x="501" y="0"/>
                  </a:lnTo>
                  <a:lnTo>
                    <a:pt x="513" y="1"/>
                  </a:lnTo>
                  <a:lnTo>
                    <a:pt x="524" y="1"/>
                  </a:lnTo>
                  <a:lnTo>
                    <a:pt x="536" y="2"/>
                  </a:lnTo>
                  <a:lnTo>
                    <a:pt x="549" y="3"/>
                  </a:lnTo>
                  <a:lnTo>
                    <a:pt x="561" y="4"/>
                  </a:lnTo>
                  <a:lnTo>
                    <a:pt x="573" y="6"/>
                  </a:lnTo>
                  <a:lnTo>
                    <a:pt x="585" y="8"/>
                  </a:lnTo>
                  <a:lnTo>
                    <a:pt x="598" y="10"/>
                  </a:lnTo>
                  <a:lnTo>
                    <a:pt x="611" y="12"/>
                  </a:lnTo>
                  <a:lnTo>
                    <a:pt x="623" y="15"/>
                  </a:lnTo>
                  <a:lnTo>
                    <a:pt x="635" y="17"/>
                  </a:lnTo>
                  <a:lnTo>
                    <a:pt x="648" y="20"/>
                  </a:lnTo>
                  <a:lnTo>
                    <a:pt x="661" y="23"/>
                  </a:lnTo>
                  <a:lnTo>
                    <a:pt x="673" y="27"/>
                  </a:lnTo>
                  <a:lnTo>
                    <a:pt x="685" y="30"/>
                  </a:lnTo>
                  <a:lnTo>
                    <a:pt x="636" y="228"/>
                  </a:lnTo>
                  <a:lnTo>
                    <a:pt x="620" y="212"/>
                  </a:lnTo>
                  <a:lnTo>
                    <a:pt x="602" y="198"/>
                  </a:lnTo>
                  <a:lnTo>
                    <a:pt x="583" y="184"/>
                  </a:lnTo>
                  <a:lnTo>
                    <a:pt x="565" y="174"/>
                  </a:lnTo>
                  <a:lnTo>
                    <a:pt x="544" y="166"/>
                  </a:lnTo>
                  <a:lnTo>
                    <a:pt x="525" y="160"/>
                  </a:lnTo>
                  <a:lnTo>
                    <a:pt x="504" y="156"/>
                  </a:lnTo>
                  <a:lnTo>
                    <a:pt x="482" y="155"/>
                  </a:lnTo>
                  <a:lnTo>
                    <a:pt x="456" y="157"/>
                  </a:lnTo>
                  <a:lnTo>
                    <a:pt x="433" y="163"/>
                  </a:lnTo>
                  <a:lnTo>
                    <a:pt x="416" y="172"/>
                  </a:lnTo>
                  <a:lnTo>
                    <a:pt x="404" y="184"/>
                  </a:lnTo>
                  <a:lnTo>
                    <a:pt x="397" y="198"/>
                  </a:lnTo>
                  <a:lnTo>
                    <a:pt x="397" y="211"/>
                  </a:lnTo>
                  <a:lnTo>
                    <a:pt x="406" y="225"/>
                  </a:lnTo>
                  <a:lnTo>
                    <a:pt x="422" y="239"/>
                  </a:lnTo>
                  <a:lnTo>
                    <a:pt x="441" y="250"/>
                  </a:lnTo>
                  <a:lnTo>
                    <a:pt x="461" y="261"/>
                  </a:lnTo>
                  <a:lnTo>
                    <a:pt x="482" y="273"/>
                  </a:lnTo>
                  <a:lnTo>
                    <a:pt x="504" y="286"/>
                  </a:lnTo>
                  <a:lnTo>
                    <a:pt x="524" y="299"/>
                  </a:lnTo>
                  <a:lnTo>
                    <a:pt x="542" y="311"/>
                  </a:lnTo>
                  <a:lnTo>
                    <a:pt x="560" y="325"/>
                  </a:lnTo>
                  <a:lnTo>
                    <a:pt x="574" y="339"/>
                  </a:lnTo>
                  <a:lnTo>
                    <a:pt x="581" y="347"/>
                  </a:lnTo>
                  <a:lnTo>
                    <a:pt x="588" y="355"/>
                  </a:lnTo>
                  <a:lnTo>
                    <a:pt x="594" y="363"/>
                  </a:lnTo>
                  <a:lnTo>
                    <a:pt x="600" y="372"/>
                  </a:lnTo>
                  <a:lnTo>
                    <a:pt x="604" y="383"/>
                  </a:lnTo>
                  <a:lnTo>
                    <a:pt x="607" y="393"/>
                  </a:lnTo>
                  <a:lnTo>
                    <a:pt x="609" y="404"/>
                  </a:lnTo>
                  <a:lnTo>
                    <a:pt x="610" y="416"/>
                  </a:lnTo>
                  <a:lnTo>
                    <a:pt x="609" y="434"/>
                  </a:lnTo>
                  <a:lnTo>
                    <a:pt x="606" y="452"/>
                  </a:lnTo>
                  <a:lnTo>
                    <a:pt x="602" y="469"/>
                  </a:lnTo>
                  <a:lnTo>
                    <a:pt x="594" y="486"/>
                  </a:lnTo>
                  <a:lnTo>
                    <a:pt x="586" y="503"/>
                  </a:lnTo>
                  <a:lnTo>
                    <a:pt x="576" y="519"/>
                  </a:lnTo>
                  <a:lnTo>
                    <a:pt x="564" y="535"/>
                  </a:lnTo>
                  <a:lnTo>
                    <a:pt x="551" y="550"/>
                  </a:lnTo>
                  <a:lnTo>
                    <a:pt x="536" y="563"/>
                  </a:lnTo>
                  <a:lnTo>
                    <a:pt x="521" y="576"/>
                  </a:lnTo>
                  <a:lnTo>
                    <a:pt x="505" y="590"/>
                  </a:lnTo>
                  <a:lnTo>
                    <a:pt x="486" y="602"/>
                  </a:lnTo>
                  <a:lnTo>
                    <a:pt x="466" y="613"/>
                  </a:lnTo>
                  <a:lnTo>
                    <a:pt x="444" y="625"/>
                  </a:lnTo>
                  <a:lnTo>
                    <a:pt x="421" y="636"/>
                  </a:lnTo>
                  <a:lnTo>
                    <a:pt x="396" y="646"/>
                  </a:lnTo>
                  <a:lnTo>
                    <a:pt x="386" y="650"/>
                  </a:lnTo>
                  <a:lnTo>
                    <a:pt x="375" y="653"/>
                  </a:lnTo>
                  <a:lnTo>
                    <a:pt x="363" y="657"/>
                  </a:lnTo>
                  <a:lnTo>
                    <a:pt x="351" y="660"/>
                  </a:lnTo>
                  <a:lnTo>
                    <a:pt x="339" y="663"/>
                  </a:lnTo>
                  <a:lnTo>
                    <a:pt x="326" y="666"/>
                  </a:lnTo>
                  <a:lnTo>
                    <a:pt x="314" y="669"/>
                  </a:lnTo>
                  <a:lnTo>
                    <a:pt x="300" y="671"/>
                  </a:lnTo>
                  <a:lnTo>
                    <a:pt x="287" y="673"/>
                  </a:lnTo>
                  <a:lnTo>
                    <a:pt x="274" y="675"/>
                  </a:lnTo>
                  <a:lnTo>
                    <a:pt x="261" y="677"/>
                  </a:lnTo>
                  <a:lnTo>
                    <a:pt x="247" y="679"/>
                  </a:lnTo>
                  <a:lnTo>
                    <a:pt x="234" y="680"/>
                  </a:lnTo>
                  <a:lnTo>
                    <a:pt x="221" y="681"/>
                  </a:lnTo>
                  <a:lnTo>
                    <a:pt x="208" y="682"/>
                  </a:lnTo>
                  <a:lnTo>
                    <a:pt x="194" y="682"/>
                  </a:lnTo>
                  <a:lnTo>
                    <a:pt x="182" y="682"/>
                  </a:lnTo>
                  <a:lnTo>
                    <a:pt x="169" y="682"/>
                  </a:lnTo>
                  <a:lnTo>
                    <a:pt x="157" y="681"/>
                  </a:lnTo>
                  <a:lnTo>
                    <a:pt x="143" y="680"/>
                  </a:lnTo>
                  <a:lnTo>
                    <a:pt x="131" y="679"/>
                  </a:lnTo>
                  <a:lnTo>
                    <a:pt x="119" y="677"/>
                  </a:lnTo>
                  <a:lnTo>
                    <a:pt x="106" y="676"/>
                  </a:lnTo>
                  <a:lnTo>
                    <a:pt x="94" y="674"/>
                  </a:lnTo>
                  <a:lnTo>
                    <a:pt x="82" y="672"/>
                  </a:lnTo>
                  <a:lnTo>
                    <a:pt x="70" y="670"/>
                  </a:lnTo>
                  <a:lnTo>
                    <a:pt x="57" y="668"/>
                  </a:lnTo>
                  <a:lnTo>
                    <a:pt x="45" y="666"/>
                  </a:lnTo>
                  <a:lnTo>
                    <a:pt x="34" y="663"/>
                  </a:lnTo>
                  <a:lnTo>
                    <a:pt x="23" y="661"/>
                  </a:lnTo>
                  <a:lnTo>
                    <a:pt x="12" y="658"/>
                  </a:lnTo>
                  <a:lnTo>
                    <a:pt x="0" y="655"/>
                  </a:lnTo>
                  <a:lnTo>
                    <a:pt x="50" y="44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4840" y="613440"/>
              <a:ext cx="230400" cy="266400"/>
            </a:xfrm>
            <a:custGeom>
              <a:avLst/>
              <a:gdLst/>
              <a:ahLst/>
              <a:rect l="l" t="t" r="r" b="b"/>
              <a:pathLst>
                <a:path w="839" h="682">
                  <a:moveTo>
                    <a:pt x="491" y="423"/>
                  </a:moveTo>
                  <a:lnTo>
                    <a:pt x="491" y="423"/>
                  </a:lnTo>
                  <a:lnTo>
                    <a:pt x="390" y="423"/>
                  </a:lnTo>
                  <a:lnTo>
                    <a:pt x="424" y="286"/>
                  </a:lnTo>
                  <a:lnTo>
                    <a:pt x="820" y="286"/>
                  </a:lnTo>
                  <a:lnTo>
                    <a:pt x="819" y="299"/>
                  </a:lnTo>
                  <a:lnTo>
                    <a:pt x="817" y="312"/>
                  </a:lnTo>
                  <a:lnTo>
                    <a:pt x="815" y="325"/>
                  </a:lnTo>
                  <a:lnTo>
                    <a:pt x="812" y="338"/>
                  </a:lnTo>
                  <a:lnTo>
                    <a:pt x="808" y="351"/>
                  </a:lnTo>
                  <a:lnTo>
                    <a:pt x="805" y="363"/>
                  </a:lnTo>
                  <a:lnTo>
                    <a:pt x="801" y="375"/>
                  </a:lnTo>
                  <a:lnTo>
                    <a:pt x="797" y="388"/>
                  </a:lnTo>
                  <a:lnTo>
                    <a:pt x="793" y="400"/>
                  </a:lnTo>
                  <a:lnTo>
                    <a:pt x="788" y="412"/>
                  </a:lnTo>
                  <a:lnTo>
                    <a:pt x="783" y="423"/>
                  </a:lnTo>
                  <a:lnTo>
                    <a:pt x="777" y="435"/>
                  </a:lnTo>
                  <a:lnTo>
                    <a:pt x="772" y="446"/>
                  </a:lnTo>
                  <a:lnTo>
                    <a:pt x="766" y="457"/>
                  </a:lnTo>
                  <a:lnTo>
                    <a:pt x="759" y="467"/>
                  </a:lnTo>
                  <a:lnTo>
                    <a:pt x="753" y="477"/>
                  </a:lnTo>
                  <a:lnTo>
                    <a:pt x="740" y="499"/>
                  </a:lnTo>
                  <a:lnTo>
                    <a:pt x="725" y="519"/>
                  </a:lnTo>
                  <a:lnTo>
                    <a:pt x="707" y="538"/>
                  </a:lnTo>
                  <a:lnTo>
                    <a:pt x="689" y="556"/>
                  </a:lnTo>
                  <a:lnTo>
                    <a:pt x="670" y="573"/>
                  </a:lnTo>
                  <a:lnTo>
                    <a:pt x="648" y="590"/>
                  </a:lnTo>
                  <a:lnTo>
                    <a:pt x="625" y="605"/>
                  </a:lnTo>
                  <a:lnTo>
                    <a:pt x="600" y="619"/>
                  </a:lnTo>
                  <a:lnTo>
                    <a:pt x="589" y="625"/>
                  </a:lnTo>
                  <a:lnTo>
                    <a:pt x="577" y="632"/>
                  </a:lnTo>
                  <a:lnTo>
                    <a:pt x="564" y="638"/>
                  </a:lnTo>
                  <a:lnTo>
                    <a:pt x="552" y="644"/>
                  </a:lnTo>
                  <a:lnTo>
                    <a:pt x="539" y="649"/>
                  </a:lnTo>
                  <a:lnTo>
                    <a:pt x="525" y="653"/>
                  </a:lnTo>
                  <a:lnTo>
                    <a:pt x="511" y="658"/>
                  </a:lnTo>
                  <a:lnTo>
                    <a:pt x="496" y="662"/>
                  </a:lnTo>
                  <a:lnTo>
                    <a:pt x="482" y="665"/>
                  </a:lnTo>
                  <a:lnTo>
                    <a:pt x="466" y="669"/>
                  </a:lnTo>
                  <a:lnTo>
                    <a:pt x="451" y="672"/>
                  </a:lnTo>
                  <a:lnTo>
                    <a:pt x="436" y="674"/>
                  </a:lnTo>
                  <a:lnTo>
                    <a:pt x="421" y="677"/>
                  </a:lnTo>
                  <a:lnTo>
                    <a:pt x="405" y="679"/>
                  </a:lnTo>
                  <a:lnTo>
                    <a:pt x="389" y="681"/>
                  </a:lnTo>
                  <a:lnTo>
                    <a:pt x="374" y="682"/>
                  </a:lnTo>
                  <a:lnTo>
                    <a:pt x="359" y="682"/>
                  </a:lnTo>
                  <a:lnTo>
                    <a:pt x="345" y="682"/>
                  </a:lnTo>
                  <a:lnTo>
                    <a:pt x="332" y="681"/>
                  </a:lnTo>
                  <a:lnTo>
                    <a:pt x="317" y="681"/>
                  </a:lnTo>
                  <a:lnTo>
                    <a:pt x="304" y="680"/>
                  </a:lnTo>
                  <a:lnTo>
                    <a:pt x="291" y="679"/>
                  </a:lnTo>
                  <a:lnTo>
                    <a:pt x="279" y="677"/>
                  </a:lnTo>
                  <a:lnTo>
                    <a:pt x="265" y="676"/>
                  </a:lnTo>
                  <a:lnTo>
                    <a:pt x="253" y="674"/>
                  </a:lnTo>
                  <a:lnTo>
                    <a:pt x="241" y="672"/>
                  </a:lnTo>
                  <a:lnTo>
                    <a:pt x="229" y="670"/>
                  </a:lnTo>
                  <a:lnTo>
                    <a:pt x="216" y="668"/>
                  </a:lnTo>
                  <a:lnTo>
                    <a:pt x="204" y="665"/>
                  </a:lnTo>
                  <a:lnTo>
                    <a:pt x="193" y="662"/>
                  </a:lnTo>
                  <a:lnTo>
                    <a:pt x="182" y="659"/>
                  </a:lnTo>
                  <a:lnTo>
                    <a:pt x="170" y="655"/>
                  </a:lnTo>
                  <a:lnTo>
                    <a:pt x="148" y="649"/>
                  </a:lnTo>
                  <a:lnTo>
                    <a:pt x="129" y="641"/>
                  </a:lnTo>
                  <a:lnTo>
                    <a:pt x="109" y="633"/>
                  </a:lnTo>
                  <a:lnTo>
                    <a:pt x="93" y="622"/>
                  </a:lnTo>
                  <a:lnTo>
                    <a:pt x="77" y="612"/>
                  </a:lnTo>
                  <a:lnTo>
                    <a:pt x="64" y="601"/>
                  </a:lnTo>
                  <a:lnTo>
                    <a:pt x="53" y="590"/>
                  </a:lnTo>
                  <a:lnTo>
                    <a:pt x="43" y="577"/>
                  </a:lnTo>
                  <a:lnTo>
                    <a:pt x="34" y="563"/>
                  </a:lnTo>
                  <a:lnTo>
                    <a:pt x="25" y="548"/>
                  </a:lnTo>
                  <a:lnTo>
                    <a:pt x="18" y="533"/>
                  </a:lnTo>
                  <a:lnTo>
                    <a:pt x="12" y="516"/>
                  </a:lnTo>
                  <a:lnTo>
                    <a:pt x="7" y="500"/>
                  </a:lnTo>
                  <a:lnTo>
                    <a:pt x="3" y="483"/>
                  </a:lnTo>
                  <a:lnTo>
                    <a:pt x="1" y="465"/>
                  </a:lnTo>
                  <a:lnTo>
                    <a:pt x="0" y="448"/>
                  </a:lnTo>
                  <a:lnTo>
                    <a:pt x="0" y="447"/>
                  </a:lnTo>
                  <a:lnTo>
                    <a:pt x="0" y="446"/>
                  </a:lnTo>
                  <a:lnTo>
                    <a:pt x="0" y="445"/>
                  </a:lnTo>
                  <a:lnTo>
                    <a:pt x="0" y="444"/>
                  </a:lnTo>
                  <a:lnTo>
                    <a:pt x="0" y="426"/>
                  </a:lnTo>
                  <a:lnTo>
                    <a:pt x="1" y="408"/>
                  </a:lnTo>
                  <a:lnTo>
                    <a:pt x="3" y="392"/>
                  </a:lnTo>
                  <a:lnTo>
                    <a:pt x="5" y="374"/>
                  </a:lnTo>
                  <a:lnTo>
                    <a:pt x="7" y="358"/>
                  </a:lnTo>
                  <a:lnTo>
                    <a:pt x="11" y="342"/>
                  </a:lnTo>
                  <a:lnTo>
                    <a:pt x="14" y="325"/>
                  </a:lnTo>
                  <a:lnTo>
                    <a:pt x="19" y="310"/>
                  </a:lnTo>
                  <a:lnTo>
                    <a:pt x="24" y="295"/>
                  </a:lnTo>
                  <a:lnTo>
                    <a:pt x="30" y="279"/>
                  </a:lnTo>
                  <a:lnTo>
                    <a:pt x="36" y="265"/>
                  </a:lnTo>
                  <a:lnTo>
                    <a:pt x="43" y="251"/>
                  </a:lnTo>
                  <a:lnTo>
                    <a:pt x="51" y="238"/>
                  </a:lnTo>
                  <a:lnTo>
                    <a:pt x="58" y="223"/>
                  </a:lnTo>
                  <a:lnTo>
                    <a:pt x="67" y="211"/>
                  </a:lnTo>
                  <a:lnTo>
                    <a:pt x="76" y="198"/>
                  </a:lnTo>
                  <a:lnTo>
                    <a:pt x="86" y="186"/>
                  </a:lnTo>
                  <a:lnTo>
                    <a:pt x="96" y="173"/>
                  </a:lnTo>
                  <a:lnTo>
                    <a:pt x="106" y="162"/>
                  </a:lnTo>
                  <a:lnTo>
                    <a:pt x="117" y="151"/>
                  </a:lnTo>
                  <a:lnTo>
                    <a:pt x="129" y="141"/>
                  </a:lnTo>
                  <a:lnTo>
                    <a:pt x="140" y="129"/>
                  </a:lnTo>
                  <a:lnTo>
                    <a:pt x="152" y="120"/>
                  </a:lnTo>
                  <a:lnTo>
                    <a:pt x="164" y="110"/>
                  </a:lnTo>
                  <a:lnTo>
                    <a:pt x="177" y="102"/>
                  </a:lnTo>
                  <a:lnTo>
                    <a:pt x="190" y="93"/>
                  </a:lnTo>
                  <a:lnTo>
                    <a:pt x="203" y="84"/>
                  </a:lnTo>
                  <a:lnTo>
                    <a:pt x="216" y="76"/>
                  </a:lnTo>
                  <a:lnTo>
                    <a:pt x="230" y="69"/>
                  </a:lnTo>
                  <a:lnTo>
                    <a:pt x="244" y="61"/>
                  </a:lnTo>
                  <a:lnTo>
                    <a:pt x="258" y="55"/>
                  </a:lnTo>
                  <a:lnTo>
                    <a:pt x="272" y="48"/>
                  </a:lnTo>
                  <a:lnTo>
                    <a:pt x="287" y="42"/>
                  </a:lnTo>
                  <a:lnTo>
                    <a:pt x="301" y="36"/>
                  </a:lnTo>
                  <a:lnTo>
                    <a:pt x="315" y="31"/>
                  </a:lnTo>
                  <a:lnTo>
                    <a:pt x="330" y="26"/>
                  </a:lnTo>
                  <a:lnTo>
                    <a:pt x="344" y="22"/>
                  </a:lnTo>
                  <a:lnTo>
                    <a:pt x="358" y="18"/>
                  </a:lnTo>
                  <a:lnTo>
                    <a:pt x="373" y="15"/>
                  </a:lnTo>
                  <a:lnTo>
                    <a:pt x="387" y="11"/>
                  </a:lnTo>
                  <a:lnTo>
                    <a:pt x="401" y="9"/>
                  </a:lnTo>
                  <a:lnTo>
                    <a:pt x="416" y="6"/>
                  </a:lnTo>
                  <a:lnTo>
                    <a:pt x="431" y="4"/>
                  </a:lnTo>
                  <a:lnTo>
                    <a:pt x="446" y="3"/>
                  </a:lnTo>
                  <a:lnTo>
                    <a:pt x="461" y="2"/>
                  </a:lnTo>
                  <a:lnTo>
                    <a:pt x="477" y="1"/>
                  </a:lnTo>
                  <a:lnTo>
                    <a:pt x="492" y="0"/>
                  </a:lnTo>
                  <a:lnTo>
                    <a:pt x="507" y="0"/>
                  </a:lnTo>
                  <a:lnTo>
                    <a:pt x="522" y="0"/>
                  </a:lnTo>
                  <a:lnTo>
                    <a:pt x="536" y="1"/>
                  </a:lnTo>
                  <a:lnTo>
                    <a:pt x="550" y="2"/>
                  </a:lnTo>
                  <a:lnTo>
                    <a:pt x="563" y="3"/>
                  </a:lnTo>
                  <a:lnTo>
                    <a:pt x="577" y="4"/>
                  </a:lnTo>
                  <a:lnTo>
                    <a:pt x="590" y="6"/>
                  </a:lnTo>
                  <a:lnTo>
                    <a:pt x="603" y="8"/>
                  </a:lnTo>
                  <a:lnTo>
                    <a:pt x="615" y="11"/>
                  </a:lnTo>
                  <a:lnTo>
                    <a:pt x="628" y="14"/>
                  </a:lnTo>
                  <a:lnTo>
                    <a:pt x="640" y="17"/>
                  </a:lnTo>
                  <a:lnTo>
                    <a:pt x="652" y="20"/>
                  </a:lnTo>
                  <a:lnTo>
                    <a:pt x="664" y="24"/>
                  </a:lnTo>
                  <a:lnTo>
                    <a:pt x="676" y="28"/>
                  </a:lnTo>
                  <a:lnTo>
                    <a:pt x="687" y="32"/>
                  </a:lnTo>
                  <a:lnTo>
                    <a:pt x="698" y="36"/>
                  </a:lnTo>
                  <a:lnTo>
                    <a:pt x="709" y="42"/>
                  </a:lnTo>
                  <a:lnTo>
                    <a:pt x="732" y="52"/>
                  </a:lnTo>
                  <a:lnTo>
                    <a:pt x="752" y="64"/>
                  </a:lnTo>
                  <a:lnTo>
                    <a:pt x="772" y="77"/>
                  </a:lnTo>
                  <a:lnTo>
                    <a:pt x="788" y="92"/>
                  </a:lnTo>
                  <a:lnTo>
                    <a:pt x="803" y="107"/>
                  </a:lnTo>
                  <a:lnTo>
                    <a:pt x="818" y="124"/>
                  </a:lnTo>
                  <a:lnTo>
                    <a:pt x="829" y="142"/>
                  </a:lnTo>
                  <a:lnTo>
                    <a:pt x="839" y="161"/>
                  </a:lnTo>
                  <a:lnTo>
                    <a:pt x="542" y="223"/>
                  </a:lnTo>
                  <a:lnTo>
                    <a:pt x="542" y="218"/>
                  </a:lnTo>
                  <a:lnTo>
                    <a:pt x="541" y="212"/>
                  </a:lnTo>
                  <a:lnTo>
                    <a:pt x="539" y="206"/>
                  </a:lnTo>
                  <a:lnTo>
                    <a:pt x="537" y="201"/>
                  </a:lnTo>
                  <a:lnTo>
                    <a:pt x="535" y="195"/>
                  </a:lnTo>
                  <a:lnTo>
                    <a:pt x="532" y="189"/>
                  </a:lnTo>
                  <a:lnTo>
                    <a:pt x="529" y="181"/>
                  </a:lnTo>
                  <a:lnTo>
                    <a:pt x="526" y="175"/>
                  </a:lnTo>
                  <a:lnTo>
                    <a:pt x="519" y="171"/>
                  </a:lnTo>
                  <a:lnTo>
                    <a:pt x="512" y="168"/>
                  </a:lnTo>
                  <a:lnTo>
                    <a:pt x="505" y="164"/>
                  </a:lnTo>
                  <a:lnTo>
                    <a:pt x="498" y="161"/>
                  </a:lnTo>
                  <a:lnTo>
                    <a:pt x="491" y="159"/>
                  </a:lnTo>
                  <a:lnTo>
                    <a:pt x="483" y="157"/>
                  </a:lnTo>
                  <a:lnTo>
                    <a:pt x="475" y="155"/>
                  </a:lnTo>
                  <a:lnTo>
                    <a:pt x="465" y="155"/>
                  </a:lnTo>
                  <a:lnTo>
                    <a:pt x="455" y="156"/>
                  </a:lnTo>
                  <a:lnTo>
                    <a:pt x="445" y="158"/>
                  </a:lnTo>
                  <a:lnTo>
                    <a:pt x="434" y="161"/>
                  </a:lnTo>
                  <a:lnTo>
                    <a:pt x="423" y="166"/>
                  </a:lnTo>
                  <a:lnTo>
                    <a:pt x="410" y="172"/>
                  </a:lnTo>
                  <a:lnTo>
                    <a:pt x="398" y="179"/>
                  </a:lnTo>
                  <a:lnTo>
                    <a:pt x="386" y="188"/>
                  </a:lnTo>
                  <a:lnTo>
                    <a:pt x="374" y="198"/>
                  </a:lnTo>
                  <a:lnTo>
                    <a:pt x="366" y="206"/>
                  </a:lnTo>
                  <a:lnTo>
                    <a:pt x="359" y="216"/>
                  </a:lnTo>
                  <a:lnTo>
                    <a:pt x="352" y="227"/>
                  </a:lnTo>
                  <a:lnTo>
                    <a:pt x="344" y="240"/>
                  </a:lnTo>
                  <a:lnTo>
                    <a:pt x="336" y="253"/>
                  </a:lnTo>
                  <a:lnTo>
                    <a:pt x="328" y="268"/>
                  </a:lnTo>
                  <a:lnTo>
                    <a:pt x="320" y="283"/>
                  </a:lnTo>
                  <a:lnTo>
                    <a:pt x="313" y="301"/>
                  </a:lnTo>
                  <a:lnTo>
                    <a:pt x="310" y="318"/>
                  </a:lnTo>
                  <a:lnTo>
                    <a:pt x="307" y="336"/>
                  </a:lnTo>
                  <a:lnTo>
                    <a:pt x="304" y="352"/>
                  </a:lnTo>
                  <a:lnTo>
                    <a:pt x="301" y="368"/>
                  </a:lnTo>
                  <a:lnTo>
                    <a:pt x="298" y="384"/>
                  </a:lnTo>
                  <a:lnTo>
                    <a:pt x="295" y="400"/>
                  </a:lnTo>
                  <a:lnTo>
                    <a:pt x="291" y="416"/>
                  </a:lnTo>
                  <a:lnTo>
                    <a:pt x="288" y="433"/>
                  </a:lnTo>
                  <a:lnTo>
                    <a:pt x="289" y="453"/>
                  </a:lnTo>
                  <a:lnTo>
                    <a:pt x="293" y="470"/>
                  </a:lnTo>
                  <a:lnTo>
                    <a:pt x="299" y="486"/>
                  </a:lnTo>
                  <a:lnTo>
                    <a:pt x="308" y="498"/>
                  </a:lnTo>
                  <a:lnTo>
                    <a:pt x="319" y="508"/>
                  </a:lnTo>
                  <a:lnTo>
                    <a:pt x="335" y="514"/>
                  </a:lnTo>
                  <a:lnTo>
                    <a:pt x="352" y="519"/>
                  </a:lnTo>
                  <a:lnTo>
                    <a:pt x="374" y="520"/>
                  </a:lnTo>
                  <a:lnTo>
                    <a:pt x="383" y="520"/>
                  </a:lnTo>
                  <a:lnTo>
                    <a:pt x="393" y="518"/>
                  </a:lnTo>
                  <a:lnTo>
                    <a:pt x="402" y="516"/>
                  </a:lnTo>
                  <a:lnTo>
                    <a:pt x="411" y="513"/>
                  </a:lnTo>
                  <a:lnTo>
                    <a:pt x="421" y="509"/>
                  </a:lnTo>
                  <a:lnTo>
                    <a:pt x="430" y="504"/>
                  </a:lnTo>
                  <a:lnTo>
                    <a:pt x="439" y="497"/>
                  </a:lnTo>
                  <a:lnTo>
                    <a:pt x="448" y="490"/>
                  </a:lnTo>
                  <a:lnTo>
                    <a:pt x="457" y="484"/>
                  </a:lnTo>
                  <a:lnTo>
                    <a:pt x="465" y="477"/>
                  </a:lnTo>
                  <a:lnTo>
                    <a:pt x="473" y="469"/>
                  </a:lnTo>
                  <a:lnTo>
                    <a:pt x="479" y="462"/>
                  </a:lnTo>
                  <a:lnTo>
                    <a:pt x="484" y="453"/>
                  </a:lnTo>
                  <a:lnTo>
                    <a:pt x="488" y="444"/>
                  </a:lnTo>
                  <a:lnTo>
                    <a:pt x="490" y="435"/>
                  </a:lnTo>
                  <a:lnTo>
                    <a:pt x="491" y="423"/>
                  </a:lnTo>
                  <a:lnTo>
                    <a:pt x="491" y="423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7740720" y="1011600"/>
              <a:ext cx="1382040" cy="164160"/>
            </a:xfrm>
            <a:custGeom>
              <a:avLst/>
              <a:gdLst/>
              <a:ahLst/>
              <a:rect l="l" t="t" r="r" b="b"/>
              <a:pathLst>
                <a:path w="5035" h="421">
                  <a:moveTo>
                    <a:pt x="173" y="233"/>
                  </a:moveTo>
                  <a:lnTo>
                    <a:pt x="155" y="317"/>
                  </a:lnTo>
                  <a:lnTo>
                    <a:pt x="148" y="320"/>
                  </a:lnTo>
                  <a:lnTo>
                    <a:pt x="141" y="322"/>
                  </a:lnTo>
                  <a:lnTo>
                    <a:pt x="135" y="325"/>
                  </a:lnTo>
                  <a:lnTo>
                    <a:pt x="129" y="326"/>
                  </a:lnTo>
                  <a:lnTo>
                    <a:pt x="122" y="328"/>
                  </a:lnTo>
                  <a:lnTo>
                    <a:pt x="116" y="329"/>
                  </a:lnTo>
                  <a:lnTo>
                    <a:pt x="109" y="330"/>
                  </a:lnTo>
                  <a:lnTo>
                    <a:pt x="102" y="330"/>
                  </a:lnTo>
                  <a:lnTo>
                    <a:pt x="90" y="329"/>
                  </a:lnTo>
                  <a:lnTo>
                    <a:pt x="79" y="328"/>
                  </a:lnTo>
                  <a:lnTo>
                    <a:pt x="69" y="325"/>
                  </a:lnTo>
                  <a:lnTo>
                    <a:pt x="60" y="321"/>
                  </a:lnTo>
                  <a:lnTo>
                    <a:pt x="49" y="316"/>
                  </a:lnTo>
                  <a:lnTo>
                    <a:pt x="41" y="310"/>
                  </a:lnTo>
                  <a:lnTo>
                    <a:pt x="32" y="302"/>
                  </a:lnTo>
                  <a:lnTo>
                    <a:pt x="24" y="294"/>
                  </a:lnTo>
                  <a:lnTo>
                    <a:pt x="18" y="285"/>
                  </a:lnTo>
                  <a:lnTo>
                    <a:pt x="13" y="276"/>
                  </a:lnTo>
                  <a:lnTo>
                    <a:pt x="8" y="265"/>
                  </a:lnTo>
                  <a:lnTo>
                    <a:pt x="4" y="252"/>
                  </a:lnTo>
                  <a:lnTo>
                    <a:pt x="1" y="239"/>
                  </a:lnTo>
                  <a:lnTo>
                    <a:pt x="0" y="225"/>
                  </a:lnTo>
                  <a:lnTo>
                    <a:pt x="0" y="210"/>
                  </a:lnTo>
                  <a:lnTo>
                    <a:pt x="1" y="193"/>
                  </a:lnTo>
                  <a:lnTo>
                    <a:pt x="4" y="178"/>
                  </a:lnTo>
                  <a:lnTo>
                    <a:pt x="7" y="163"/>
                  </a:lnTo>
                  <a:lnTo>
                    <a:pt x="10" y="148"/>
                  </a:lnTo>
                  <a:lnTo>
                    <a:pt x="13" y="135"/>
                  </a:lnTo>
                  <a:lnTo>
                    <a:pt x="18" y="123"/>
                  </a:lnTo>
                  <a:lnTo>
                    <a:pt x="23" y="112"/>
                  </a:lnTo>
                  <a:lnTo>
                    <a:pt x="28" y="100"/>
                  </a:lnTo>
                  <a:lnTo>
                    <a:pt x="35" y="90"/>
                  </a:lnTo>
                  <a:lnTo>
                    <a:pt x="41" y="80"/>
                  </a:lnTo>
                  <a:lnTo>
                    <a:pt x="48" y="72"/>
                  </a:lnTo>
                  <a:lnTo>
                    <a:pt x="56" y="64"/>
                  </a:lnTo>
                  <a:lnTo>
                    <a:pt x="63" y="55"/>
                  </a:lnTo>
                  <a:lnTo>
                    <a:pt x="71" y="49"/>
                  </a:lnTo>
                  <a:lnTo>
                    <a:pt x="78" y="43"/>
                  </a:lnTo>
                  <a:lnTo>
                    <a:pt x="86" y="37"/>
                  </a:lnTo>
                  <a:lnTo>
                    <a:pt x="94" y="32"/>
                  </a:lnTo>
                  <a:lnTo>
                    <a:pt x="104" y="29"/>
                  </a:lnTo>
                  <a:lnTo>
                    <a:pt x="113" y="26"/>
                  </a:lnTo>
                  <a:lnTo>
                    <a:pt x="122" y="24"/>
                  </a:lnTo>
                  <a:lnTo>
                    <a:pt x="130" y="22"/>
                  </a:lnTo>
                  <a:lnTo>
                    <a:pt x="139" y="20"/>
                  </a:lnTo>
                  <a:lnTo>
                    <a:pt x="147" y="19"/>
                  </a:lnTo>
                  <a:lnTo>
                    <a:pt x="156" y="18"/>
                  </a:lnTo>
                  <a:lnTo>
                    <a:pt x="164" y="18"/>
                  </a:lnTo>
                  <a:lnTo>
                    <a:pt x="169" y="18"/>
                  </a:lnTo>
                  <a:lnTo>
                    <a:pt x="174" y="18"/>
                  </a:lnTo>
                  <a:lnTo>
                    <a:pt x="179" y="19"/>
                  </a:lnTo>
                  <a:lnTo>
                    <a:pt x="184" y="19"/>
                  </a:lnTo>
                  <a:lnTo>
                    <a:pt x="189" y="20"/>
                  </a:lnTo>
                  <a:lnTo>
                    <a:pt x="193" y="21"/>
                  </a:lnTo>
                  <a:lnTo>
                    <a:pt x="197" y="23"/>
                  </a:lnTo>
                  <a:lnTo>
                    <a:pt x="202" y="24"/>
                  </a:lnTo>
                  <a:lnTo>
                    <a:pt x="187" y="112"/>
                  </a:lnTo>
                  <a:lnTo>
                    <a:pt x="185" y="107"/>
                  </a:lnTo>
                  <a:lnTo>
                    <a:pt x="182" y="104"/>
                  </a:lnTo>
                  <a:lnTo>
                    <a:pt x="178" y="100"/>
                  </a:lnTo>
                  <a:lnTo>
                    <a:pt x="173" y="97"/>
                  </a:lnTo>
                  <a:lnTo>
                    <a:pt x="169" y="95"/>
                  </a:lnTo>
                  <a:lnTo>
                    <a:pt x="165" y="93"/>
                  </a:lnTo>
                  <a:lnTo>
                    <a:pt x="159" y="92"/>
                  </a:lnTo>
                  <a:lnTo>
                    <a:pt x="152" y="91"/>
                  </a:lnTo>
                  <a:lnTo>
                    <a:pt x="146" y="91"/>
                  </a:lnTo>
                  <a:lnTo>
                    <a:pt x="141" y="92"/>
                  </a:lnTo>
                  <a:lnTo>
                    <a:pt x="136" y="94"/>
                  </a:lnTo>
                  <a:lnTo>
                    <a:pt x="132" y="96"/>
                  </a:lnTo>
                  <a:lnTo>
                    <a:pt x="127" y="99"/>
                  </a:lnTo>
                  <a:lnTo>
                    <a:pt x="123" y="102"/>
                  </a:lnTo>
                  <a:lnTo>
                    <a:pt x="118" y="106"/>
                  </a:lnTo>
                  <a:lnTo>
                    <a:pt x="114" y="112"/>
                  </a:lnTo>
                  <a:lnTo>
                    <a:pt x="110" y="117"/>
                  </a:lnTo>
                  <a:lnTo>
                    <a:pt x="106" y="123"/>
                  </a:lnTo>
                  <a:lnTo>
                    <a:pt x="102" y="130"/>
                  </a:lnTo>
                  <a:lnTo>
                    <a:pt x="97" y="137"/>
                  </a:lnTo>
                  <a:lnTo>
                    <a:pt x="94" y="145"/>
                  </a:lnTo>
                  <a:lnTo>
                    <a:pt x="91" y="153"/>
                  </a:lnTo>
                  <a:lnTo>
                    <a:pt x="89" y="163"/>
                  </a:lnTo>
                  <a:lnTo>
                    <a:pt x="87" y="172"/>
                  </a:lnTo>
                  <a:lnTo>
                    <a:pt x="87" y="178"/>
                  </a:lnTo>
                  <a:lnTo>
                    <a:pt x="86" y="184"/>
                  </a:lnTo>
                  <a:lnTo>
                    <a:pt x="85" y="190"/>
                  </a:lnTo>
                  <a:lnTo>
                    <a:pt x="85" y="197"/>
                  </a:lnTo>
                  <a:lnTo>
                    <a:pt x="85" y="201"/>
                  </a:lnTo>
                  <a:lnTo>
                    <a:pt x="85" y="205"/>
                  </a:lnTo>
                  <a:lnTo>
                    <a:pt x="86" y="210"/>
                  </a:lnTo>
                  <a:lnTo>
                    <a:pt x="86" y="214"/>
                  </a:lnTo>
                  <a:lnTo>
                    <a:pt x="87" y="218"/>
                  </a:lnTo>
                  <a:lnTo>
                    <a:pt x="88" y="222"/>
                  </a:lnTo>
                  <a:lnTo>
                    <a:pt x="88" y="225"/>
                  </a:lnTo>
                  <a:lnTo>
                    <a:pt x="89" y="229"/>
                  </a:lnTo>
                  <a:lnTo>
                    <a:pt x="91" y="234"/>
                  </a:lnTo>
                  <a:lnTo>
                    <a:pt x="95" y="238"/>
                  </a:lnTo>
                  <a:lnTo>
                    <a:pt x="99" y="242"/>
                  </a:lnTo>
                  <a:lnTo>
                    <a:pt x="105" y="245"/>
                  </a:lnTo>
                  <a:lnTo>
                    <a:pt x="110" y="249"/>
                  </a:lnTo>
                  <a:lnTo>
                    <a:pt x="116" y="251"/>
                  </a:lnTo>
                  <a:lnTo>
                    <a:pt x="121" y="252"/>
                  </a:lnTo>
                  <a:lnTo>
                    <a:pt x="126" y="252"/>
                  </a:lnTo>
                  <a:lnTo>
                    <a:pt x="132" y="251"/>
                  </a:lnTo>
                  <a:lnTo>
                    <a:pt x="138" y="250"/>
                  </a:lnTo>
                  <a:lnTo>
                    <a:pt x="143" y="249"/>
                  </a:lnTo>
                  <a:lnTo>
                    <a:pt x="149" y="247"/>
                  </a:lnTo>
                  <a:lnTo>
                    <a:pt x="156" y="244"/>
                  </a:lnTo>
                  <a:lnTo>
                    <a:pt x="161" y="241"/>
                  </a:lnTo>
                  <a:lnTo>
                    <a:pt x="167" y="237"/>
                  </a:lnTo>
                  <a:lnTo>
                    <a:pt x="173" y="233"/>
                  </a:lnTo>
                  <a:close/>
                  <a:moveTo>
                    <a:pt x="198" y="245"/>
                  </a:moveTo>
                  <a:lnTo>
                    <a:pt x="198" y="235"/>
                  </a:lnTo>
                  <a:lnTo>
                    <a:pt x="200" y="226"/>
                  </a:lnTo>
                  <a:lnTo>
                    <a:pt x="201" y="217"/>
                  </a:lnTo>
                  <a:lnTo>
                    <a:pt x="202" y="208"/>
                  </a:lnTo>
                  <a:lnTo>
                    <a:pt x="204" y="199"/>
                  </a:lnTo>
                  <a:lnTo>
                    <a:pt x="206" y="190"/>
                  </a:lnTo>
                  <a:lnTo>
                    <a:pt x="209" y="182"/>
                  </a:lnTo>
                  <a:lnTo>
                    <a:pt x="213" y="174"/>
                  </a:lnTo>
                  <a:lnTo>
                    <a:pt x="217" y="167"/>
                  </a:lnTo>
                  <a:lnTo>
                    <a:pt x="222" y="160"/>
                  </a:lnTo>
                  <a:lnTo>
                    <a:pt x="226" y="153"/>
                  </a:lnTo>
                  <a:lnTo>
                    <a:pt x="232" y="147"/>
                  </a:lnTo>
                  <a:lnTo>
                    <a:pt x="237" y="141"/>
                  </a:lnTo>
                  <a:lnTo>
                    <a:pt x="243" y="136"/>
                  </a:lnTo>
                  <a:lnTo>
                    <a:pt x="250" y="131"/>
                  </a:lnTo>
                  <a:lnTo>
                    <a:pt x="256" y="126"/>
                  </a:lnTo>
                  <a:lnTo>
                    <a:pt x="262" y="123"/>
                  </a:lnTo>
                  <a:lnTo>
                    <a:pt x="269" y="120"/>
                  </a:lnTo>
                  <a:lnTo>
                    <a:pt x="275" y="117"/>
                  </a:lnTo>
                  <a:lnTo>
                    <a:pt x="282" y="115"/>
                  </a:lnTo>
                  <a:lnTo>
                    <a:pt x="289" y="113"/>
                  </a:lnTo>
                  <a:lnTo>
                    <a:pt x="298" y="111"/>
                  </a:lnTo>
                  <a:lnTo>
                    <a:pt x="305" y="110"/>
                  </a:lnTo>
                  <a:lnTo>
                    <a:pt x="313" y="110"/>
                  </a:lnTo>
                  <a:lnTo>
                    <a:pt x="332" y="111"/>
                  </a:lnTo>
                  <a:lnTo>
                    <a:pt x="350" y="115"/>
                  </a:lnTo>
                  <a:lnTo>
                    <a:pt x="364" y="122"/>
                  </a:lnTo>
                  <a:lnTo>
                    <a:pt x="375" y="131"/>
                  </a:lnTo>
                  <a:lnTo>
                    <a:pt x="384" y="143"/>
                  </a:lnTo>
                  <a:lnTo>
                    <a:pt x="391" y="159"/>
                  </a:lnTo>
                  <a:lnTo>
                    <a:pt x="396" y="177"/>
                  </a:lnTo>
                  <a:lnTo>
                    <a:pt x="397" y="197"/>
                  </a:lnTo>
                  <a:lnTo>
                    <a:pt x="397" y="210"/>
                  </a:lnTo>
                  <a:lnTo>
                    <a:pt x="395" y="222"/>
                  </a:lnTo>
                  <a:lnTo>
                    <a:pt x="392" y="234"/>
                  </a:lnTo>
                  <a:lnTo>
                    <a:pt x="389" y="246"/>
                  </a:lnTo>
                  <a:lnTo>
                    <a:pt x="385" y="258"/>
                  </a:lnTo>
                  <a:lnTo>
                    <a:pt x="380" y="269"/>
                  </a:lnTo>
                  <a:lnTo>
                    <a:pt x="374" y="279"/>
                  </a:lnTo>
                  <a:lnTo>
                    <a:pt x="367" y="288"/>
                  </a:lnTo>
                  <a:lnTo>
                    <a:pt x="359" y="297"/>
                  </a:lnTo>
                  <a:lnTo>
                    <a:pt x="351" y="307"/>
                  </a:lnTo>
                  <a:lnTo>
                    <a:pt x="340" y="313"/>
                  </a:lnTo>
                  <a:lnTo>
                    <a:pt x="330" y="319"/>
                  </a:lnTo>
                  <a:lnTo>
                    <a:pt x="320" y="323"/>
                  </a:lnTo>
                  <a:lnTo>
                    <a:pt x="309" y="327"/>
                  </a:lnTo>
                  <a:lnTo>
                    <a:pt x="296" y="329"/>
                  </a:lnTo>
                  <a:lnTo>
                    <a:pt x="284" y="330"/>
                  </a:lnTo>
                  <a:lnTo>
                    <a:pt x="274" y="330"/>
                  </a:lnTo>
                  <a:lnTo>
                    <a:pt x="264" y="329"/>
                  </a:lnTo>
                  <a:lnTo>
                    <a:pt x="255" y="327"/>
                  </a:lnTo>
                  <a:lnTo>
                    <a:pt x="246" y="325"/>
                  </a:lnTo>
                  <a:lnTo>
                    <a:pt x="239" y="322"/>
                  </a:lnTo>
                  <a:lnTo>
                    <a:pt x="232" y="318"/>
                  </a:lnTo>
                  <a:lnTo>
                    <a:pt x="226" y="314"/>
                  </a:lnTo>
                  <a:lnTo>
                    <a:pt x="220" y="309"/>
                  </a:lnTo>
                  <a:lnTo>
                    <a:pt x="215" y="302"/>
                  </a:lnTo>
                  <a:lnTo>
                    <a:pt x="211" y="296"/>
                  </a:lnTo>
                  <a:lnTo>
                    <a:pt x="207" y="289"/>
                  </a:lnTo>
                  <a:lnTo>
                    <a:pt x="204" y="282"/>
                  </a:lnTo>
                  <a:lnTo>
                    <a:pt x="202" y="274"/>
                  </a:lnTo>
                  <a:lnTo>
                    <a:pt x="200" y="265"/>
                  </a:lnTo>
                  <a:lnTo>
                    <a:pt x="198" y="256"/>
                  </a:lnTo>
                  <a:lnTo>
                    <a:pt x="198" y="245"/>
                  </a:lnTo>
                  <a:close/>
                  <a:moveTo>
                    <a:pt x="277" y="222"/>
                  </a:moveTo>
                  <a:lnTo>
                    <a:pt x="277" y="224"/>
                  </a:lnTo>
                  <a:lnTo>
                    <a:pt x="277" y="225"/>
                  </a:lnTo>
                  <a:lnTo>
                    <a:pt x="277" y="228"/>
                  </a:lnTo>
                  <a:lnTo>
                    <a:pt x="277" y="231"/>
                  </a:lnTo>
                  <a:lnTo>
                    <a:pt x="276" y="233"/>
                  </a:lnTo>
                  <a:lnTo>
                    <a:pt x="275" y="235"/>
                  </a:lnTo>
                  <a:lnTo>
                    <a:pt x="275" y="238"/>
                  </a:lnTo>
                  <a:lnTo>
                    <a:pt x="275" y="240"/>
                  </a:lnTo>
                  <a:lnTo>
                    <a:pt x="276" y="252"/>
                  </a:lnTo>
                  <a:lnTo>
                    <a:pt x="280" y="261"/>
                  </a:lnTo>
                  <a:lnTo>
                    <a:pt x="285" y="266"/>
                  </a:lnTo>
                  <a:lnTo>
                    <a:pt x="291" y="267"/>
                  </a:lnTo>
                  <a:lnTo>
                    <a:pt x="296" y="266"/>
                  </a:lnTo>
                  <a:lnTo>
                    <a:pt x="302" y="263"/>
                  </a:lnTo>
                  <a:lnTo>
                    <a:pt x="306" y="259"/>
                  </a:lnTo>
                  <a:lnTo>
                    <a:pt x="309" y="252"/>
                  </a:lnTo>
                  <a:lnTo>
                    <a:pt x="313" y="244"/>
                  </a:lnTo>
                  <a:lnTo>
                    <a:pt x="315" y="234"/>
                  </a:lnTo>
                  <a:lnTo>
                    <a:pt x="318" y="223"/>
                  </a:lnTo>
                  <a:lnTo>
                    <a:pt x="320" y="210"/>
                  </a:lnTo>
                  <a:lnTo>
                    <a:pt x="320" y="208"/>
                  </a:lnTo>
                  <a:lnTo>
                    <a:pt x="321" y="205"/>
                  </a:lnTo>
                  <a:lnTo>
                    <a:pt x="322" y="204"/>
                  </a:lnTo>
                  <a:lnTo>
                    <a:pt x="322" y="202"/>
                  </a:lnTo>
                  <a:lnTo>
                    <a:pt x="322" y="200"/>
                  </a:lnTo>
                  <a:lnTo>
                    <a:pt x="322" y="198"/>
                  </a:lnTo>
                  <a:lnTo>
                    <a:pt x="322" y="197"/>
                  </a:lnTo>
                  <a:lnTo>
                    <a:pt x="322" y="195"/>
                  </a:lnTo>
                  <a:lnTo>
                    <a:pt x="322" y="188"/>
                  </a:lnTo>
                  <a:lnTo>
                    <a:pt x="321" y="181"/>
                  </a:lnTo>
                  <a:lnTo>
                    <a:pt x="319" y="176"/>
                  </a:lnTo>
                  <a:lnTo>
                    <a:pt x="317" y="172"/>
                  </a:lnTo>
                  <a:lnTo>
                    <a:pt x="315" y="169"/>
                  </a:lnTo>
                  <a:lnTo>
                    <a:pt x="312" y="168"/>
                  </a:lnTo>
                  <a:lnTo>
                    <a:pt x="309" y="167"/>
                  </a:lnTo>
                  <a:lnTo>
                    <a:pt x="306" y="167"/>
                  </a:lnTo>
                  <a:lnTo>
                    <a:pt x="301" y="169"/>
                  </a:lnTo>
                  <a:lnTo>
                    <a:pt x="295" y="172"/>
                  </a:lnTo>
                  <a:lnTo>
                    <a:pt x="291" y="176"/>
                  </a:lnTo>
                  <a:lnTo>
                    <a:pt x="288" y="182"/>
                  </a:lnTo>
                  <a:lnTo>
                    <a:pt x="284" y="190"/>
                  </a:lnTo>
                  <a:lnTo>
                    <a:pt x="282" y="199"/>
                  </a:lnTo>
                  <a:lnTo>
                    <a:pt x="279" y="210"/>
                  </a:lnTo>
                  <a:lnTo>
                    <a:pt x="277" y="222"/>
                  </a:lnTo>
                  <a:close/>
                  <a:moveTo>
                    <a:pt x="411" y="323"/>
                  </a:moveTo>
                  <a:lnTo>
                    <a:pt x="446" y="112"/>
                  </a:lnTo>
                  <a:lnTo>
                    <a:pt x="524" y="112"/>
                  </a:lnTo>
                  <a:lnTo>
                    <a:pt x="517" y="147"/>
                  </a:lnTo>
                  <a:lnTo>
                    <a:pt x="517" y="147"/>
                  </a:lnTo>
                  <a:lnTo>
                    <a:pt x="523" y="139"/>
                  </a:lnTo>
                  <a:lnTo>
                    <a:pt x="529" y="131"/>
                  </a:lnTo>
                  <a:lnTo>
                    <a:pt x="536" y="125"/>
                  </a:lnTo>
                  <a:lnTo>
                    <a:pt x="544" y="119"/>
                  </a:lnTo>
                  <a:lnTo>
                    <a:pt x="548" y="117"/>
                  </a:lnTo>
                  <a:lnTo>
                    <a:pt x="551" y="115"/>
                  </a:lnTo>
                  <a:lnTo>
                    <a:pt x="555" y="114"/>
                  </a:lnTo>
                  <a:lnTo>
                    <a:pt x="559" y="112"/>
                  </a:lnTo>
                  <a:lnTo>
                    <a:pt x="563" y="111"/>
                  </a:lnTo>
                  <a:lnTo>
                    <a:pt x="568" y="111"/>
                  </a:lnTo>
                  <a:lnTo>
                    <a:pt x="572" y="110"/>
                  </a:lnTo>
                  <a:lnTo>
                    <a:pt x="576" y="110"/>
                  </a:lnTo>
                  <a:lnTo>
                    <a:pt x="580" y="110"/>
                  </a:lnTo>
                  <a:lnTo>
                    <a:pt x="584" y="111"/>
                  </a:lnTo>
                  <a:lnTo>
                    <a:pt x="588" y="111"/>
                  </a:lnTo>
                  <a:lnTo>
                    <a:pt x="593" y="112"/>
                  </a:lnTo>
                  <a:lnTo>
                    <a:pt x="596" y="114"/>
                  </a:lnTo>
                  <a:lnTo>
                    <a:pt x="600" y="115"/>
                  </a:lnTo>
                  <a:lnTo>
                    <a:pt x="604" y="118"/>
                  </a:lnTo>
                  <a:lnTo>
                    <a:pt x="608" y="120"/>
                  </a:lnTo>
                  <a:lnTo>
                    <a:pt x="611" y="123"/>
                  </a:lnTo>
                  <a:lnTo>
                    <a:pt x="613" y="126"/>
                  </a:lnTo>
                  <a:lnTo>
                    <a:pt x="616" y="129"/>
                  </a:lnTo>
                  <a:lnTo>
                    <a:pt x="618" y="133"/>
                  </a:lnTo>
                  <a:lnTo>
                    <a:pt x="620" y="137"/>
                  </a:lnTo>
                  <a:lnTo>
                    <a:pt x="622" y="141"/>
                  </a:lnTo>
                  <a:lnTo>
                    <a:pt x="623" y="146"/>
                  </a:lnTo>
                  <a:lnTo>
                    <a:pt x="624" y="150"/>
                  </a:lnTo>
                  <a:lnTo>
                    <a:pt x="624" y="150"/>
                  </a:lnTo>
                  <a:lnTo>
                    <a:pt x="630" y="141"/>
                  </a:lnTo>
                  <a:lnTo>
                    <a:pt x="636" y="133"/>
                  </a:lnTo>
                  <a:lnTo>
                    <a:pt x="643" y="126"/>
                  </a:lnTo>
                  <a:lnTo>
                    <a:pt x="650" y="120"/>
                  </a:lnTo>
                  <a:lnTo>
                    <a:pt x="657" y="116"/>
                  </a:lnTo>
                  <a:lnTo>
                    <a:pt x="665" y="113"/>
                  </a:lnTo>
                  <a:lnTo>
                    <a:pt x="673" y="111"/>
                  </a:lnTo>
                  <a:lnTo>
                    <a:pt x="681" y="110"/>
                  </a:lnTo>
                  <a:lnTo>
                    <a:pt x="685" y="110"/>
                  </a:lnTo>
                  <a:lnTo>
                    <a:pt x="690" y="110"/>
                  </a:lnTo>
                  <a:lnTo>
                    <a:pt x="695" y="111"/>
                  </a:lnTo>
                  <a:lnTo>
                    <a:pt x="700" y="112"/>
                  </a:lnTo>
                  <a:lnTo>
                    <a:pt x="707" y="114"/>
                  </a:lnTo>
                  <a:lnTo>
                    <a:pt x="714" y="118"/>
                  </a:lnTo>
                  <a:lnTo>
                    <a:pt x="719" y="122"/>
                  </a:lnTo>
                  <a:lnTo>
                    <a:pt x="723" y="128"/>
                  </a:lnTo>
                  <a:lnTo>
                    <a:pt x="726" y="134"/>
                  </a:lnTo>
                  <a:lnTo>
                    <a:pt x="728" y="141"/>
                  </a:lnTo>
                  <a:lnTo>
                    <a:pt x="730" y="150"/>
                  </a:lnTo>
                  <a:lnTo>
                    <a:pt x="730" y="160"/>
                  </a:lnTo>
                  <a:lnTo>
                    <a:pt x="730" y="167"/>
                  </a:lnTo>
                  <a:lnTo>
                    <a:pt x="729" y="174"/>
                  </a:lnTo>
                  <a:lnTo>
                    <a:pt x="728" y="181"/>
                  </a:lnTo>
                  <a:lnTo>
                    <a:pt x="728" y="188"/>
                  </a:lnTo>
                  <a:lnTo>
                    <a:pt x="703" y="323"/>
                  </a:lnTo>
                  <a:lnTo>
                    <a:pt x="628" y="323"/>
                  </a:lnTo>
                  <a:lnTo>
                    <a:pt x="646" y="210"/>
                  </a:lnTo>
                  <a:lnTo>
                    <a:pt x="646" y="208"/>
                  </a:lnTo>
                  <a:lnTo>
                    <a:pt x="646" y="207"/>
                  </a:lnTo>
                  <a:lnTo>
                    <a:pt x="646" y="204"/>
                  </a:lnTo>
                  <a:lnTo>
                    <a:pt x="646" y="204"/>
                  </a:lnTo>
                  <a:lnTo>
                    <a:pt x="646" y="202"/>
                  </a:lnTo>
                  <a:lnTo>
                    <a:pt x="646" y="201"/>
                  </a:lnTo>
                  <a:lnTo>
                    <a:pt x="646" y="199"/>
                  </a:lnTo>
                  <a:lnTo>
                    <a:pt x="646" y="197"/>
                  </a:lnTo>
                  <a:lnTo>
                    <a:pt x="645" y="191"/>
                  </a:lnTo>
                  <a:lnTo>
                    <a:pt x="644" y="187"/>
                  </a:lnTo>
                  <a:lnTo>
                    <a:pt x="641" y="184"/>
                  </a:lnTo>
                  <a:lnTo>
                    <a:pt x="635" y="183"/>
                  </a:lnTo>
                  <a:lnTo>
                    <a:pt x="631" y="184"/>
                  </a:lnTo>
                  <a:lnTo>
                    <a:pt x="627" y="185"/>
                  </a:lnTo>
                  <a:lnTo>
                    <a:pt x="623" y="188"/>
                  </a:lnTo>
                  <a:lnTo>
                    <a:pt x="620" y="192"/>
                  </a:lnTo>
                  <a:lnTo>
                    <a:pt x="617" y="196"/>
                  </a:lnTo>
                  <a:lnTo>
                    <a:pt x="615" y="202"/>
                  </a:lnTo>
                  <a:lnTo>
                    <a:pt x="613" y="210"/>
                  </a:lnTo>
                  <a:lnTo>
                    <a:pt x="612" y="217"/>
                  </a:lnTo>
                  <a:lnTo>
                    <a:pt x="598" y="323"/>
                  </a:lnTo>
                  <a:lnTo>
                    <a:pt x="519" y="323"/>
                  </a:lnTo>
                  <a:lnTo>
                    <a:pt x="536" y="219"/>
                  </a:lnTo>
                  <a:lnTo>
                    <a:pt x="536" y="216"/>
                  </a:lnTo>
                  <a:lnTo>
                    <a:pt x="536" y="213"/>
                  </a:lnTo>
                  <a:lnTo>
                    <a:pt x="536" y="210"/>
                  </a:lnTo>
                  <a:lnTo>
                    <a:pt x="536" y="208"/>
                  </a:lnTo>
                  <a:lnTo>
                    <a:pt x="536" y="203"/>
                  </a:lnTo>
                  <a:lnTo>
                    <a:pt x="537" y="200"/>
                  </a:lnTo>
                  <a:lnTo>
                    <a:pt x="538" y="197"/>
                  </a:lnTo>
                  <a:lnTo>
                    <a:pt x="538" y="195"/>
                  </a:lnTo>
                  <a:lnTo>
                    <a:pt x="537" y="190"/>
                  </a:lnTo>
                  <a:lnTo>
                    <a:pt x="535" y="186"/>
                  </a:lnTo>
                  <a:lnTo>
                    <a:pt x="532" y="184"/>
                  </a:lnTo>
                  <a:lnTo>
                    <a:pt x="529" y="183"/>
                  </a:lnTo>
                  <a:lnTo>
                    <a:pt x="525" y="183"/>
                  </a:lnTo>
                  <a:lnTo>
                    <a:pt x="521" y="185"/>
                  </a:lnTo>
                  <a:lnTo>
                    <a:pt x="518" y="187"/>
                  </a:lnTo>
                  <a:lnTo>
                    <a:pt x="515" y="191"/>
                  </a:lnTo>
                  <a:lnTo>
                    <a:pt x="512" y="195"/>
                  </a:lnTo>
                  <a:lnTo>
                    <a:pt x="510" y="200"/>
                  </a:lnTo>
                  <a:lnTo>
                    <a:pt x="509" y="208"/>
                  </a:lnTo>
                  <a:lnTo>
                    <a:pt x="508" y="215"/>
                  </a:lnTo>
                  <a:lnTo>
                    <a:pt x="490" y="323"/>
                  </a:lnTo>
                  <a:lnTo>
                    <a:pt x="411" y="323"/>
                  </a:lnTo>
                  <a:close/>
                  <a:moveTo>
                    <a:pt x="842" y="238"/>
                  </a:moveTo>
                  <a:lnTo>
                    <a:pt x="841" y="247"/>
                  </a:lnTo>
                  <a:lnTo>
                    <a:pt x="842" y="254"/>
                  </a:lnTo>
                  <a:lnTo>
                    <a:pt x="846" y="260"/>
                  </a:lnTo>
                  <a:lnTo>
                    <a:pt x="852" y="264"/>
                  </a:lnTo>
                  <a:lnTo>
                    <a:pt x="857" y="261"/>
                  </a:lnTo>
                  <a:lnTo>
                    <a:pt x="861" y="259"/>
                  </a:lnTo>
                  <a:lnTo>
                    <a:pt x="866" y="254"/>
                  </a:lnTo>
                  <a:lnTo>
                    <a:pt x="870" y="247"/>
                  </a:lnTo>
                  <a:lnTo>
                    <a:pt x="872" y="242"/>
                  </a:lnTo>
                  <a:lnTo>
                    <a:pt x="873" y="236"/>
                  </a:lnTo>
                  <a:lnTo>
                    <a:pt x="875" y="231"/>
                  </a:lnTo>
                  <a:lnTo>
                    <a:pt x="876" y="226"/>
                  </a:lnTo>
                  <a:lnTo>
                    <a:pt x="877" y="221"/>
                  </a:lnTo>
                  <a:lnTo>
                    <a:pt x="877" y="215"/>
                  </a:lnTo>
                  <a:lnTo>
                    <a:pt x="878" y="210"/>
                  </a:lnTo>
                  <a:lnTo>
                    <a:pt x="878" y="204"/>
                  </a:lnTo>
                  <a:lnTo>
                    <a:pt x="879" y="197"/>
                  </a:lnTo>
                  <a:lnTo>
                    <a:pt x="879" y="190"/>
                  </a:lnTo>
                  <a:lnTo>
                    <a:pt x="879" y="185"/>
                  </a:lnTo>
                  <a:lnTo>
                    <a:pt x="878" y="181"/>
                  </a:lnTo>
                  <a:lnTo>
                    <a:pt x="876" y="178"/>
                  </a:lnTo>
                  <a:lnTo>
                    <a:pt x="873" y="176"/>
                  </a:lnTo>
                  <a:lnTo>
                    <a:pt x="870" y="174"/>
                  </a:lnTo>
                  <a:lnTo>
                    <a:pt x="866" y="174"/>
                  </a:lnTo>
                  <a:lnTo>
                    <a:pt x="864" y="174"/>
                  </a:lnTo>
                  <a:lnTo>
                    <a:pt x="861" y="174"/>
                  </a:lnTo>
                  <a:lnTo>
                    <a:pt x="859" y="175"/>
                  </a:lnTo>
                  <a:lnTo>
                    <a:pt x="857" y="176"/>
                  </a:lnTo>
                  <a:lnTo>
                    <a:pt x="854" y="180"/>
                  </a:lnTo>
                  <a:lnTo>
                    <a:pt x="851" y="186"/>
                  </a:lnTo>
                  <a:lnTo>
                    <a:pt x="849" y="192"/>
                  </a:lnTo>
                  <a:lnTo>
                    <a:pt x="847" y="199"/>
                  </a:lnTo>
                  <a:lnTo>
                    <a:pt x="845" y="208"/>
                  </a:lnTo>
                  <a:lnTo>
                    <a:pt x="843" y="217"/>
                  </a:lnTo>
                  <a:lnTo>
                    <a:pt x="842" y="227"/>
                  </a:lnTo>
                  <a:lnTo>
                    <a:pt x="842" y="238"/>
                  </a:lnTo>
                  <a:lnTo>
                    <a:pt x="842" y="238"/>
                  </a:lnTo>
                  <a:close/>
                  <a:moveTo>
                    <a:pt x="735" y="420"/>
                  </a:moveTo>
                  <a:lnTo>
                    <a:pt x="783" y="112"/>
                  </a:lnTo>
                  <a:lnTo>
                    <a:pt x="859" y="112"/>
                  </a:lnTo>
                  <a:lnTo>
                    <a:pt x="852" y="140"/>
                  </a:lnTo>
                  <a:lnTo>
                    <a:pt x="856" y="140"/>
                  </a:lnTo>
                  <a:lnTo>
                    <a:pt x="859" y="134"/>
                  </a:lnTo>
                  <a:lnTo>
                    <a:pt x="864" y="128"/>
                  </a:lnTo>
                  <a:lnTo>
                    <a:pt x="870" y="123"/>
                  </a:lnTo>
                  <a:lnTo>
                    <a:pt x="877" y="119"/>
                  </a:lnTo>
                  <a:lnTo>
                    <a:pt x="880" y="117"/>
                  </a:lnTo>
                  <a:lnTo>
                    <a:pt x="885" y="115"/>
                  </a:lnTo>
                  <a:lnTo>
                    <a:pt x="889" y="113"/>
                  </a:lnTo>
                  <a:lnTo>
                    <a:pt x="893" y="112"/>
                  </a:lnTo>
                  <a:lnTo>
                    <a:pt x="897" y="111"/>
                  </a:lnTo>
                  <a:lnTo>
                    <a:pt x="901" y="110"/>
                  </a:lnTo>
                  <a:lnTo>
                    <a:pt x="904" y="110"/>
                  </a:lnTo>
                  <a:lnTo>
                    <a:pt x="908" y="110"/>
                  </a:lnTo>
                  <a:lnTo>
                    <a:pt x="913" y="110"/>
                  </a:lnTo>
                  <a:lnTo>
                    <a:pt x="918" y="111"/>
                  </a:lnTo>
                  <a:lnTo>
                    <a:pt x="923" y="113"/>
                  </a:lnTo>
                  <a:lnTo>
                    <a:pt x="928" y="115"/>
                  </a:lnTo>
                  <a:lnTo>
                    <a:pt x="933" y="117"/>
                  </a:lnTo>
                  <a:lnTo>
                    <a:pt x="938" y="120"/>
                  </a:lnTo>
                  <a:lnTo>
                    <a:pt x="942" y="123"/>
                  </a:lnTo>
                  <a:lnTo>
                    <a:pt x="947" y="127"/>
                  </a:lnTo>
                  <a:lnTo>
                    <a:pt x="950" y="133"/>
                  </a:lnTo>
                  <a:lnTo>
                    <a:pt x="953" y="139"/>
                  </a:lnTo>
                  <a:lnTo>
                    <a:pt x="955" y="146"/>
                  </a:lnTo>
                  <a:lnTo>
                    <a:pt x="957" y="153"/>
                  </a:lnTo>
                  <a:lnTo>
                    <a:pt x="959" y="162"/>
                  </a:lnTo>
                  <a:lnTo>
                    <a:pt x="960" y="170"/>
                  </a:lnTo>
                  <a:lnTo>
                    <a:pt x="961" y="179"/>
                  </a:lnTo>
                  <a:lnTo>
                    <a:pt x="961" y="188"/>
                  </a:lnTo>
                  <a:lnTo>
                    <a:pt x="961" y="194"/>
                  </a:lnTo>
                  <a:lnTo>
                    <a:pt x="961" y="200"/>
                  </a:lnTo>
                  <a:lnTo>
                    <a:pt x="961" y="205"/>
                  </a:lnTo>
                  <a:lnTo>
                    <a:pt x="961" y="210"/>
                  </a:lnTo>
                  <a:lnTo>
                    <a:pt x="959" y="220"/>
                  </a:lnTo>
                  <a:lnTo>
                    <a:pt x="957" y="229"/>
                  </a:lnTo>
                  <a:lnTo>
                    <a:pt x="955" y="238"/>
                  </a:lnTo>
                  <a:lnTo>
                    <a:pt x="953" y="246"/>
                  </a:lnTo>
                  <a:lnTo>
                    <a:pt x="951" y="254"/>
                  </a:lnTo>
                  <a:lnTo>
                    <a:pt x="948" y="262"/>
                  </a:lnTo>
                  <a:lnTo>
                    <a:pt x="945" y="268"/>
                  </a:lnTo>
                  <a:lnTo>
                    <a:pt x="942" y="274"/>
                  </a:lnTo>
                  <a:lnTo>
                    <a:pt x="939" y="281"/>
                  </a:lnTo>
                  <a:lnTo>
                    <a:pt x="936" y="287"/>
                  </a:lnTo>
                  <a:lnTo>
                    <a:pt x="931" y="292"/>
                  </a:lnTo>
                  <a:lnTo>
                    <a:pt x="928" y="298"/>
                  </a:lnTo>
                  <a:lnTo>
                    <a:pt x="924" y="302"/>
                  </a:lnTo>
                  <a:lnTo>
                    <a:pt x="920" y="307"/>
                  </a:lnTo>
                  <a:lnTo>
                    <a:pt x="917" y="311"/>
                  </a:lnTo>
                  <a:lnTo>
                    <a:pt x="913" y="314"/>
                  </a:lnTo>
                  <a:lnTo>
                    <a:pt x="909" y="317"/>
                  </a:lnTo>
                  <a:lnTo>
                    <a:pt x="904" y="320"/>
                  </a:lnTo>
                  <a:lnTo>
                    <a:pt x="900" y="321"/>
                  </a:lnTo>
                  <a:lnTo>
                    <a:pt x="896" y="323"/>
                  </a:lnTo>
                  <a:lnTo>
                    <a:pt x="891" y="324"/>
                  </a:lnTo>
                  <a:lnTo>
                    <a:pt x="887" y="325"/>
                  </a:lnTo>
                  <a:lnTo>
                    <a:pt x="881" y="325"/>
                  </a:lnTo>
                  <a:lnTo>
                    <a:pt x="877" y="325"/>
                  </a:lnTo>
                  <a:lnTo>
                    <a:pt x="868" y="325"/>
                  </a:lnTo>
                  <a:lnTo>
                    <a:pt x="861" y="323"/>
                  </a:lnTo>
                  <a:lnTo>
                    <a:pt x="855" y="321"/>
                  </a:lnTo>
                  <a:lnTo>
                    <a:pt x="849" y="317"/>
                  </a:lnTo>
                  <a:lnTo>
                    <a:pt x="844" y="313"/>
                  </a:lnTo>
                  <a:lnTo>
                    <a:pt x="839" y="308"/>
                  </a:lnTo>
                  <a:lnTo>
                    <a:pt x="835" y="300"/>
                  </a:lnTo>
                  <a:lnTo>
                    <a:pt x="830" y="294"/>
                  </a:lnTo>
                  <a:lnTo>
                    <a:pt x="828" y="294"/>
                  </a:lnTo>
                  <a:lnTo>
                    <a:pt x="828" y="300"/>
                  </a:lnTo>
                  <a:lnTo>
                    <a:pt x="827" y="309"/>
                  </a:lnTo>
                  <a:lnTo>
                    <a:pt x="826" y="320"/>
                  </a:lnTo>
                  <a:lnTo>
                    <a:pt x="824" y="334"/>
                  </a:lnTo>
                  <a:lnTo>
                    <a:pt x="822" y="351"/>
                  </a:lnTo>
                  <a:lnTo>
                    <a:pt x="820" y="371"/>
                  </a:lnTo>
                  <a:lnTo>
                    <a:pt x="817" y="394"/>
                  </a:lnTo>
                  <a:lnTo>
                    <a:pt x="813" y="420"/>
                  </a:lnTo>
                  <a:lnTo>
                    <a:pt x="735" y="420"/>
                  </a:lnTo>
                  <a:close/>
                  <a:moveTo>
                    <a:pt x="1091" y="287"/>
                  </a:moveTo>
                  <a:lnTo>
                    <a:pt x="1085" y="296"/>
                  </a:lnTo>
                  <a:lnTo>
                    <a:pt x="1078" y="303"/>
                  </a:lnTo>
                  <a:lnTo>
                    <a:pt x="1070" y="311"/>
                  </a:lnTo>
                  <a:lnTo>
                    <a:pt x="1061" y="317"/>
                  </a:lnTo>
                  <a:lnTo>
                    <a:pt x="1058" y="320"/>
                  </a:lnTo>
                  <a:lnTo>
                    <a:pt x="1054" y="322"/>
                  </a:lnTo>
                  <a:lnTo>
                    <a:pt x="1050" y="325"/>
                  </a:lnTo>
                  <a:lnTo>
                    <a:pt x="1046" y="326"/>
                  </a:lnTo>
                  <a:lnTo>
                    <a:pt x="1042" y="328"/>
                  </a:lnTo>
                  <a:lnTo>
                    <a:pt x="1037" y="329"/>
                  </a:lnTo>
                  <a:lnTo>
                    <a:pt x="1033" y="330"/>
                  </a:lnTo>
                  <a:lnTo>
                    <a:pt x="1027" y="330"/>
                  </a:lnTo>
                  <a:lnTo>
                    <a:pt x="1022" y="330"/>
                  </a:lnTo>
                  <a:lnTo>
                    <a:pt x="1017" y="329"/>
                  </a:lnTo>
                  <a:lnTo>
                    <a:pt x="1013" y="327"/>
                  </a:lnTo>
                  <a:lnTo>
                    <a:pt x="1009" y="325"/>
                  </a:lnTo>
                  <a:lnTo>
                    <a:pt x="1005" y="322"/>
                  </a:lnTo>
                  <a:lnTo>
                    <a:pt x="1001" y="319"/>
                  </a:lnTo>
                  <a:lnTo>
                    <a:pt x="997" y="315"/>
                  </a:lnTo>
                  <a:lnTo>
                    <a:pt x="994" y="310"/>
                  </a:lnTo>
                  <a:lnTo>
                    <a:pt x="991" y="306"/>
                  </a:lnTo>
                  <a:lnTo>
                    <a:pt x="988" y="300"/>
                  </a:lnTo>
                  <a:lnTo>
                    <a:pt x="986" y="294"/>
                  </a:lnTo>
                  <a:lnTo>
                    <a:pt x="984" y="288"/>
                  </a:lnTo>
                  <a:lnTo>
                    <a:pt x="982" y="280"/>
                  </a:lnTo>
                  <a:lnTo>
                    <a:pt x="980" y="273"/>
                  </a:lnTo>
                  <a:lnTo>
                    <a:pt x="979" y="264"/>
                  </a:lnTo>
                  <a:lnTo>
                    <a:pt x="979" y="254"/>
                  </a:lnTo>
                  <a:lnTo>
                    <a:pt x="979" y="251"/>
                  </a:lnTo>
                  <a:lnTo>
                    <a:pt x="979" y="248"/>
                  </a:lnTo>
                  <a:lnTo>
                    <a:pt x="979" y="244"/>
                  </a:lnTo>
                  <a:lnTo>
                    <a:pt x="979" y="240"/>
                  </a:lnTo>
                  <a:lnTo>
                    <a:pt x="979" y="235"/>
                  </a:lnTo>
                  <a:lnTo>
                    <a:pt x="982" y="231"/>
                  </a:lnTo>
                  <a:lnTo>
                    <a:pt x="983" y="228"/>
                  </a:lnTo>
                  <a:lnTo>
                    <a:pt x="983" y="224"/>
                  </a:lnTo>
                  <a:lnTo>
                    <a:pt x="984" y="214"/>
                  </a:lnTo>
                  <a:lnTo>
                    <a:pt x="985" y="204"/>
                  </a:lnTo>
                  <a:lnTo>
                    <a:pt x="987" y="196"/>
                  </a:lnTo>
                  <a:lnTo>
                    <a:pt x="989" y="188"/>
                  </a:lnTo>
                  <a:lnTo>
                    <a:pt x="991" y="180"/>
                  </a:lnTo>
                  <a:lnTo>
                    <a:pt x="994" y="173"/>
                  </a:lnTo>
                  <a:lnTo>
                    <a:pt x="996" y="166"/>
                  </a:lnTo>
                  <a:lnTo>
                    <a:pt x="999" y="160"/>
                  </a:lnTo>
                  <a:lnTo>
                    <a:pt x="1003" y="153"/>
                  </a:lnTo>
                  <a:lnTo>
                    <a:pt x="1007" y="147"/>
                  </a:lnTo>
                  <a:lnTo>
                    <a:pt x="1011" y="141"/>
                  </a:lnTo>
                  <a:lnTo>
                    <a:pt x="1014" y="136"/>
                  </a:lnTo>
                  <a:lnTo>
                    <a:pt x="1018" y="131"/>
                  </a:lnTo>
                  <a:lnTo>
                    <a:pt x="1022" y="127"/>
                  </a:lnTo>
                  <a:lnTo>
                    <a:pt x="1026" y="123"/>
                  </a:lnTo>
                  <a:lnTo>
                    <a:pt x="1032" y="120"/>
                  </a:lnTo>
                  <a:lnTo>
                    <a:pt x="1035" y="118"/>
                  </a:lnTo>
                  <a:lnTo>
                    <a:pt x="1039" y="115"/>
                  </a:lnTo>
                  <a:lnTo>
                    <a:pt x="1043" y="114"/>
                  </a:lnTo>
                  <a:lnTo>
                    <a:pt x="1047" y="112"/>
                  </a:lnTo>
                  <a:lnTo>
                    <a:pt x="1051" y="111"/>
                  </a:lnTo>
                  <a:lnTo>
                    <a:pt x="1055" y="111"/>
                  </a:lnTo>
                  <a:lnTo>
                    <a:pt x="1059" y="110"/>
                  </a:lnTo>
                  <a:lnTo>
                    <a:pt x="1063" y="110"/>
                  </a:lnTo>
                  <a:lnTo>
                    <a:pt x="1071" y="111"/>
                  </a:lnTo>
                  <a:lnTo>
                    <a:pt x="1080" y="112"/>
                  </a:lnTo>
                  <a:lnTo>
                    <a:pt x="1086" y="115"/>
                  </a:lnTo>
                  <a:lnTo>
                    <a:pt x="1092" y="119"/>
                  </a:lnTo>
                  <a:lnTo>
                    <a:pt x="1097" y="125"/>
                  </a:lnTo>
                  <a:lnTo>
                    <a:pt x="1102" y="131"/>
                  </a:lnTo>
                  <a:lnTo>
                    <a:pt x="1106" y="138"/>
                  </a:lnTo>
                  <a:lnTo>
                    <a:pt x="1110" y="145"/>
                  </a:lnTo>
                  <a:lnTo>
                    <a:pt x="1110" y="145"/>
                  </a:lnTo>
                  <a:lnTo>
                    <a:pt x="1112" y="112"/>
                  </a:lnTo>
                  <a:lnTo>
                    <a:pt x="1194" y="112"/>
                  </a:lnTo>
                  <a:lnTo>
                    <a:pt x="1158" y="323"/>
                  </a:lnTo>
                  <a:lnTo>
                    <a:pt x="1082" y="323"/>
                  </a:lnTo>
                  <a:lnTo>
                    <a:pt x="1091" y="287"/>
                  </a:lnTo>
                  <a:lnTo>
                    <a:pt x="1091" y="287"/>
                  </a:lnTo>
                  <a:close/>
                  <a:moveTo>
                    <a:pt x="1060" y="237"/>
                  </a:moveTo>
                  <a:lnTo>
                    <a:pt x="1060" y="247"/>
                  </a:lnTo>
                  <a:lnTo>
                    <a:pt x="1062" y="254"/>
                  </a:lnTo>
                  <a:lnTo>
                    <a:pt x="1065" y="260"/>
                  </a:lnTo>
                  <a:lnTo>
                    <a:pt x="1070" y="264"/>
                  </a:lnTo>
                  <a:lnTo>
                    <a:pt x="1074" y="261"/>
                  </a:lnTo>
                  <a:lnTo>
                    <a:pt x="1078" y="259"/>
                  </a:lnTo>
                  <a:lnTo>
                    <a:pt x="1082" y="258"/>
                  </a:lnTo>
                  <a:lnTo>
                    <a:pt x="1085" y="254"/>
                  </a:lnTo>
                  <a:lnTo>
                    <a:pt x="1088" y="251"/>
                  </a:lnTo>
                  <a:lnTo>
                    <a:pt x="1090" y="247"/>
                  </a:lnTo>
                  <a:lnTo>
                    <a:pt x="1091" y="243"/>
                  </a:lnTo>
                  <a:lnTo>
                    <a:pt x="1092" y="238"/>
                  </a:lnTo>
                  <a:lnTo>
                    <a:pt x="1094" y="234"/>
                  </a:lnTo>
                  <a:lnTo>
                    <a:pt x="1096" y="229"/>
                  </a:lnTo>
                  <a:lnTo>
                    <a:pt x="1097" y="224"/>
                  </a:lnTo>
                  <a:lnTo>
                    <a:pt x="1098" y="219"/>
                  </a:lnTo>
                  <a:lnTo>
                    <a:pt x="1098" y="214"/>
                  </a:lnTo>
                  <a:lnTo>
                    <a:pt x="1099" y="209"/>
                  </a:lnTo>
                  <a:lnTo>
                    <a:pt x="1099" y="204"/>
                  </a:lnTo>
                  <a:lnTo>
                    <a:pt x="1099" y="202"/>
                  </a:lnTo>
                  <a:lnTo>
                    <a:pt x="1099" y="202"/>
                  </a:lnTo>
                  <a:lnTo>
                    <a:pt x="1099" y="201"/>
                  </a:lnTo>
                  <a:lnTo>
                    <a:pt x="1099" y="199"/>
                  </a:lnTo>
                  <a:lnTo>
                    <a:pt x="1099" y="197"/>
                  </a:lnTo>
                  <a:lnTo>
                    <a:pt x="1099" y="197"/>
                  </a:lnTo>
                  <a:lnTo>
                    <a:pt x="1099" y="196"/>
                  </a:lnTo>
                  <a:lnTo>
                    <a:pt x="1099" y="194"/>
                  </a:lnTo>
                  <a:lnTo>
                    <a:pt x="1099" y="193"/>
                  </a:lnTo>
                  <a:lnTo>
                    <a:pt x="1098" y="184"/>
                  </a:lnTo>
                  <a:lnTo>
                    <a:pt x="1097" y="178"/>
                  </a:lnTo>
                  <a:lnTo>
                    <a:pt x="1094" y="175"/>
                  </a:lnTo>
                  <a:lnTo>
                    <a:pt x="1089" y="174"/>
                  </a:lnTo>
                  <a:lnTo>
                    <a:pt x="1085" y="174"/>
                  </a:lnTo>
                  <a:lnTo>
                    <a:pt x="1082" y="175"/>
                  </a:lnTo>
                  <a:lnTo>
                    <a:pt x="1078" y="176"/>
                  </a:lnTo>
                  <a:lnTo>
                    <a:pt x="1076" y="179"/>
                  </a:lnTo>
                  <a:lnTo>
                    <a:pt x="1073" y="182"/>
                  </a:lnTo>
                  <a:lnTo>
                    <a:pt x="1070" y="186"/>
                  </a:lnTo>
                  <a:lnTo>
                    <a:pt x="1068" y="192"/>
                  </a:lnTo>
                  <a:lnTo>
                    <a:pt x="1065" y="198"/>
                  </a:lnTo>
                  <a:lnTo>
                    <a:pt x="1063" y="207"/>
                  </a:lnTo>
                  <a:lnTo>
                    <a:pt x="1062" y="216"/>
                  </a:lnTo>
                  <a:lnTo>
                    <a:pt x="1061" y="226"/>
                  </a:lnTo>
                  <a:lnTo>
                    <a:pt x="1060" y="237"/>
                  </a:lnTo>
                  <a:close/>
                  <a:moveTo>
                    <a:pt x="1201" y="323"/>
                  </a:moveTo>
                  <a:lnTo>
                    <a:pt x="1234" y="112"/>
                  </a:lnTo>
                  <a:lnTo>
                    <a:pt x="1314" y="112"/>
                  </a:lnTo>
                  <a:lnTo>
                    <a:pt x="1303" y="152"/>
                  </a:lnTo>
                  <a:lnTo>
                    <a:pt x="1303" y="152"/>
                  </a:lnTo>
                  <a:lnTo>
                    <a:pt x="1306" y="147"/>
                  </a:lnTo>
                  <a:lnTo>
                    <a:pt x="1309" y="142"/>
                  </a:lnTo>
                  <a:lnTo>
                    <a:pt x="1312" y="138"/>
                  </a:lnTo>
                  <a:lnTo>
                    <a:pt x="1316" y="133"/>
                  </a:lnTo>
                  <a:lnTo>
                    <a:pt x="1320" y="130"/>
                  </a:lnTo>
                  <a:lnTo>
                    <a:pt x="1324" y="126"/>
                  </a:lnTo>
                  <a:lnTo>
                    <a:pt x="1328" y="123"/>
                  </a:lnTo>
                  <a:lnTo>
                    <a:pt x="1332" y="120"/>
                  </a:lnTo>
                  <a:lnTo>
                    <a:pt x="1336" y="117"/>
                  </a:lnTo>
                  <a:lnTo>
                    <a:pt x="1340" y="115"/>
                  </a:lnTo>
                  <a:lnTo>
                    <a:pt x="1344" y="113"/>
                  </a:lnTo>
                  <a:lnTo>
                    <a:pt x="1349" y="112"/>
                  </a:lnTo>
                  <a:lnTo>
                    <a:pt x="1353" y="111"/>
                  </a:lnTo>
                  <a:lnTo>
                    <a:pt x="1357" y="110"/>
                  </a:lnTo>
                  <a:lnTo>
                    <a:pt x="1362" y="110"/>
                  </a:lnTo>
                  <a:lnTo>
                    <a:pt x="1366" y="110"/>
                  </a:lnTo>
                  <a:lnTo>
                    <a:pt x="1371" y="110"/>
                  </a:lnTo>
                  <a:lnTo>
                    <a:pt x="1377" y="111"/>
                  </a:lnTo>
                  <a:lnTo>
                    <a:pt x="1382" y="112"/>
                  </a:lnTo>
                  <a:lnTo>
                    <a:pt x="1386" y="113"/>
                  </a:lnTo>
                  <a:lnTo>
                    <a:pt x="1390" y="115"/>
                  </a:lnTo>
                  <a:lnTo>
                    <a:pt x="1394" y="117"/>
                  </a:lnTo>
                  <a:lnTo>
                    <a:pt x="1397" y="120"/>
                  </a:lnTo>
                  <a:lnTo>
                    <a:pt x="1400" y="124"/>
                  </a:lnTo>
                  <a:lnTo>
                    <a:pt x="1403" y="128"/>
                  </a:lnTo>
                  <a:lnTo>
                    <a:pt x="1405" y="132"/>
                  </a:lnTo>
                  <a:lnTo>
                    <a:pt x="1407" y="136"/>
                  </a:lnTo>
                  <a:lnTo>
                    <a:pt x="1409" y="141"/>
                  </a:lnTo>
                  <a:lnTo>
                    <a:pt x="1410" y="146"/>
                  </a:lnTo>
                  <a:lnTo>
                    <a:pt x="1411" y="151"/>
                  </a:lnTo>
                  <a:lnTo>
                    <a:pt x="1412" y="156"/>
                  </a:lnTo>
                  <a:lnTo>
                    <a:pt x="1412" y="162"/>
                  </a:lnTo>
                  <a:lnTo>
                    <a:pt x="1412" y="166"/>
                  </a:lnTo>
                  <a:lnTo>
                    <a:pt x="1412" y="171"/>
                  </a:lnTo>
                  <a:lnTo>
                    <a:pt x="1411" y="177"/>
                  </a:lnTo>
                  <a:lnTo>
                    <a:pt x="1409" y="183"/>
                  </a:lnTo>
                  <a:lnTo>
                    <a:pt x="1388" y="323"/>
                  </a:lnTo>
                  <a:lnTo>
                    <a:pt x="1309" y="323"/>
                  </a:lnTo>
                  <a:lnTo>
                    <a:pt x="1325" y="219"/>
                  </a:lnTo>
                  <a:lnTo>
                    <a:pt x="1325" y="218"/>
                  </a:lnTo>
                  <a:lnTo>
                    <a:pt x="1326" y="217"/>
                  </a:lnTo>
                  <a:lnTo>
                    <a:pt x="1327" y="214"/>
                  </a:lnTo>
                  <a:lnTo>
                    <a:pt x="1329" y="212"/>
                  </a:lnTo>
                  <a:lnTo>
                    <a:pt x="1329" y="209"/>
                  </a:lnTo>
                  <a:lnTo>
                    <a:pt x="1329" y="205"/>
                  </a:lnTo>
                  <a:lnTo>
                    <a:pt x="1329" y="202"/>
                  </a:lnTo>
                  <a:lnTo>
                    <a:pt x="1329" y="200"/>
                  </a:lnTo>
                  <a:lnTo>
                    <a:pt x="1328" y="194"/>
                  </a:lnTo>
                  <a:lnTo>
                    <a:pt x="1326" y="189"/>
                  </a:lnTo>
                  <a:lnTo>
                    <a:pt x="1321" y="187"/>
                  </a:lnTo>
                  <a:lnTo>
                    <a:pt x="1317" y="186"/>
                  </a:lnTo>
                  <a:lnTo>
                    <a:pt x="1312" y="186"/>
                  </a:lnTo>
                  <a:lnTo>
                    <a:pt x="1307" y="188"/>
                  </a:lnTo>
                  <a:lnTo>
                    <a:pt x="1304" y="191"/>
                  </a:lnTo>
                  <a:lnTo>
                    <a:pt x="1302" y="195"/>
                  </a:lnTo>
                  <a:lnTo>
                    <a:pt x="1300" y="200"/>
                  </a:lnTo>
                  <a:lnTo>
                    <a:pt x="1298" y="207"/>
                  </a:lnTo>
                  <a:lnTo>
                    <a:pt x="1296" y="214"/>
                  </a:lnTo>
                  <a:lnTo>
                    <a:pt x="1295" y="224"/>
                  </a:lnTo>
                  <a:lnTo>
                    <a:pt x="1279" y="323"/>
                  </a:lnTo>
                  <a:lnTo>
                    <a:pt x="1201" y="323"/>
                  </a:lnTo>
                  <a:close/>
                  <a:moveTo>
                    <a:pt x="1429" y="323"/>
                  </a:moveTo>
                  <a:lnTo>
                    <a:pt x="1479" y="3"/>
                  </a:lnTo>
                  <a:lnTo>
                    <a:pt x="1558" y="3"/>
                  </a:lnTo>
                  <a:lnTo>
                    <a:pt x="1557" y="12"/>
                  </a:lnTo>
                  <a:lnTo>
                    <a:pt x="1555" y="20"/>
                  </a:lnTo>
                  <a:lnTo>
                    <a:pt x="1554" y="27"/>
                  </a:lnTo>
                  <a:lnTo>
                    <a:pt x="1553" y="34"/>
                  </a:lnTo>
                  <a:lnTo>
                    <a:pt x="1552" y="41"/>
                  </a:lnTo>
                  <a:lnTo>
                    <a:pt x="1551" y="48"/>
                  </a:lnTo>
                  <a:lnTo>
                    <a:pt x="1550" y="55"/>
                  </a:lnTo>
                  <a:lnTo>
                    <a:pt x="1549" y="62"/>
                  </a:lnTo>
                  <a:lnTo>
                    <a:pt x="1548" y="68"/>
                  </a:lnTo>
                  <a:lnTo>
                    <a:pt x="1547" y="74"/>
                  </a:lnTo>
                  <a:lnTo>
                    <a:pt x="1546" y="80"/>
                  </a:lnTo>
                  <a:lnTo>
                    <a:pt x="1545" y="86"/>
                  </a:lnTo>
                  <a:lnTo>
                    <a:pt x="1543" y="92"/>
                  </a:lnTo>
                  <a:lnTo>
                    <a:pt x="1542" y="99"/>
                  </a:lnTo>
                  <a:lnTo>
                    <a:pt x="1541" y="105"/>
                  </a:lnTo>
                  <a:lnTo>
                    <a:pt x="1540" y="112"/>
                  </a:lnTo>
                  <a:lnTo>
                    <a:pt x="1539" y="117"/>
                  </a:lnTo>
                  <a:lnTo>
                    <a:pt x="1538" y="122"/>
                  </a:lnTo>
                  <a:lnTo>
                    <a:pt x="1537" y="128"/>
                  </a:lnTo>
                  <a:lnTo>
                    <a:pt x="1536" y="132"/>
                  </a:lnTo>
                  <a:lnTo>
                    <a:pt x="1535" y="137"/>
                  </a:lnTo>
                  <a:lnTo>
                    <a:pt x="1535" y="142"/>
                  </a:lnTo>
                  <a:lnTo>
                    <a:pt x="1534" y="146"/>
                  </a:lnTo>
                  <a:lnTo>
                    <a:pt x="1533" y="150"/>
                  </a:lnTo>
                  <a:lnTo>
                    <a:pt x="1533" y="150"/>
                  </a:lnTo>
                  <a:lnTo>
                    <a:pt x="1536" y="145"/>
                  </a:lnTo>
                  <a:lnTo>
                    <a:pt x="1540" y="140"/>
                  </a:lnTo>
                  <a:lnTo>
                    <a:pt x="1543" y="136"/>
                  </a:lnTo>
                  <a:lnTo>
                    <a:pt x="1547" y="132"/>
                  </a:lnTo>
                  <a:lnTo>
                    <a:pt x="1550" y="128"/>
                  </a:lnTo>
                  <a:lnTo>
                    <a:pt x="1554" y="125"/>
                  </a:lnTo>
                  <a:lnTo>
                    <a:pt x="1557" y="122"/>
                  </a:lnTo>
                  <a:lnTo>
                    <a:pt x="1561" y="119"/>
                  </a:lnTo>
                  <a:lnTo>
                    <a:pt x="1565" y="117"/>
                  </a:lnTo>
                  <a:lnTo>
                    <a:pt x="1570" y="115"/>
                  </a:lnTo>
                  <a:lnTo>
                    <a:pt x="1575" y="114"/>
                  </a:lnTo>
                  <a:lnTo>
                    <a:pt x="1579" y="112"/>
                  </a:lnTo>
                  <a:lnTo>
                    <a:pt x="1584" y="111"/>
                  </a:lnTo>
                  <a:lnTo>
                    <a:pt x="1588" y="111"/>
                  </a:lnTo>
                  <a:lnTo>
                    <a:pt x="1593" y="110"/>
                  </a:lnTo>
                  <a:lnTo>
                    <a:pt x="1597" y="110"/>
                  </a:lnTo>
                  <a:lnTo>
                    <a:pt x="1601" y="110"/>
                  </a:lnTo>
                  <a:lnTo>
                    <a:pt x="1605" y="111"/>
                  </a:lnTo>
                  <a:lnTo>
                    <a:pt x="1609" y="112"/>
                  </a:lnTo>
                  <a:lnTo>
                    <a:pt x="1614" y="113"/>
                  </a:lnTo>
                  <a:lnTo>
                    <a:pt x="1618" y="115"/>
                  </a:lnTo>
                  <a:lnTo>
                    <a:pt x="1622" y="117"/>
                  </a:lnTo>
                  <a:lnTo>
                    <a:pt x="1625" y="120"/>
                  </a:lnTo>
                  <a:lnTo>
                    <a:pt x="1628" y="124"/>
                  </a:lnTo>
                  <a:lnTo>
                    <a:pt x="1631" y="128"/>
                  </a:lnTo>
                  <a:lnTo>
                    <a:pt x="1633" y="133"/>
                  </a:lnTo>
                  <a:lnTo>
                    <a:pt x="1635" y="137"/>
                  </a:lnTo>
                  <a:lnTo>
                    <a:pt x="1637" y="142"/>
                  </a:lnTo>
                  <a:lnTo>
                    <a:pt x="1638" y="146"/>
                  </a:lnTo>
                  <a:lnTo>
                    <a:pt x="1639" y="151"/>
                  </a:lnTo>
                  <a:lnTo>
                    <a:pt x="1640" y="156"/>
                  </a:lnTo>
                  <a:lnTo>
                    <a:pt x="1640" y="162"/>
                  </a:lnTo>
                  <a:lnTo>
                    <a:pt x="1640" y="165"/>
                  </a:lnTo>
                  <a:lnTo>
                    <a:pt x="1640" y="169"/>
                  </a:lnTo>
                  <a:lnTo>
                    <a:pt x="1639" y="173"/>
                  </a:lnTo>
                  <a:lnTo>
                    <a:pt x="1639" y="178"/>
                  </a:lnTo>
                  <a:lnTo>
                    <a:pt x="1638" y="183"/>
                  </a:lnTo>
                  <a:lnTo>
                    <a:pt x="1637" y="190"/>
                  </a:lnTo>
                  <a:lnTo>
                    <a:pt x="1636" y="196"/>
                  </a:lnTo>
                  <a:lnTo>
                    <a:pt x="1635" y="204"/>
                  </a:lnTo>
                  <a:lnTo>
                    <a:pt x="1615" y="323"/>
                  </a:lnTo>
                  <a:lnTo>
                    <a:pt x="1537" y="323"/>
                  </a:lnTo>
                  <a:lnTo>
                    <a:pt x="1556" y="210"/>
                  </a:lnTo>
                  <a:lnTo>
                    <a:pt x="1556" y="210"/>
                  </a:lnTo>
                  <a:lnTo>
                    <a:pt x="1556" y="209"/>
                  </a:lnTo>
                  <a:lnTo>
                    <a:pt x="1556" y="207"/>
                  </a:lnTo>
                  <a:lnTo>
                    <a:pt x="1556" y="204"/>
                  </a:lnTo>
                  <a:lnTo>
                    <a:pt x="1556" y="204"/>
                  </a:lnTo>
                  <a:lnTo>
                    <a:pt x="1556" y="203"/>
                  </a:lnTo>
                  <a:lnTo>
                    <a:pt x="1556" y="201"/>
                  </a:lnTo>
                  <a:lnTo>
                    <a:pt x="1556" y="200"/>
                  </a:lnTo>
                  <a:lnTo>
                    <a:pt x="1556" y="194"/>
                  </a:lnTo>
                  <a:lnTo>
                    <a:pt x="1554" y="189"/>
                  </a:lnTo>
                  <a:lnTo>
                    <a:pt x="1551" y="187"/>
                  </a:lnTo>
                  <a:lnTo>
                    <a:pt x="1547" y="186"/>
                  </a:lnTo>
                  <a:lnTo>
                    <a:pt x="1542" y="186"/>
                  </a:lnTo>
                  <a:lnTo>
                    <a:pt x="1538" y="187"/>
                  </a:lnTo>
                  <a:lnTo>
                    <a:pt x="1535" y="189"/>
                  </a:lnTo>
                  <a:lnTo>
                    <a:pt x="1533" y="190"/>
                  </a:lnTo>
                  <a:lnTo>
                    <a:pt x="1531" y="194"/>
                  </a:lnTo>
                  <a:lnTo>
                    <a:pt x="1529" y="197"/>
                  </a:lnTo>
                  <a:lnTo>
                    <a:pt x="1528" y="201"/>
                  </a:lnTo>
                  <a:lnTo>
                    <a:pt x="1528" y="204"/>
                  </a:lnTo>
                  <a:lnTo>
                    <a:pt x="1527" y="209"/>
                  </a:lnTo>
                  <a:lnTo>
                    <a:pt x="1526" y="212"/>
                  </a:lnTo>
                  <a:lnTo>
                    <a:pt x="1525" y="216"/>
                  </a:lnTo>
                  <a:lnTo>
                    <a:pt x="1523" y="219"/>
                  </a:lnTo>
                  <a:lnTo>
                    <a:pt x="1507" y="323"/>
                  </a:lnTo>
                  <a:lnTo>
                    <a:pt x="1429" y="323"/>
                  </a:lnTo>
                  <a:close/>
                  <a:moveTo>
                    <a:pt x="1692" y="48"/>
                  </a:moveTo>
                  <a:lnTo>
                    <a:pt x="1692" y="44"/>
                  </a:lnTo>
                  <a:lnTo>
                    <a:pt x="1693" y="40"/>
                  </a:lnTo>
                  <a:lnTo>
                    <a:pt x="1694" y="36"/>
                  </a:lnTo>
                  <a:lnTo>
                    <a:pt x="1696" y="32"/>
                  </a:lnTo>
                  <a:lnTo>
                    <a:pt x="1698" y="28"/>
                  </a:lnTo>
                  <a:lnTo>
                    <a:pt x="1700" y="24"/>
                  </a:lnTo>
                  <a:lnTo>
                    <a:pt x="1703" y="20"/>
                  </a:lnTo>
                  <a:lnTo>
                    <a:pt x="1706" y="17"/>
                  </a:lnTo>
                  <a:lnTo>
                    <a:pt x="1711" y="13"/>
                  </a:lnTo>
                  <a:lnTo>
                    <a:pt x="1717" y="10"/>
                  </a:lnTo>
                  <a:lnTo>
                    <a:pt x="1721" y="6"/>
                  </a:lnTo>
                  <a:lnTo>
                    <a:pt x="1726" y="4"/>
                  </a:lnTo>
                  <a:lnTo>
                    <a:pt x="1730" y="2"/>
                  </a:lnTo>
                  <a:lnTo>
                    <a:pt x="1734" y="1"/>
                  </a:lnTo>
                  <a:lnTo>
                    <a:pt x="1738" y="0"/>
                  </a:lnTo>
                  <a:lnTo>
                    <a:pt x="1742" y="0"/>
                  </a:lnTo>
                  <a:lnTo>
                    <a:pt x="1747" y="0"/>
                  </a:lnTo>
                  <a:lnTo>
                    <a:pt x="1751" y="1"/>
                  </a:lnTo>
                  <a:lnTo>
                    <a:pt x="1755" y="2"/>
                  </a:lnTo>
                  <a:lnTo>
                    <a:pt x="1759" y="3"/>
                  </a:lnTo>
                  <a:lnTo>
                    <a:pt x="1764" y="5"/>
                  </a:lnTo>
                  <a:lnTo>
                    <a:pt x="1767" y="7"/>
                  </a:lnTo>
                  <a:lnTo>
                    <a:pt x="1770" y="10"/>
                  </a:lnTo>
                  <a:lnTo>
                    <a:pt x="1773" y="13"/>
                  </a:lnTo>
                  <a:lnTo>
                    <a:pt x="1779" y="19"/>
                  </a:lnTo>
                  <a:lnTo>
                    <a:pt x="1782" y="26"/>
                  </a:lnTo>
                  <a:lnTo>
                    <a:pt x="1784" y="33"/>
                  </a:lnTo>
                  <a:lnTo>
                    <a:pt x="1784" y="39"/>
                  </a:lnTo>
                  <a:lnTo>
                    <a:pt x="1784" y="44"/>
                  </a:lnTo>
                  <a:lnTo>
                    <a:pt x="1783" y="50"/>
                  </a:lnTo>
                  <a:lnTo>
                    <a:pt x="1782" y="55"/>
                  </a:lnTo>
                  <a:lnTo>
                    <a:pt x="1781" y="60"/>
                  </a:lnTo>
                  <a:lnTo>
                    <a:pt x="1779" y="65"/>
                  </a:lnTo>
                  <a:lnTo>
                    <a:pt x="1776" y="69"/>
                  </a:lnTo>
                  <a:lnTo>
                    <a:pt x="1773" y="72"/>
                  </a:lnTo>
                  <a:lnTo>
                    <a:pt x="1770" y="76"/>
                  </a:lnTo>
                  <a:lnTo>
                    <a:pt x="1765" y="79"/>
                  </a:lnTo>
                  <a:lnTo>
                    <a:pt x="1760" y="81"/>
                  </a:lnTo>
                  <a:lnTo>
                    <a:pt x="1755" y="84"/>
                  </a:lnTo>
                  <a:lnTo>
                    <a:pt x="1751" y="86"/>
                  </a:lnTo>
                  <a:lnTo>
                    <a:pt x="1746" y="87"/>
                  </a:lnTo>
                  <a:lnTo>
                    <a:pt x="1742" y="89"/>
                  </a:lnTo>
                  <a:lnTo>
                    <a:pt x="1737" y="90"/>
                  </a:lnTo>
                  <a:lnTo>
                    <a:pt x="1732" y="90"/>
                  </a:lnTo>
                  <a:lnTo>
                    <a:pt x="1724" y="89"/>
                  </a:lnTo>
                  <a:lnTo>
                    <a:pt x="1716" y="87"/>
                  </a:lnTo>
                  <a:lnTo>
                    <a:pt x="1709" y="84"/>
                  </a:lnTo>
                  <a:lnTo>
                    <a:pt x="1703" y="81"/>
                  </a:lnTo>
                  <a:lnTo>
                    <a:pt x="1701" y="78"/>
                  </a:lnTo>
                  <a:lnTo>
                    <a:pt x="1698" y="75"/>
                  </a:lnTo>
                  <a:lnTo>
                    <a:pt x="1696" y="71"/>
                  </a:lnTo>
                  <a:lnTo>
                    <a:pt x="1695" y="68"/>
                  </a:lnTo>
                  <a:lnTo>
                    <a:pt x="1694" y="63"/>
                  </a:lnTo>
                  <a:lnTo>
                    <a:pt x="1693" y="58"/>
                  </a:lnTo>
                  <a:lnTo>
                    <a:pt x="1692" y="53"/>
                  </a:lnTo>
                  <a:lnTo>
                    <a:pt x="1692" y="48"/>
                  </a:lnTo>
                  <a:lnTo>
                    <a:pt x="1692" y="48"/>
                  </a:lnTo>
                  <a:close/>
                  <a:moveTo>
                    <a:pt x="1654" y="323"/>
                  </a:moveTo>
                  <a:lnTo>
                    <a:pt x="1689" y="112"/>
                  </a:lnTo>
                  <a:lnTo>
                    <a:pt x="1768" y="112"/>
                  </a:lnTo>
                  <a:lnTo>
                    <a:pt x="1734" y="323"/>
                  </a:lnTo>
                  <a:lnTo>
                    <a:pt x="1654" y="323"/>
                  </a:lnTo>
                  <a:close/>
                  <a:moveTo>
                    <a:pt x="1893" y="287"/>
                  </a:moveTo>
                  <a:lnTo>
                    <a:pt x="1890" y="291"/>
                  </a:lnTo>
                  <a:lnTo>
                    <a:pt x="1886" y="296"/>
                  </a:lnTo>
                  <a:lnTo>
                    <a:pt x="1883" y="300"/>
                  </a:lnTo>
                  <a:lnTo>
                    <a:pt x="1879" y="303"/>
                  </a:lnTo>
                  <a:lnTo>
                    <a:pt x="1875" y="308"/>
                  </a:lnTo>
                  <a:lnTo>
                    <a:pt x="1871" y="311"/>
                  </a:lnTo>
                  <a:lnTo>
                    <a:pt x="1867" y="314"/>
                  </a:lnTo>
                  <a:lnTo>
                    <a:pt x="1863" y="317"/>
                  </a:lnTo>
                  <a:lnTo>
                    <a:pt x="1858" y="320"/>
                  </a:lnTo>
                  <a:lnTo>
                    <a:pt x="1855" y="322"/>
                  </a:lnTo>
                  <a:lnTo>
                    <a:pt x="1851" y="325"/>
                  </a:lnTo>
                  <a:lnTo>
                    <a:pt x="1847" y="326"/>
                  </a:lnTo>
                  <a:lnTo>
                    <a:pt x="1843" y="328"/>
                  </a:lnTo>
                  <a:lnTo>
                    <a:pt x="1838" y="329"/>
                  </a:lnTo>
                  <a:lnTo>
                    <a:pt x="1834" y="330"/>
                  </a:lnTo>
                  <a:lnTo>
                    <a:pt x="1830" y="330"/>
                  </a:lnTo>
                  <a:lnTo>
                    <a:pt x="1825" y="330"/>
                  </a:lnTo>
                  <a:lnTo>
                    <a:pt x="1820" y="329"/>
                  </a:lnTo>
                  <a:lnTo>
                    <a:pt x="1815" y="327"/>
                  </a:lnTo>
                  <a:lnTo>
                    <a:pt x="1810" y="325"/>
                  </a:lnTo>
                  <a:lnTo>
                    <a:pt x="1806" y="322"/>
                  </a:lnTo>
                  <a:lnTo>
                    <a:pt x="1802" y="319"/>
                  </a:lnTo>
                  <a:lnTo>
                    <a:pt x="1799" y="315"/>
                  </a:lnTo>
                  <a:lnTo>
                    <a:pt x="1796" y="310"/>
                  </a:lnTo>
                  <a:lnTo>
                    <a:pt x="1793" y="306"/>
                  </a:lnTo>
                  <a:lnTo>
                    <a:pt x="1790" y="300"/>
                  </a:lnTo>
                  <a:lnTo>
                    <a:pt x="1788" y="294"/>
                  </a:lnTo>
                  <a:lnTo>
                    <a:pt x="1786" y="288"/>
                  </a:lnTo>
                  <a:lnTo>
                    <a:pt x="1784" y="280"/>
                  </a:lnTo>
                  <a:lnTo>
                    <a:pt x="1783" y="273"/>
                  </a:lnTo>
                  <a:lnTo>
                    <a:pt x="1782" y="264"/>
                  </a:lnTo>
                  <a:lnTo>
                    <a:pt x="1782" y="254"/>
                  </a:lnTo>
                  <a:lnTo>
                    <a:pt x="1782" y="251"/>
                  </a:lnTo>
                  <a:lnTo>
                    <a:pt x="1782" y="248"/>
                  </a:lnTo>
                  <a:lnTo>
                    <a:pt x="1782" y="244"/>
                  </a:lnTo>
                  <a:lnTo>
                    <a:pt x="1782" y="240"/>
                  </a:lnTo>
                  <a:lnTo>
                    <a:pt x="1782" y="235"/>
                  </a:lnTo>
                  <a:lnTo>
                    <a:pt x="1783" y="231"/>
                  </a:lnTo>
                  <a:lnTo>
                    <a:pt x="1784" y="228"/>
                  </a:lnTo>
                  <a:lnTo>
                    <a:pt x="1784" y="224"/>
                  </a:lnTo>
                  <a:lnTo>
                    <a:pt x="1785" y="214"/>
                  </a:lnTo>
                  <a:lnTo>
                    <a:pt x="1787" y="204"/>
                  </a:lnTo>
                  <a:lnTo>
                    <a:pt x="1789" y="196"/>
                  </a:lnTo>
                  <a:lnTo>
                    <a:pt x="1791" y="188"/>
                  </a:lnTo>
                  <a:lnTo>
                    <a:pt x="1793" y="180"/>
                  </a:lnTo>
                  <a:lnTo>
                    <a:pt x="1796" y="173"/>
                  </a:lnTo>
                  <a:lnTo>
                    <a:pt x="1798" y="166"/>
                  </a:lnTo>
                  <a:lnTo>
                    <a:pt x="1801" y="160"/>
                  </a:lnTo>
                  <a:lnTo>
                    <a:pt x="1804" y="153"/>
                  </a:lnTo>
                  <a:lnTo>
                    <a:pt x="1808" y="147"/>
                  </a:lnTo>
                  <a:lnTo>
                    <a:pt x="1811" y="141"/>
                  </a:lnTo>
                  <a:lnTo>
                    <a:pt x="1816" y="136"/>
                  </a:lnTo>
                  <a:lnTo>
                    <a:pt x="1820" y="131"/>
                  </a:lnTo>
                  <a:lnTo>
                    <a:pt x="1824" y="127"/>
                  </a:lnTo>
                  <a:lnTo>
                    <a:pt x="1828" y="123"/>
                  </a:lnTo>
                  <a:lnTo>
                    <a:pt x="1832" y="120"/>
                  </a:lnTo>
                  <a:lnTo>
                    <a:pt x="1836" y="118"/>
                  </a:lnTo>
                  <a:lnTo>
                    <a:pt x="1839" y="115"/>
                  </a:lnTo>
                  <a:lnTo>
                    <a:pt x="1843" y="114"/>
                  </a:lnTo>
                  <a:lnTo>
                    <a:pt x="1847" y="112"/>
                  </a:lnTo>
                  <a:lnTo>
                    <a:pt x="1852" y="111"/>
                  </a:lnTo>
                  <a:lnTo>
                    <a:pt x="1856" y="111"/>
                  </a:lnTo>
                  <a:lnTo>
                    <a:pt x="1862" y="110"/>
                  </a:lnTo>
                  <a:lnTo>
                    <a:pt x="1866" y="110"/>
                  </a:lnTo>
                  <a:lnTo>
                    <a:pt x="1873" y="111"/>
                  </a:lnTo>
                  <a:lnTo>
                    <a:pt x="1881" y="112"/>
                  </a:lnTo>
                  <a:lnTo>
                    <a:pt x="1889" y="115"/>
                  </a:lnTo>
                  <a:lnTo>
                    <a:pt x="1895" y="119"/>
                  </a:lnTo>
                  <a:lnTo>
                    <a:pt x="1900" y="125"/>
                  </a:lnTo>
                  <a:lnTo>
                    <a:pt x="1905" y="131"/>
                  </a:lnTo>
                  <a:lnTo>
                    <a:pt x="1908" y="138"/>
                  </a:lnTo>
                  <a:lnTo>
                    <a:pt x="1911" y="145"/>
                  </a:lnTo>
                  <a:lnTo>
                    <a:pt x="1911" y="145"/>
                  </a:lnTo>
                  <a:lnTo>
                    <a:pt x="1915" y="112"/>
                  </a:lnTo>
                  <a:lnTo>
                    <a:pt x="1995" y="112"/>
                  </a:lnTo>
                  <a:lnTo>
                    <a:pt x="1960" y="323"/>
                  </a:lnTo>
                  <a:lnTo>
                    <a:pt x="1882" y="323"/>
                  </a:lnTo>
                  <a:lnTo>
                    <a:pt x="1893" y="287"/>
                  </a:lnTo>
                  <a:lnTo>
                    <a:pt x="1893" y="287"/>
                  </a:lnTo>
                  <a:close/>
                  <a:moveTo>
                    <a:pt x="1860" y="237"/>
                  </a:moveTo>
                  <a:lnTo>
                    <a:pt x="1860" y="247"/>
                  </a:lnTo>
                  <a:lnTo>
                    <a:pt x="1863" y="254"/>
                  </a:lnTo>
                  <a:lnTo>
                    <a:pt x="1867" y="260"/>
                  </a:lnTo>
                  <a:lnTo>
                    <a:pt x="1873" y="264"/>
                  </a:lnTo>
                  <a:lnTo>
                    <a:pt x="1876" y="261"/>
                  </a:lnTo>
                  <a:lnTo>
                    <a:pt x="1880" y="259"/>
                  </a:lnTo>
                  <a:lnTo>
                    <a:pt x="1884" y="258"/>
                  </a:lnTo>
                  <a:lnTo>
                    <a:pt x="1888" y="254"/>
                  </a:lnTo>
                  <a:lnTo>
                    <a:pt x="1889" y="251"/>
                  </a:lnTo>
                  <a:lnTo>
                    <a:pt x="1891" y="247"/>
                  </a:lnTo>
                  <a:lnTo>
                    <a:pt x="1893" y="243"/>
                  </a:lnTo>
                  <a:lnTo>
                    <a:pt x="1895" y="238"/>
                  </a:lnTo>
                  <a:lnTo>
                    <a:pt x="1896" y="234"/>
                  </a:lnTo>
                  <a:lnTo>
                    <a:pt x="1896" y="229"/>
                  </a:lnTo>
                  <a:lnTo>
                    <a:pt x="1898" y="224"/>
                  </a:lnTo>
                  <a:lnTo>
                    <a:pt x="1900" y="219"/>
                  </a:lnTo>
                  <a:lnTo>
                    <a:pt x="1900" y="214"/>
                  </a:lnTo>
                  <a:lnTo>
                    <a:pt x="1901" y="209"/>
                  </a:lnTo>
                  <a:lnTo>
                    <a:pt x="1902" y="204"/>
                  </a:lnTo>
                  <a:lnTo>
                    <a:pt x="1902" y="202"/>
                  </a:lnTo>
                  <a:lnTo>
                    <a:pt x="1902" y="202"/>
                  </a:lnTo>
                  <a:lnTo>
                    <a:pt x="1902" y="201"/>
                  </a:lnTo>
                  <a:lnTo>
                    <a:pt x="1902" y="199"/>
                  </a:lnTo>
                  <a:lnTo>
                    <a:pt x="1902" y="197"/>
                  </a:lnTo>
                  <a:lnTo>
                    <a:pt x="1902" y="197"/>
                  </a:lnTo>
                  <a:lnTo>
                    <a:pt x="1902" y="196"/>
                  </a:lnTo>
                  <a:lnTo>
                    <a:pt x="1902" y="194"/>
                  </a:lnTo>
                  <a:lnTo>
                    <a:pt x="1902" y="193"/>
                  </a:lnTo>
                  <a:lnTo>
                    <a:pt x="1901" y="184"/>
                  </a:lnTo>
                  <a:lnTo>
                    <a:pt x="1898" y="178"/>
                  </a:lnTo>
                  <a:lnTo>
                    <a:pt x="1894" y="175"/>
                  </a:lnTo>
                  <a:lnTo>
                    <a:pt x="1889" y="174"/>
                  </a:lnTo>
                  <a:lnTo>
                    <a:pt x="1886" y="174"/>
                  </a:lnTo>
                  <a:lnTo>
                    <a:pt x="1883" y="175"/>
                  </a:lnTo>
                  <a:lnTo>
                    <a:pt x="1880" y="176"/>
                  </a:lnTo>
                  <a:lnTo>
                    <a:pt x="1877" y="179"/>
                  </a:lnTo>
                  <a:lnTo>
                    <a:pt x="1874" y="182"/>
                  </a:lnTo>
                  <a:lnTo>
                    <a:pt x="1872" y="186"/>
                  </a:lnTo>
                  <a:lnTo>
                    <a:pt x="1869" y="192"/>
                  </a:lnTo>
                  <a:lnTo>
                    <a:pt x="1867" y="198"/>
                  </a:lnTo>
                  <a:lnTo>
                    <a:pt x="1865" y="207"/>
                  </a:lnTo>
                  <a:lnTo>
                    <a:pt x="1863" y="216"/>
                  </a:lnTo>
                  <a:lnTo>
                    <a:pt x="1862" y="226"/>
                  </a:lnTo>
                  <a:lnTo>
                    <a:pt x="1860" y="237"/>
                  </a:lnTo>
                  <a:close/>
                  <a:moveTo>
                    <a:pt x="2128" y="323"/>
                  </a:moveTo>
                  <a:lnTo>
                    <a:pt x="2173" y="24"/>
                  </a:lnTo>
                  <a:lnTo>
                    <a:pt x="2251" y="24"/>
                  </a:lnTo>
                  <a:lnTo>
                    <a:pt x="2261" y="24"/>
                  </a:lnTo>
                  <a:lnTo>
                    <a:pt x="2269" y="25"/>
                  </a:lnTo>
                  <a:lnTo>
                    <a:pt x="2277" y="25"/>
                  </a:lnTo>
                  <a:lnTo>
                    <a:pt x="2285" y="26"/>
                  </a:lnTo>
                  <a:lnTo>
                    <a:pt x="2292" y="27"/>
                  </a:lnTo>
                  <a:lnTo>
                    <a:pt x="2299" y="29"/>
                  </a:lnTo>
                  <a:lnTo>
                    <a:pt x="2306" y="30"/>
                  </a:lnTo>
                  <a:lnTo>
                    <a:pt x="2312" y="32"/>
                  </a:lnTo>
                  <a:lnTo>
                    <a:pt x="2318" y="34"/>
                  </a:lnTo>
                  <a:lnTo>
                    <a:pt x="2323" y="37"/>
                  </a:lnTo>
                  <a:lnTo>
                    <a:pt x="2329" y="40"/>
                  </a:lnTo>
                  <a:lnTo>
                    <a:pt x="2333" y="43"/>
                  </a:lnTo>
                  <a:lnTo>
                    <a:pt x="2338" y="46"/>
                  </a:lnTo>
                  <a:lnTo>
                    <a:pt x="2342" y="50"/>
                  </a:lnTo>
                  <a:lnTo>
                    <a:pt x="2345" y="54"/>
                  </a:lnTo>
                  <a:lnTo>
                    <a:pt x="2348" y="60"/>
                  </a:lnTo>
                  <a:lnTo>
                    <a:pt x="2352" y="64"/>
                  </a:lnTo>
                  <a:lnTo>
                    <a:pt x="2354" y="68"/>
                  </a:lnTo>
                  <a:lnTo>
                    <a:pt x="2356" y="73"/>
                  </a:lnTo>
                  <a:lnTo>
                    <a:pt x="2358" y="78"/>
                  </a:lnTo>
                  <a:lnTo>
                    <a:pt x="2359" y="84"/>
                  </a:lnTo>
                  <a:lnTo>
                    <a:pt x="2360" y="90"/>
                  </a:lnTo>
                  <a:lnTo>
                    <a:pt x="2361" y="97"/>
                  </a:lnTo>
                  <a:lnTo>
                    <a:pt x="2361" y="104"/>
                  </a:lnTo>
                  <a:lnTo>
                    <a:pt x="2361" y="107"/>
                  </a:lnTo>
                  <a:lnTo>
                    <a:pt x="2360" y="112"/>
                  </a:lnTo>
                  <a:lnTo>
                    <a:pt x="2360" y="116"/>
                  </a:lnTo>
                  <a:lnTo>
                    <a:pt x="2359" y="120"/>
                  </a:lnTo>
                  <a:lnTo>
                    <a:pt x="2358" y="124"/>
                  </a:lnTo>
                  <a:lnTo>
                    <a:pt x="2357" y="129"/>
                  </a:lnTo>
                  <a:lnTo>
                    <a:pt x="2357" y="133"/>
                  </a:lnTo>
                  <a:lnTo>
                    <a:pt x="2356" y="138"/>
                  </a:lnTo>
                  <a:lnTo>
                    <a:pt x="2348" y="159"/>
                  </a:lnTo>
                  <a:lnTo>
                    <a:pt x="2339" y="177"/>
                  </a:lnTo>
                  <a:lnTo>
                    <a:pt x="2327" y="192"/>
                  </a:lnTo>
                  <a:lnTo>
                    <a:pt x="2312" y="203"/>
                  </a:lnTo>
                  <a:lnTo>
                    <a:pt x="2294" y="214"/>
                  </a:lnTo>
                  <a:lnTo>
                    <a:pt x="2273" y="220"/>
                  </a:lnTo>
                  <a:lnTo>
                    <a:pt x="2249" y="223"/>
                  </a:lnTo>
                  <a:lnTo>
                    <a:pt x="2223" y="224"/>
                  </a:lnTo>
                  <a:lnTo>
                    <a:pt x="2209" y="323"/>
                  </a:lnTo>
                  <a:lnTo>
                    <a:pt x="2128" y="323"/>
                  </a:lnTo>
                  <a:close/>
                  <a:moveTo>
                    <a:pt x="2233" y="158"/>
                  </a:moveTo>
                  <a:lnTo>
                    <a:pt x="2238" y="158"/>
                  </a:lnTo>
                  <a:lnTo>
                    <a:pt x="2243" y="156"/>
                  </a:lnTo>
                  <a:lnTo>
                    <a:pt x="2247" y="156"/>
                  </a:lnTo>
                  <a:lnTo>
                    <a:pt x="2251" y="155"/>
                  </a:lnTo>
                  <a:lnTo>
                    <a:pt x="2255" y="153"/>
                  </a:lnTo>
                  <a:lnTo>
                    <a:pt x="2258" y="152"/>
                  </a:lnTo>
                  <a:lnTo>
                    <a:pt x="2261" y="149"/>
                  </a:lnTo>
                  <a:lnTo>
                    <a:pt x="2264" y="147"/>
                  </a:lnTo>
                  <a:lnTo>
                    <a:pt x="2269" y="141"/>
                  </a:lnTo>
                  <a:lnTo>
                    <a:pt x="2273" y="135"/>
                  </a:lnTo>
                  <a:lnTo>
                    <a:pt x="2275" y="127"/>
                  </a:lnTo>
                  <a:lnTo>
                    <a:pt x="2276" y="119"/>
                  </a:lnTo>
                  <a:lnTo>
                    <a:pt x="2276" y="112"/>
                  </a:lnTo>
                  <a:lnTo>
                    <a:pt x="2275" y="104"/>
                  </a:lnTo>
                  <a:lnTo>
                    <a:pt x="2273" y="99"/>
                  </a:lnTo>
                  <a:lnTo>
                    <a:pt x="2270" y="95"/>
                  </a:lnTo>
                  <a:lnTo>
                    <a:pt x="2267" y="92"/>
                  </a:lnTo>
                  <a:lnTo>
                    <a:pt x="2262" y="90"/>
                  </a:lnTo>
                  <a:lnTo>
                    <a:pt x="2257" y="88"/>
                  </a:lnTo>
                  <a:lnTo>
                    <a:pt x="2249" y="88"/>
                  </a:lnTo>
                  <a:lnTo>
                    <a:pt x="2244" y="88"/>
                  </a:lnTo>
                  <a:lnTo>
                    <a:pt x="2233" y="158"/>
                  </a:lnTo>
                  <a:close/>
                  <a:moveTo>
                    <a:pt x="2361" y="245"/>
                  </a:moveTo>
                  <a:lnTo>
                    <a:pt x="2361" y="235"/>
                  </a:lnTo>
                  <a:lnTo>
                    <a:pt x="2362" y="226"/>
                  </a:lnTo>
                  <a:lnTo>
                    <a:pt x="2363" y="217"/>
                  </a:lnTo>
                  <a:lnTo>
                    <a:pt x="2364" y="208"/>
                  </a:lnTo>
                  <a:lnTo>
                    <a:pt x="2366" y="199"/>
                  </a:lnTo>
                  <a:lnTo>
                    <a:pt x="2368" y="190"/>
                  </a:lnTo>
                  <a:lnTo>
                    <a:pt x="2371" y="182"/>
                  </a:lnTo>
                  <a:lnTo>
                    <a:pt x="2375" y="174"/>
                  </a:lnTo>
                  <a:lnTo>
                    <a:pt x="2379" y="167"/>
                  </a:lnTo>
                  <a:lnTo>
                    <a:pt x="2383" y="160"/>
                  </a:lnTo>
                  <a:lnTo>
                    <a:pt x="2388" y="153"/>
                  </a:lnTo>
                  <a:lnTo>
                    <a:pt x="2393" y="147"/>
                  </a:lnTo>
                  <a:lnTo>
                    <a:pt x="2398" y="141"/>
                  </a:lnTo>
                  <a:lnTo>
                    <a:pt x="2405" y="136"/>
                  </a:lnTo>
                  <a:lnTo>
                    <a:pt x="2411" y="131"/>
                  </a:lnTo>
                  <a:lnTo>
                    <a:pt x="2418" y="126"/>
                  </a:lnTo>
                  <a:lnTo>
                    <a:pt x="2424" y="123"/>
                  </a:lnTo>
                  <a:lnTo>
                    <a:pt x="2431" y="120"/>
                  </a:lnTo>
                  <a:lnTo>
                    <a:pt x="2437" y="117"/>
                  </a:lnTo>
                  <a:lnTo>
                    <a:pt x="2444" y="115"/>
                  </a:lnTo>
                  <a:lnTo>
                    <a:pt x="2452" y="113"/>
                  </a:lnTo>
                  <a:lnTo>
                    <a:pt x="2460" y="111"/>
                  </a:lnTo>
                  <a:lnTo>
                    <a:pt x="2467" y="110"/>
                  </a:lnTo>
                  <a:lnTo>
                    <a:pt x="2475" y="110"/>
                  </a:lnTo>
                  <a:lnTo>
                    <a:pt x="2494" y="111"/>
                  </a:lnTo>
                  <a:lnTo>
                    <a:pt x="2512" y="115"/>
                  </a:lnTo>
                  <a:lnTo>
                    <a:pt x="2526" y="122"/>
                  </a:lnTo>
                  <a:lnTo>
                    <a:pt x="2538" y="131"/>
                  </a:lnTo>
                  <a:lnTo>
                    <a:pt x="2548" y="143"/>
                  </a:lnTo>
                  <a:lnTo>
                    <a:pt x="2555" y="159"/>
                  </a:lnTo>
                  <a:lnTo>
                    <a:pt x="2559" y="177"/>
                  </a:lnTo>
                  <a:lnTo>
                    <a:pt x="2560" y="197"/>
                  </a:lnTo>
                  <a:lnTo>
                    <a:pt x="2560" y="210"/>
                  </a:lnTo>
                  <a:lnTo>
                    <a:pt x="2558" y="222"/>
                  </a:lnTo>
                  <a:lnTo>
                    <a:pt x="2556" y="234"/>
                  </a:lnTo>
                  <a:lnTo>
                    <a:pt x="2553" y="246"/>
                  </a:lnTo>
                  <a:lnTo>
                    <a:pt x="2548" y="258"/>
                  </a:lnTo>
                  <a:lnTo>
                    <a:pt x="2542" y="269"/>
                  </a:lnTo>
                  <a:lnTo>
                    <a:pt x="2535" y="279"/>
                  </a:lnTo>
                  <a:lnTo>
                    <a:pt x="2527" y="288"/>
                  </a:lnTo>
                  <a:lnTo>
                    <a:pt x="2520" y="297"/>
                  </a:lnTo>
                  <a:lnTo>
                    <a:pt x="2512" y="307"/>
                  </a:lnTo>
                  <a:lnTo>
                    <a:pt x="2503" y="313"/>
                  </a:lnTo>
                  <a:lnTo>
                    <a:pt x="2493" y="319"/>
                  </a:lnTo>
                  <a:lnTo>
                    <a:pt x="2482" y="323"/>
                  </a:lnTo>
                  <a:lnTo>
                    <a:pt x="2471" y="327"/>
                  </a:lnTo>
                  <a:lnTo>
                    <a:pt x="2459" y="329"/>
                  </a:lnTo>
                  <a:lnTo>
                    <a:pt x="2446" y="330"/>
                  </a:lnTo>
                  <a:lnTo>
                    <a:pt x="2436" y="330"/>
                  </a:lnTo>
                  <a:lnTo>
                    <a:pt x="2426" y="329"/>
                  </a:lnTo>
                  <a:lnTo>
                    <a:pt x="2417" y="327"/>
                  </a:lnTo>
                  <a:lnTo>
                    <a:pt x="2409" y="325"/>
                  </a:lnTo>
                  <a:lnTo>
                    <a:pt x="2402" y="322"/>
                  </a:lnTo>
                  <a:lnTo>
                    <a:pt x="2394" y="318"/>
                  </a:lnTo>
                  <a:lnTo>
                    <a:pt x="2388" y="314"/>
                  </a:lnTo>
                  <a:lnTo>
                    <a:pt x="2382" y="309"/>
                  </a:lnTo>
                  <a:lnTo>
                    <a:pt x="2377" y="302"/>
                  </a:lnTo>
                  <a:lnTo>
                    <a:pt x="2373" y="296"/>
                  </a:lnTo>
                  <a:lnTo>
                    <a:pt x="2369" y="289"/>
                  </a:lnTo>
                  <a:lnTo>
                    <a:pt x="2366" y="282"/>
                  </a:lnTo>
                  <a:lnTo>
                    <a:pt x="2364" y="274"/>
                  </a:lnTo>
                  <a:lnTo>
                    <a:pt x="2362" y="265"/>
                  </a:lnTo>
                  <a:lnTo>
                    <a:pt x="2361" y="256"/>
                  </a:lnTo>
                  <a:lnTo>
                    <a:pt x="2361" y="245"/>
                  </a:lnTo>
                  <a:close/>
                  <a:moveTo>
                    <a:pt x="2439" y="222"/>
                  </a:moveTo>
                  <a:lnTo>
                    <a:pt x="2439" y="224"/>
                  </a:lnTo>
                  <a:lnTo>
                    <a:pt x="2439" y="225"/>
                  </a:lnTo>
                  <a:lnTo>
                    <a:pt x="2439" y="228"/>
                  </a:lnTo>
                  <a:lnTo>
                    <a:pt x="2439" y="231"/>
                  </a:lnTo>
                  <a:lnTo>
                    <a:pt x="2438" y="233"/>
                  </a:lnTo>
                  <a:lnTo>
                    <a:pt x="2437" y="235"/>
                  </a:lnTo>
                  <a:lnTo>
                    <a:pt x="2437" y="238"/>
                  </a:lnTo>
                  <a:lnTo>
                    <a:pt x="2437" y="240"/>
                  </a:lnTo>
                  <a:lnTo>
                    <a:pt x="2438" y="252"/>
                  </a:lnTo>
                  <a:lnTo>
                    <a:pt x="2442" y="261"/>
                  </a:lnTo>
                  <a:lnTo>
                    <a:pt x="2447" y="266"/>
                  </a:lnTo>
                  <a:lnTo>
                    <a:pt x="2454" y="267"/>
                  </a:lnTo>
                  <a:lnTo>
                    <a:pt x="2459" y="266"/>
                  </a:lnTo>
                  <a:lnTo>
                    <a:pt x="2464" y="263"/>
                  </a:lnTo>
                  <a:lnTo>
                    <a:pt x="2468" y="259"/>
                  </a:lnTo>
                  <a:lnTo>
                    <a:pt x="2471" y="252"/>
                  </a:lnTo>
                  <a:lnTo>
                    <a:pt x="2475" y="244"/>
                  </a:lnTo>
                  <a:lnTo>
                    <a:pt x="2477" y="234"/>
                  </a:lnTo>
                  <a:lnTo>
                    <a:pt x="2480" y="223"/>
                  </a:lnTo>
                  <a:lnTo>
                    <a:pt x="2482" y="210"/>
                  </a:lnTo>
                  <a:lnTo>
                    <a:pt x="2482" y="208"/>
                  </a:lnTo>
                  <a:lnTo>
                    <a:pt x="2483" y="205"/>
                  </a:lnTo>
                  <a:lnTo>
                    <a:pt x="2484" y="204"/>
                  </a:lnTo>
                  <a:lnTo>
                    <a:pt x="2484" y="202"/>
                  </a:lnTo>
                  <a:lnTo>
                    <a:pt x="2484" y="200"/>
                  </a:lnTo>
                  <a:lnTo>
                    <a:pt x="2484" y="198"/>
                  </a:lnTo>
                  <a:lnTo>
                    <a:pt x="2484" y="197"/>
                  </a:lnTo>
                  <a:lnTo>
                    <a:pt x="2484" y="195"/>
                  </a:lnTo>
                  <a:lnTo>
                    <a:pt x="2484" y="188"/>
                  </a:lnTo>
                  <a:lnTo>
                    <a:pt x="2483" y="181"/>
                  </a:lnTo>
                  <a:lnTo>
                    <a:pt x="2481" y="176"/>
                  </a:lnTo>
                  <a:lnTo>
                    <a:pt x="2479" y="172"/>
                  </a:lnTo>
                  <a:lnTo>
                    <a:pt x="2477" y="169"/>
                  </a:lnTo>
                  <a:lnTo>
                    <a:pt x="2474" y="168"/>
                  </a:lnTo>
                  <a:lnTo>
                    <a:pt x="2471" y="167"/>
                  </a:lnTo>
                  <a:lnTo>
                    <a:pt x="2468" y="167"/>
                  </a:lnTo>
                  <a:lnTo>
                    <a:pt x="2463" y="169"/>
                  </a:lnTo>
                  <a:lnTo>
                    <a:pt x="2458" y="172"/>
                  </a:lnTo>
                  <a:lnTo>
                    <a:pt x="2454" y="176"/>
                  </a:lnTo>
                  <a:lnTo>
                    <a:pt x="2451" y="182"/>
                  </a:lnTo>
                  <a:lnTo>
                    <a:pt x="2446" y="190"/>
                  </a:lnTo>
                  <a:lnTo>
                    <a:pt x="2444" y="199"/>
                  </a:lnTo>
                  <a:lnTo>
                    <a:pt x="2441" y="210"/>
                  </a:lnTo>
                  <a:lnTo>
                    <a:pt x="2439" y="222"/>
                  </a:lnTo>
                  <a:close/>
                  <a:moveTo>
                    <a:pt x="2593" y="323"/>
                  </a:moveTo>
                  <a:lnTo>
                    <a:pt x="2615" y="176"/>
                  </a:lnTo>
                  <a:lnTo>
                    <a:pt x="2596" y="176"/>
                  </a:lnTo>
                  <a:lnTo>
                    <a:pt x="2603" y="112"/>
                  </a:lnTo>
                  <a:lnTo>
                    <a:pt x="2626" y="112"/>
                  </a:lnTo>
                  <a:lnTo>
                    <a:pt x="2636" y="48"/>
                  </a:lnTo>
                  <a:lnTo>
                    <a:pt x="2714" y="48"/>
                  </a:lnTo>
                  <a:lnTo>
                    <a:pt x="2703" y="112"/>
                  </a:lnTo>
                  <a:lnTo>
                    <a:pt x="2729" y="112"/>
                  </a:lnTo>
                  <a:lnTo>
                    <a:pt x="2721" y="176"/>
                  </a:lnTo>
                  <a:lnTo>
                    <a:pt x="2694" y="176"/>
                  </a:lnTo>
                  <a:lnTo>
                    <a:pt x="2670" y="323"/>
                  </a:lnTo>
                  <a:lnTo>
                    <a:pt x="2593" y="323"/>
                  </a:lnTo>
                  <a:close/>
                  <a:moveTo>
                    <a:pt x="2767" y="48"/>
                  </a:moveTo>
                  <a:lnTo>
                    <a:pt x="2767" y="44"/>
                  </a:lnTo>
                  <a:lnTo>
                    <a:pt x="2768" y="40"/>
                  </a:lnTo>
                  <a:lnTo>
                    <a:pt x="2769" y="36"/>
                  </a:lnTo>
                  <a:lnTo>
                    <a:pt x="2771" y="32"/>
                  </a:lnTo>
                  <a:lnTo>
                    <a:pt x="2773" y="28"/>
                  </a:lnTo>
                  <a:lnTo>
                    <a:pt x="2775" y="24"/>
                  </a:lnTo>
                  <a:lnTo>
                    <a:pt x="2778" y="20"/>
                  </a:lnTo>
                  <a:lnTo>
                    <a:pt x="2781" y="17"/>
                  </a:lnTo>
                  <a:lnTo>
                    <a:pt x="2786" y="13"/>
                  </a:lnTo>
                  <a:lnTo>
                    <a:pt x="2792" y="10"/>
                  </a:lnTo>
                  <a:lnTo>
                    <a:pt x="2796" y="6"/>
                  </a:lnTo>
                  <a:lnTo>
                    <a:pt x="2801" y="4"/>
                  </a:lnTo>
                  <a:lnTo>
                    <a:pt x="2805" y="2"/>
                  </a:lnTo>
                  <a:lnTo>
                    <a:pt x="2810" y="1"/>
                  </a:lnTo>
                  <a:lnTo>
                    <a:pt x="2814" y="0"/>
                  </a:lnTo>
                  <a:lnTo>
                    <a:pt x="2819" y="0"/>
                  </a:lnTo>
                  <a:lnTo>
                    <a:pt x="2827" y="1"/>
                  </a:lnTo>
                  <a:lnTo>
                    <a:pt x="2835" y="3"/>
                  </a:lnTo>
                  <a:lnTo>
                    <a:pt x="2842" y="7"/>
                  </a:lnTo>
                  <a:lnTo>
                    <a:pt x="2848" y="13"/>
                  </a:lnTo>
                  <a:lnTo>
                    <a:pt x="2854" y="19"/>
                  </a:lnTo>
                  <a:lnTo>
                    <a:pt x="2857" y="26"/>
                  </a:lnTo>
                  <a:lnTo>
                    <a:pt x="2859" y="33"/>
                  </a:lnTo>
                  <a:lnTo>
                    <a:pt x="2859" y="39"/>
                  </a:lnTo>
                  <a:lnTo>
                    <a:pt x="2859" y="44"/>
                  </a:lnTo>
                  <a:lnTo>
                    <a:pt x="2858" y="50"/>
                  </a:lnTo>
                  <a:lnTo>
                    <a:pt x="2857" y="55"/>
                  </a:lnTo>
                  <a:lnTo>
                    <a:pt x="2856" y="60"/>
                  </a:lnTo>
                  <a:lnTo>
                    <a:pt x="2854" y="65"/>
                  </a:lnTo>
                  <a:lnTo>
                    <a:pt x="2851" y="69"/>
                  </a:lnTo>
                  <a:lnTo>
                    <a:pt x="2848" y="72"/>
                  </a:lnTo>
                  <a:lnTo>
                    <a:pt x="2845" y="76"/>
                  </a:lnTo>
                  <a:lnTo>
                    <a:pt x="2841" y="79"/>
                  </a:lnTo>
                  <a:lnTo>
                    <a:pt x="2836" y="81"/>
                  </a:lnTo>
                  <a:lnTo>
                    <a:pt x="2831" y="84"/>
                  </a:lnTo>
                  <a:lnTo>
                    <a:pt x="2827" y="86"/>
                  </a:lnTo>
                  <a:lnTo>
                    <a:pt x="2822" y="87"/>
                  </a:lnTo>
                  <a:lnTo>
                    <a:pt x="2817" y="89"/>
                  </a:lnTo>
                  <a:lnTo>
                    <a:pt x="2812" y="90"/>
                  </a:lnTo>
                  <a:lnTo>
                    <a:pt x="2807" y="90"/>
                  </a:lnTo>
                  <a:lnTo>
                    <a:pt x="2799" y="89"/>
                  </a:lnTo>
                  <a:lnTo>
                    <a:pt x="2791" y="87"/>
                  </a:lnTo>
                  <a:lnTo>
                    <a:pt x="2784" y="84"/>
                  </a:lnTo>
                  <a:lnTo>
                    <a:pt x="2778" y="81"/>
                  </a:lnTo>
                  <a:lnTo>
                    <a:pt x="2776" y="78"/>
                  </a:lnTo>
                  <a:lnTo>
                    <a:pt x="2773" y="75"/>
                  </a:lnTo>
                  <a:lnTo>
                    <a:pt x="2771" y="71"/>
                  </a:lnTo>
                  <a:lnTo>
                    <a:pt x="2770" y="68"/>
                  </a:lnTo>
                  <a:lnTo>
                    <a:pt x="2769" y="63"/>
                  </a:lnTo>
                  <a:lnTo>
                    <a:pt x="2768" y="58"/>
                  </a:lnTo>
                  <a:lnTo>
                    <a:pt x="2767" y="53"/>
                  </a:lnTo>
                  <a:lnTo>
                    <a:pt x="2767" y="48"/>
                  </a:lnTo>
                  <a:lnTo>
                    <a:pt x="2767" y="48"/>
                  </a:lnTo>
                  <a:close/>
                  <a:moveTo>
                    <a:pt x="2729" y="323"/>
                  </a:moveTo>
                  <a:lnTo>
                    <a:pt x="2764" y="112"/>
                  </a:lnTo>
                  <a:lnTo>
                    <a:pt x="2843" y="112"/>
                  </a:lnTo>
                  <a:lnTo>
                    <a:pt x="2809" y="323"/>
                  </a:lnTo>
                  <a:lnTo>
                    <a:pt x="2729" y="323"/>
                  </a:lnTo>
                  <a:close/>
                  <a:moveTo>
                    <a:pt x="2963" y="295"/>
                  </a:moveTo>
                  <a:lnTo>
                    <a:pt x="2961" y="295"/>
                  </a:lnTo>
                  <a:lnTo>
                    <a:pt x="2956" y="302"/>
                  </a:lnTo>
                  <a:lnTo>
                    <a:pt x="2951" y="308"/>
                  </a:lnTo>
                  <a:lnTo>
                    <a:pt x="2946" y="312"/>
                  </a:lnTo>
                  <a:lnTo>
                    <a:pt x="2940" y="316"/>
                  </a:lnTo>
                  <a:lnTo>
                    <a:pt x="2935" y="318"/>
                  </a:lnTo>
                  <a:lnTo>
                    <a:pt x="2931" y="319"/>
                  </a:lnTo>
                  <a:lnTo>
                    <a:pt x="2927" y="320"/>
                  </a:lnTo>
                  <a:lnTo>
                    <a:pt x="2923" y="321"/>
                  </a:lnTo>
                  <a:lnTo>
                    <a:pt x="2919" y="322"/>
                  </a:lnTo>
                  <a:lnTo>
                    <a:pt x="2915" y="323"/>
                  </a:lnTo>
                  <a:lnTo>
                    <a:pt x="2911" y="323"/>
                  </a:lnTo>
                  <a:lnTo>
                    <a:pt x="2907" y="323"/>
                  </a:lnTo>
                  <a:lnTo>
                    <a:pt x="2902" y="323"/>
                  </a:lnTo>
                  <a:lnTo>
                    <a:pt x="2897" y="322"/>
                  </a:lnTo>
                  <a:lnTo>
                    <a:pt x="2892" y="320"/>
                  </a:lnTo>
                  <a:lnTo>
                    <a:pt x="2887" y="318"/>
                  </a:lnTo>
                  <a:lnTo>
                    <a:pt x="2882" y="315"/>
                  </a:lnTo>
                  <a:lnTo>
                    <a:pt x="2878" y="312"/>
                  </a:lnTo>
                  <a:lnTo>
                    <a:pt x="2875" y="308"/>
                  </a:lnTo>
                  <a:lnTo>
                    <a:pt x="2871" y="302"/>
                  </a:lnTo>
                  <a:lnTo>
                    <a:pt x="2867" y="298"/>
                  </a:lnTo>
                  <a:lnTo>
                    <a:pt x="2863" y="293"/>
                  </a:lnTo>
                  <a:lnTo>
                    <a:pt x="2861" y="287"/>
                  </a:lnTo>
                  <a:lnTo>
                    <a:pt x="2859" y="280"/>
                  </a:lnTo>
                  <a:lnTo>
                    <a:pt x="2857" y="273"/>
                  </a:lnTo>
                  <a:lnTo>
                    <a:pt x="2856" y="265"/>
                  </a:lnTo>
                  <a:lnTo>
                    <a:pt x="2855" y="256"/>
                  </a:lnTo>
                  <a:lnTo>
                    <a:pt x="2855" y="245"/>
                  </a:lnTo>
                  <a:lnTo>
                    <a:pt x="2855" y="243"/>
                  </a:lnTo>
                  <a:lnTo>
                    <a:pt x="2855" y="240"/>
                  </a:lnTo>
                  <a:lnTo>
                    <a:pt x="2856" y="236"/>
                  </a:lnTo>
                  <a:lnTo>
                    <a:pt x="2857" y="231"/>
                  </a:lnTo>
                  <a:lnTo>
                    <a:pt x="2857" y="227"/>
                  </a:lnTo>
                  <a:lnTo>
                    <a:pt x="2857" y="224"/>
                  </a:lnTo>
                  <a:lnTo>
                    <a:pt x="2857" y="221"/>
                  </a:lnTo>
                  <a:lnTo>
                    <a:pt x="2857" y="217"/>
                  </a:lnTo>
                  <a:lnTo>
                    <a:pt x="2859" y="204"/>
                  </a:lnTo>
                  <a:lnTo>
                    <a:pt x="2862" y="193"/>
                  </a:lnTo>
                  <a:lnTo>
                    <a:pt x="2865" y="183"/>
                  </a:lnTo>
                  <a:lnTo>
                    <a:pt x="2869" y="173"/>
                  </a:lnTo>
                  <a:lnTo>
                    <a:pt x="2873" y="164"/>
                  </a:lnTo>
                  <a:lnTo>
                    <a:pt x="2878" y="154"/>
                  </a:lnTo>
                  <a:lnTo>
                    <a:pt x="2884" y="146"/>
                  </a:lnTo>
                  <a:lnTo>
                    <a:pt x="2891" y="138"/>
                  </a:lnTo>
                  <a:lnTo>
                    <a:pt x="2897" y="131"/>
                  </a:lnTo>
                  <a:lnTo>
                    <a:pt x="2903" y="126"/>
                  </a:lnTo>
                  <a:lnTo>
                    <a:pt x="2910" y="121"/>
                  </a:lnTo>
                  <a:lnTo>
                    <a:pt x="2916" y="117"/>
                  </a:lnTo>
                  <a:lnTo>
                    <a:pt x="2922" y="114"/>
                  </a:lnTo>
                  <a:lnTo>
                    <a:pt x="2928" y="112"/>
                  </a:lnTo>
                  <a:lnTo>
                    <a:pt x="2934" y="110"/>
                  </a:lnTo>
                  <a:lnTo>
                    <a:pt x="2941" y="110"/>
                  </a:lnTo>
                  <a:lnTo>
                    <a:pt x="2948" y="110"/>
                  </a:lnTo>
                  <a:lnTo>
                    <a:pt x="2955" y="112"/>
                  </a:lnTo>
                  <a:lnTo>
                    <a:pt x="2961" y="114"/>
                  </a:lnTo>
                  <a:lnTo>
                    <a:pt x="2967" y="117"/>
                  </a:lnTo>
                  <a:lnTo>
                    <a:pt x="2972" y="122"/>
                  </a:lnTo>
                  <a:lnTo>
                    <a:pt x="2977" y="127"/>
                  </a:lnTo>
                  <a:lnTo>
                    <a:pt x="2981" y="133"/>
                  </a:lnTo>
                  <a:lnTo>
                    <a:pt x="2986" y="140"/>
                  </a:lnTo>
                  <a:lnTo>
                    <a:pt x="2986" y="140"/>
                  </a:lnTo>
                  <a:lnTo>
                    <a:pt x="2990" y="112"/>
                  </a:lnTo>
                  <a:lnTo>
                    <a:pt x="3070" y="112"/>
                  </a:lnTo>
                  <a:lnTo>
                    <a:pt x="3035" y="332"/>
                  </a:lnTo>
                  <a:lnTo>
                    <a:pt x="3032" y="340"/>
                  </a:lnTo>
                  <a:lnTo>
                    <a:pt x="3029" y="347"/>
                  </a:lnTo>
                  <a:lnTo>
                    <a:pt x="3027" y="355"/>
                  </a:lnTo>
                  <a:lnTo>
                    <a:pt x="3024" y="361"/>
                  </a:lnTo>
                  <a:lnTo>
                    <a:pt x="3022" y="367"/>
                  </a:lnTo>
                  <a:lnTo>
                    <a:pt x="3019" y="373"/>
                  </a:lnTo>
                  <a:lnTo>
                    <a:pt x="3016" y="378"/>
                  </a:lnTo>
                  <a:lnTo>
                    <a:pt x="3013" y="382"/>
                  </a:lnTo>
                  <a:lnTo>
                    <a:pt x="3008" y="387"/>
                  </a:lnTo>
                  <a:lnTo>
                    <a:pt x="3004" y="392"/>
                  </a:lnTo>
                  <a:lnTo>
                    <a:pt x="2999" y="397"/>
                  </a:lnTo>
                  <a:lnTo>
                    <a:pt x="2994" y="400"/>
                  </a:lnTo>
                  <a:lnTo>
                    <a:pt x="2989" y="405"/>
                  </a:lnTo>
                  <a:lnTo>
                    <a:pt x="2983" y="408"/>
                  </a:lnTo>
                  <a:lnTo>
                    <a:pt x="2977" y="411"/>
                  </a:lnTo>
                  <a:lnTo>
                    <a:pt x="2971" y="414"/>
                  </a:lnTo>
                  <a:lnTo>
                    <a:pt x="2965" y="416"/>
                  </a:lnTo>
                  <a:lnTo>
                    <a:pt x="2959" y="418"/>
                  </a:lnTo>
                  <a:lnTo>
                    <a:pt x="2953" y="419"/>
                  </a:lnTo>
                  <a:lnTo>
                    <a:pt x="2947" y="420"/>
                  </a:lnTo>
                  <a:lnTo>
                    <a:pt x="2941" y="420"/>
                  </a:lnTo>
                  <a:lnTo>
                    <a:pt x="2934" y="421"/>
                  </a:lnTo>
                  <a:lnTo>
                    <a:pt x="2928" y="421"/>
                  </a:lnTo>
                  <a:lnTo>
                    <a:pt x="2921" y="421"/>
                  </a:lnTo>
                  <a:lnTo>
                    <a:pt x="2911" y="421"/>
                  </a:lnTo>
                  <a:lnTo>
                    <a:pt x="2902" y="420"/>
                  </a:lnTo>
                  <a:lnTo>
                    <a:pt x="2893" y="418"/>
                  </a:lnTo>
                  <a:lnTo>
                    <a:pt x="2884" y="416"/>
                  </a:lnTo>
                  <a:lnTo>
                    <a:pt x="2877" y="413"/>
                  </a:lnTo>
                  <a:lnTo>
                    <a:pt x="2871" y="410"/>
                  </a:lnTo>
                  <a:lnTo>
                    <a:pt x="2864" y="406"/>
                  </a:lnTo>
                  <a:lnTo>
                    <a:pt x="2859" y="401"/>
                  </a:lnTo>
                  <a:lnTo>
                    <a:pt x="2855" y="397"/>
                  </a:lnTo>
                  <a:lnTo>
                    <a:pt x="2852" y="391"/>
                  </a:lnTo>
                  <a:lnTo>
                    <a:pt x="2848" y="385"/>
                  </a:lnTo>
                  <a:lnTo>
                    <a:pt x="2846" y="379"/>
                  </a:lnTo>
                  <a:lnTo>
                    <a:pt x="2844" y="371"/>
                  </a:lnTo>
                  <a:lnTo>
                    <a:pt x="2842" y="363"/>
                  </a:lnTo>
                  <a:lnTo>
                    <a:pt x="2841" y="353"/>
                  </a:lnTo>
                  <a:lnTo>
                    <a:pt x="2841" y="344"/>
                  </a:lnTo>
                  <a:lnTo>
                    <a:pt x="2921" y="344"/>
                  </a:lnTo>
                  <a:lnTo>
                    <a:pt x="2920" y="349"/>
                  </a:lnTo>
                  <a:lnTo>
                    <a:pt x="2921" y="353"/>
                  </a:lnTo>
                  <a:lnTo>
                    <a:pt x="2922" y="357"/>
                  </a:lnTo>
                  <a:lnTo>
                    <a:pt x="2925" y="359"/>
                  </a:lnTo>
                  <a:lnTo>
                    <a:pt x="2927" y="362"/>
                  </a:lnTo>
                  <a:lnTo>
                    <a:pt x="2929" y="363"/>
                  </a:lnTo>
                  <a:lnTo>
                    <a:pt x="2932" y="364"/>
                  </a:lnTo>
                  <a:lnTo>
                    <a:pt x="2935" y="364"/>
                  </a:lnTo>
                  <a:lnTo>
                    <a:pt x="2943" y="363"/>
                  </a:lnTo>
                  <a:lnTo>
                    <a:pt x="2948" y="359"/>
                  </a:lnTo>
                  <a:lnTo>
                    <a:pt x="2951" y="351"/>
                  </a:lnTo>
                  <a:lnTo>
                    <a:pt x="2954" y="342"/>
                  </a:lnTo>
                  <a:lnTo>
                    <a:pt x="2963" y="295"/>
                  </a:lnTo>
                  <a:close/>
                  <a:moveTo>
                    <a:pt x="2935" y="238"/>
                  </a:moveTo>
                  <a:lnTo>
                    <a:pt x="2936" y="243"/>
                  </a:lnTo>
                  <a:lnTo>
                    <a:pt x="2938" y="247"/>
                  </a:lnTo>
                  <a:lnTo>
                    <a:pt x="2940" y="251"/>
                  </a:lnTo>
                  <a:lnTo>
                    <a:pt x="2941" y="254"/>
                  </a:lnTo>
                  <a:lnTo>
                    <a:pt x="2943" y="259"/>
                  </a:lnTo>
                  <a:lnTo>
                    <a:pt x="2945" y="261"/>
                  </a:lnTo>
                  <a:lnTo>
                    <a:pt x="2948" y="263"/>
                  </a:lnTo>
                  <a:lnTo>
                    <a:pt x="2950" y="264"/>
                  </a:lnTo>
                  <a:lnTo>
                    <a:pt x="2954" y="261"/>
                  </a:lnTo>
                  <a:lnTo>
                    <a:pt x="2958" y="259"/>
                  </a:lnTo>
                  <a:lnTo>
                    <a:pt x="2961" y="258"/>
                  </a:lnTo>
                  <a:lnTo>
                    <a:pt x="2963" y="254"/>
                  </a:lnTo>
                  <a:lnTo>
                    <a:pt x="2966" y="250"/>
                  </a:lnTo>
                  <a:lnTo>
                    <a:pt x="2969" y="244"/>
                  </a:lnTo>
                  <a:lnTo>
                    <a:pt x="2970" y="237"/>
                  </a:lnTo>
                  <a:lnTo>
                    <a:pt x="2971" y="229"/>
                  </a:lnTo>
                  <a:lnTo>
                    <a:pt x="2972" y="225"/>
                  </a:lnTo>
                  <a:lnTo>
                    <a:pt x="2974" y="221"/>
                  </a:lnTo>
                  <a:lnTo>
                    <a:pt x="2975" y="217"/>
                  </a:lnTo>
                  <a:lnTo>
                    <a:pt x="2976" y="213"/>
                  </a:lnTo>
                  <a:lnTo>
                    <a:pt x="2976" y="209"/>
                  </a:lnTo>
                  <a:lnTo>
                    <a:pt x="2977" y="204"/>
                  </a:lnTo>
                  <a:lnTo>
                    <a:pt x="2977" y="199"/>
                  </a:lnTo>
                  <a:lnTo>
                    <a:pt x="2977" y="195"/>
                  </a:lnTo>
                  <a:lnTo>
                    <a:pt x="2977" y="186"/>
                  </a:lnTo>
                  <a:lnTo>
                    <a:pt x="2975" y="179"/>
                  </a:lnTo>
                  <a:lnTo>
                    <a:pt x="2971" y="175"/>
                  </a:lnTo>
                  <a:lnTo>
                    <a:pt x="2964" y="174"/>
                  </a:lnTo>
                  <a:lnTo>
                    <a:pt x="2961" y="174"/>
                  </a:lnTo>
                  <a:lnTo>
                    <a:pt x="2958" y="175"/>
                  </a:lnTo>
                  <a:lnTo>
                    <a:pt x="2956" y="176"/>
                  </a:lnTo>
                  <a:lnTo>
                    <a:pt x="2954" y="179"/>
                  </a:lnTo>
                  <a:lnTo>
                    <a:pt x="2950" y="181"/>
                  </a:lnTo>
                  <a:lnTo>
                    <a:pt x="2948" y="186"/>
                  </a:lnTo>
                  <a:lnTo>
                    <a:pt x="2946" y="192"/>
                  </a:lnTo>
                  <a:lnTo>
                    <a:pt x="2943" y="200"/>
                  </a:lnTo>
                  <a:lnTo>
                    <a:pt x="2942" y="204"/>
                  </a:lnTo>
                  <a:lnTo>
                    <a:pt x="2941" y="209"/>
                  </a:lnTo>
                  <a:lnTo>
                    <a:pt x="2941" y="213"/>
                  </a:lnTo>
                  <a:lnTo>
                    <a:pt x="2940" y="218"/>
                  </a:lnTo>
                  <a:lnTo>
                    <a:pt x="2939" y="223"/>
                  </a:lnTo>
                  <a:lnTo>
                    <a:pt x="2938" y="228"/>
                  </a:lnTo>
                  <a:lnTo>
                    <a:pt x="2936" y="233"/>
                  </a:lnTo>
                  <a:lnTo>
                    <a:pt x="2935" y="238"/>
                  </a:lnTo>
                  <a:close/>
                  <a:moveTo>
                    <a:pt x="3106" y="112"/>
                  </a:moveTo>
                  <a:lnTo>
                    <a:pt x="3187" y="112"/>
                  </a:lnTo>
                  <a:lnTo>
                    <a:pt x="3167" y="231"/>
                  </a:lnTo>
                  <a:lnTo>
                    <a:pt x="3166" y="236"/>
                  </a:lnTo>
                  <a:lnTo>
                    <a:pt x="3165" y="240"/>
                  </a:lnTo>
                  <a:lnTo>
                    <a:pt x="3164" y="244"/>
                  </a:lnTo>
                  <a:lnTo>
                    <a:pt x="3163" y="247"/>
                  </a:lnTo>
                  <a:lnTo>
                    <a:pt x="3164" y="254"/>
                  </a:lnTo>
                  <a:lnTo>
                    <a:pt x="3166" y="260"/>
                  </a:lnTo>
                  <a:lnTo>
                    <a:pt x="3170" y="263"/>
                  </a:lnTo>
                  <a:lnTo>
                    <a:pt x="3174" y="264"/>
                  </a:lnTo>
                  <a:lnTo>
                    <a:pt x="3179" y="263"/>
                  </a:lnTo>
                  <a:lnTo>
                    <a:pt x="3184" y="262"/>
                  </a:lnTo>
                  <a:lnTo>
                    <a:pt x="3187" y="260"/>
                  </a:lnTo>
                  <a:lnTo>
                    <a:pt x="3189" y="259"/>
                  </a:lnTo>
                  <a:lnTo>
                    <a:pt x="3192" y="254"/>
                  </a:lnTo>
                  <a:lnTo>
                    <a:pt x="3194" y="250"/>
                  </a:lnTo>
                  <a:lnTo>
                    <a:pt x="3196" y="244"/>
                  </a:lnTo>
                  <a:lnTo>
                    <a:pt x="3196" y="237"/>
                  </a:lnTo>
                  <a:lnTo>
                    <a:pt x="3217" y="112"/>
                  </a:lnTo>
                  <a:lnTo>
                    <a:pt x="3296" y="112"/>
                  </a:lnTo>
                  <a:lnTo>
                    <a:pt x="3274" y="231"/>
                  </a:lnTo>
                  <a:lnTo>
                    <a:pt x="3270" y="252"/>
                  </a:lnTo>
                  <a:lnTo>
                    <a:pt x="3263" y="271"/>
                  </a:lnTo>
                  <a:lnTo>
                    <a:pt x="3254" y="287"/>
                  </a:lnTo>
                  <a:lnTo>
                    <a:pt x="3244" y="300"/>
                  </a:lnTo>
                  <a:lnTo>
                    <a:pt x="3229" y="311"/>
                  </a:lnTo>
                  <a:lnTo>
                    <a:pt x="3214" y="318"/>
                  </a:lnTo>
                  <a:lnTo>
                    <a:pt x="3196" y="323"/>
                  </a:lnTo>
                  <a:lnTo>
                    <a:pt x="3175" y="325"/>
                  </a:lnTo>
                  <a:lnTo>
                    <a:pt x="3155" y="326"/>
                  </a:lnTo>
                  <a:lnTo>
                    <a:pt x="3137" y="323"/>
                  </a:lnTo>
                  <a:lnTo>
                    <a:pt x="3120" y="319"/>
                  </a:lnTo>
                  <a:lnTo>
                    <a:pt x="3108" y="311"/>
                  </a:lnTo>
                  <a:lnTo>
                    <a:pt x="3098" y="301"/>
                  </a:lnTo>
                  <a:lnTo>
                    <a:pt x="3091" y="288"/>
                  </a:lnTo>
                  <a:lnTo>
                    <a:pt x="3086" y="273"/>
                  </a:lnTo>
                  <a:lnTo>
                    <a:pt x="3085" y="254"/>
                  </a:lnTo>
                  <a:lnTo>
                    <a:pt x="3085" y="252"/>
                  </a:lnTo>
                  <a:lnTo>
                    <a:pt x="3085" y="249"/>
                  </a:lnTo>
                  <a:lnTo>
                    <a:pt x="3085" y="247"/>
                  </a:lnTo>
                  <a:lnTo>
                    <a:pt x="3085" y="245"/>
                  </a:lnTo>
                  <a:lnTo>
                    <a:pt x="3085" y="243"/>
                  </a:lnTo>
                  <a:lnTo>
                    <a:pt x="3087" y="240"/>
                  </a:lnTo>
                  <a:lnTo>
                    <a:pt x="3088" y="237"/>
                  </a:lnTo>
                  <a:lnTo>
                    <a:pt x="3088" y="233"/>
                  </a:lnTo>
                  <a:lnTo>
                    <a:pt x="3106" y="112"/>
                  </a:lnTo>
                  <a:close/>
                  <a:moveTo>
                    <a:pt x="3417" y="287"/>
                  </a:moveTo>
                  <a:lnTo>
                    <a:pt x="3411" y="296"/>
                  </a:lnTo>
                  <a:lnTo>
                    <a:pt x="3405" y="303"/>
                  </a:lnTo>
                  <a:lnTo>
                    <a:pt x="3397" y="311"/>
                  </a:lnTo>
                  <a:lnTo>
                    <a:pt x="3389" y="317"/>
                  </a:lnTo>
                  <a:lnTo>
                    <a:pt x="3385" y="320"/>
                  </a:lnTo>
                  <a:lnTo>
                    <a:pt x="3382" y="322"/>
                  </a:lnTo>
                  <a:lnTo>
                    <a:pt x="3378" y="325"/>
                  </a:lnTo>
                  <a:lnTo>
                    <a:pt x="3373" y="326"/>
                  </a:lnTo>
                  <a:lnTo>
                    <a:pt x="3369" y="328"/>
                  </a:lnTo>
                  <a:lnTo>
                    <a:pt x="3365" y="329"/>
                  </a:lnTo>
                  <a:lnTo>
                    <a:pt x="3361" y="330"/>
                  </a:lnTo>
                  <a:lnTo>
                    <a:pt x="3357" y="330"/>
                  </a:lnTo>
                  <a:lnTo>
                    <a:pt x="3352" y="330"/>
                  </a:lnTo>
                  <a:lnTo>
                    <a:pt x="3347" y="329"/>
                  </a:lnTo>
                  <a:lnTo>
                    <a:pt x="3342" y="327"/>
                  </a:lnTo>
                  <a:lnTo>
                    <a:pt x="3337" y="325"/>
                  </a:lnTo>
                  <a:lnTo>
                    <a:pt x="3333" y="322"/>
                  </a:lnTo>
                  <a:lnTo>
                    <a:pt x="3329" y="319"/>
                  </a:lnTo>
                  <a:lnTo>
                    <a:pt x="3325" y="315"/>
                  </a:lnTo>
                  <a:lnTo>
                    <a:pt x="3322" y="310"/>
                  </a:lnTo>
                  <a:lnTo>
                    <a:pt x="3319" y="306"/>
                  </a:lnTo>
                  <a:lnTo>
                    <a:pt x="3316" y="300"/>
                  </a:lnTo>
                  <a:lnTo>
                    <a:pt x="3314" y="294"/>
                  </a:lnTo>
                  <a:lnTo>
                    <a:pt x="3312" y="288"/>
                  </a:lnTo>
                  <a:lnTo>
                    <a:pt x="3310" y="280"/>
                  </a:lnTo>
                  <a:lnTo>
                    <a:pt x="3309" y="273"/>
                  </a:lnTo>
                  <a:lnTo>
                    <a:pt x="3308" y="264"/>
                  </a:lnTo>
                  <a:lnTo>
                    <a:pt x="3308" y="254"/>
                  </a:lnTo>
                  <a:lnTo>
                    <a:pt x="3308" y="251"/>
                  </a:lnTo>
                  <a:lnTo>
                    <a:pt x="3308" y="248"/>
                  </a:lnTo>
                  <a:lnTo>
                    <a:pt x="3308" y="244"/>
                  </a:lnTo>
                  <a:lnTo>
                    <a:pt x="3308" y="240"/>
                  </a:lnTo>
                  <a:lnTo>
                    <a:pt x="3308" y="235"/>
                  </a:lnTo>
                  <a:lnTo>
                    <a:pt x="3309" y="231"/>
                  </a:lnTo>
                  <a:lnTo>
                    <a:pt x="3310" y="228"/>
                  </a:lnTo>
                  <a:lnTo>
                    <a:pt x="3310" y="224"/>
                  </a:lnTo>
                  <a:lnTo>
                    <a:pt x="3311" y="214"/>
                  </a:lnTo>
                  <a:lnTo>
                    <a:pt x="3313" y="204"/>
                  </a:lnTo>
                  <a:lnTo>
                    <a:pt x="3315" y="196"/>
                  </a:lnTo>
                  <a:lnTo>
                    <a:pt x="3318" y="188"/>
                  </a:lnTo>
                  <a:lnTo>
                    <a:pt x="3320" y="180"/>
                  </a:lnTo>
                  <a:lnTo>
                    <a:pt x="3323" y="173"/>
                  </a:lnTo>
                  <a:lnTo>
                    <a:pt x="3325" y="166"/>
                  </a:lnTo>
                  <a:lnTo>
                    <a:pt x="3329" y="160"/>
                  </a:lnTo>
                  <a:lnTo>
                    <a:pt x="3332" y="153"/>
                  </a:lnTo>
                  <a:lnTo>
                    <a:pt x="3335" y="147"/>
                  </a:lnTo>
                  <a:lnTo>
                    <a:pt x="3339" y="141"/>
                  </a:lnTo>
                  <a:lnTo>
                    <a:pt x="3342" y="136"/>
                  </a:lnTo>
                  <a:lnTo>
                    <a:pt x="3346" y="131"/>
                  </a:lnTo>
                  <a:lnTo>
                    <a:pt x="3350" y="127"/>
                  </a:lnTo>
                  <a:lnTo>
                    <a:pt x="3354" y="123"/>
                  </a:lnTo>
                  <a:lnTo>
                    <a:pt x="3358" y="120"/>
                  </a:lnTo>
                  <a:lnTo>
                    <a:pt x="3362" y="118"/>
                  </a:lnTo>
                  <a:lnTo>
                    <a:pt x="3365" y="115"/>
                  </a:lnTo>
                  <a:lnTo>
                    <a:pt x="3369" y="114"/>
                  </a:lnTo>
                  <a:lnTo>
                    <a:pt x="3374" y="112"/>
                  </a:lnTo>
                  <a:lnTo>
                    <a:pt x="3379" y="111"/>
                  </a:lnTo>
                  <a:lnTo>
                    <a:pt x="3383" y="111"/>
                  </a:lnTo>
                  <a:lnTo>
                    <a:pt x="3388" y="110"/>
                  </a:lnTo>
                  <a:lnTo>
                    <a:pt x="3393" y="110"/>
                  </a:lnTo>
                  <a:lnTo>
                    <a:pt x="3400" y="111"/>
                  </a:lnTo>
                  <a:lnTo>
                    <a:pt x="3407" y="112"/>
                  </a:lnTo>
                  <a:lnTo>
                    <a:pt x="3415" y="115"/>
                  </a:lnTo>
                  <a:lnTo>
                    <a:pt x="3421" y="119"/>
                  </a:lnTo>
                  <a:lnTo>
                    <a:pt x="3427" y="125"/>
                  </a:lnTo>
                  <a:lnTo>
                    <a:pt x="3432" y="131"/>
                  </a:lnTo>
                  <a:lnTo>
                    <a:pt x="3436" y="138"/>
                  </a:lnTo>
                  <a:lnTo>
                    <a:pt x="3438" y="145"/>
                  </a:lnTo>
                  <a:lnTo>
                    <a:pt x="3438" y="145"/>
                  </a:lnTo>
                  <a:lnTo>
                    <a:pt x="3441" y="112"/>
                  </a:lnTo>
                  <a:lnTo>
                    <a:pt x="3521" y="112"/>
                  </a:lnTo>
                  <a:lnTo>
                    <a:pt x="3486" y="323"/>
                  </a:lnTo>
                  <a:lnTo>
                    <a:pt x="3409" y="323"/>
                  </a:lnTo>
                  <a:lnTo>
                    <a:pt x="3417" y="287"/>
                  </a:lnTo>
                  <a:lnTo>
                    <a:pt x="3417" y="287"/>
                  </a:lnTo>
                  <a:close/>
                  <a:moveTo>
                    <a:pt x="3387" y="237"/>
                  </a:moveTo>
                  <a:lnTo>
                    <a:pt x="3387" y="247"/>
                  </a:lnTo>
                  <a:lnTo>
                    <a:pt x="3389" y="254"/>
                  </a:lnTo>
                  <a:lnTo>
                    <a:pt x="3393" y="260"/>
                  </a:lnTo>
                  <a:lnTo>
                    <a:pt x="3400" y="264"/>
                  </a:lnTo>
                  <a:lnTo>
                    <a:pt x="3403" y="261"/>
                  </a:lnTo>
                  <a:lnTo>
                    <a:pt x="3406" y="259"/>
                  </a:lnTo>
                  <a:lnTo>
                    <a:pt x="3410" y="258"/>
                  </a:lnTo>
                  <a:lnTo>
                    <a:pt x="3414" y="254"/>
                  </a:lnTo>
                  <a:lnTo>
                    <a:pt x="3415" y="251"/>
                  </a:lnTo>
                  <a:lnTo>
                    <a:pt x="3417" y="247"/>
                  </a:lnTo>
                  <a:lnTo>
                    <a:pt x="3419" y="243"/>
                  </a:lnTo>
                  <a:lnTo>
                    <a:pt x="3421" y="238"/>
                  </a:lnTo>
                  <a:lnTo>
                    <a:pt x="3422" y="234"/>
                  </a:lnTo>
                  <a:lnTo>
                    <a:pt x="3423" y="229"/>
                  </a:lnTo>
                  <a:lnTo>
                    <a:pt x="3424" y="224"/>
                  </a:lnTo>
                  <a:lnTo>
                    <a:pt x="3427" y="219"/>
                  </a:lnTo>
                  <a:lnTo>
                    <a:pt x="3427" y="214"/>
                  </a:lnTo>
                  <a:lnTo>
                    <a:pt x="3428" y="209"/>
                  </a:lnTo>
                  <a:lnTo>
                    <a:pt x="3429" y="204"/>
                  </a:lnTo>
                  <a:lnTo>
                    <a:pt x="3429" y="202"/>
                  </a:lnTo>
                  <a:lnTo>
                    <a:pt x="3429" y="202"/>
                  </a:lnTo>
                  <a:lnTo>
                    <a:pt x="3429" y="201"/>
                  </a:lnTo>
                  <a:lnTo>
                    <a:pt x="3429" y="199"/>
                  </a:lnTo>
                  <a:lnTo>
                    <a:pt x="3429" y="197"/>
                  </a:lnTo>
                  <a:lnTo>
                    <a:pt x="3429" y="197"/>
                  </a:lnTo>
                  <a:lnTo>
                    <a:pt x="3429" y="196"/>
                  </a:lnTo>
                  <a:lnTo>
                    <a:pt x="3429" y="194"/>
                  </a:lnTo>
                  <a:lnTo>
                    <a:pt x="3429" y="193"/>
                  </a:lnTo>
                  <a:lnTo>
                    <a:pt x="3428" y="184"/>
                  </a:lnTo>
                  <a:lnTo>
                    <a:pt x="3426" y="178"/>
                  </a:lnTo>
                  <a:lnTo>
                    <a:pt x="3421" y="175"/>
                  </a:lnTo>
                  <a:lnTo>
                    <a:pt x="3416" y="174"/>
                  </a:lnTo>
                  <a:lnTo>
                    <a:pt x="3412" y="174"/>
                  </a:lnTo>
                  <a:lnTo>
                    <a:pt x="3409" y="175"/>
                  </a:lnTo>
                  <a:lnTo>
                    <a:pt x="3406" y="176"/>
                  </a:lnTo>
                  <a:lnTo>
                    <a:pt x="3403" y="179"/>
                  </a:lnTo>
                  <a:lnTo>
                    <a:pt x="3400" y="182"/>
                  </a:lnTo>
                  <a:lnTo>
                    <a:pt x="3398" y="186"/>
                  </a:lnTo>
                  <a:lnTo>
                    <a:pt x="3395" y="192"/>
                  </a:lnTo>
                  <a:lnTo>
                    <a:pt x="3393" y="198"/>
                  </a:lnTo>
                  <a:lnTo>
                    <a:pt x="3391" y="207"/>
                  </a:lnTo>
                  <a:lnTo>
                    <a:pt x="3389" y="216"/>
                  </a:lnTo>
                  <a:lnTo>
                    <a:pt x="3388" y="226"/>
                  </a:lnTo>
                  <a:lnTo>
                    <a:pt x="3387" y="237"/>
                  </a:lnTo>
                  <a:close/>
                  <a:moveTo>
                    <a:pt x="3529" y="323"/>
                  </a:moveTo>
                  <a:lnTo>
                    <a:pt x="3562" y="112"/>
                  </a:lnTo>
                  <a:lnTo>
                    <a:pt x="3642" y="112"/>
                  </a:lnTo>
                  <a:lnTo>
                    <a:pt x="3629" y="152"/>
                  </a:lnTo>
                  <a:lnTo>
                    <a:pt x="3629" y="154"/>
                  </a:lnTo>
                  <a:lnTo>
                    <a:pt x="3636" y="143"/>
                  </a:lnTo>
                  <a:lnTo>
                    <a:pt x="3643" y="134"/>
                  </a:lnTo>
                  <a:lnTo>
                    <a:pt x="3651" y="126"/>
                  </a:lnTo>
                  <a:lnTo>
                    <a:pt x="3659" y="119"/>
                  </a:lnTo>
                  <a:lnTo>
                    <a:pt x="3667" y="114"/>
                  </a:lnTo>
                  <a:lnTo>
                    <a:pt x="3676" y="111"/>
                  </a:lnTo>
                  <a:lnTo>
                    <a:pt x="3685" y="110"/>
                  </a:lnTo>
                  <a:lnTo>
                    <a:pt x="3695" y="110"/>
                  </a:lnTo>
                  <a:lnTo>
                    <a:pt x="3683" y="195"/>
                  </a:lnTo>
                  <a:lnTo>
                    <a:pt x="3675" y="192"/>
                  </a:lnTo>
                  <a:lnTo>
                    <a:pt x="3668" y="190"/>
                  </a:lnTo>
                  <a:lnTo>
                    <a:pt x="3662" y="188"/>
                  </a:lnTo>
                  <a:lnTo>
                    <a:pt x="3657" y="188"/>
                  </a:lnTo>
                  <a:lnTo>
                    <a:pt x="3651" y="189"/>
                  </a:lnTo>
                  <a:lnTo>
                    <a:pt x="3645" y="191"/>
                  </a:lnTo>
                  <a:lnTo>
                    <a:pt x="3639" y="195"/>
                  </a:lnTo>
                  <a:lnTo>
                    <a:pt x="3635" y="200"/>
                  </a:lnTo>
                  <a:lnTo>
                    <a:pt x="3632" y="204"/>
                  </a:lnTo>
                  <a:lnTo>
                    <a:pt x="3630" y="208"/>
                  </a:lnTo>
                  <a:lnTo>
                    <a:pt x="3628" y="212"/>
                  </a:lnTo>
                  <a:lnTo>
                    <a:pt x="3626" y="216"/>
                  </a:lnTo>
                  <a:lnTo>
                    <a:pt x="3624" y="220"/>
                  </a:lnTo>
                  <a:lnTo>
                    <a:pt x="3623" y="225"/>
                  </a:lnTo>
                  <a:lnTo>
                    <a:pt x="3622" y="229"/>
                  </a:lnTo>
                  <a:lnTo>
                    <a:pt x="3620" y="233"/>
                  </a:lnTo>
                  <a:lnTo>
                    <a:pt x="3607" y="323"/>
                  </a:lnTo>
                  <a:lnTo>
                    <a:pt x="3529" y="323"/>
                  </a:lnTo>
                  <a:close/>
                  <a:moveTo>
                    <a:pt x="3927" y="294"/>
                  </a:moveTo>
                  <a:lnTo>
                    <a:pt x="3922" y="302"/>
                  </a:lnTo>
                  <a:lnTo>
                    <a:pt x="3916" y="310"/>
                  </a:lnTo>
                  <a:lnTo>
                    <a:pt x="3909" y="316"/>
                  </a:lnTo>
                  <a:lnTo>
                    <a:pt x="3903" y="321"/>
                  </a:lnTo>
                  <a:lnTo>
                    <a:pt x="3899" y="323"/>
                  </a:lnTo>
                  <a:lnTo>
                    <a:pt x="3896" y="324"/>
                  </a:lnTo>
                  <a:lnTo>
                    <a:pt x="3892" y="326"/>
                  </a:lnTo>
                  <a:lnTo>
                    <a:pt x="3888" y="327"/>
                  </a:lnTo>
                  <a:lnTo>
                    <a:pt x="3884" y="328"/>
                  </a:lnTo>
                  <a:lnTo>
                    <a:pt x="3880" y="329"/>
                  </a:lnTo>
                  <a:lnTo>
                    <a:pt x="3877" y="330"/>
                  </a:lnTo>
                  <a:lnTo>
                    <a:pt x="3873" y="330"/>
                  </a:lnTo>
                  <a:lnTo>
                    <a:pt x="3868" y="330"/>
                  </a:lnTo>
                  <a:lnTo>
                    <a:pt x="3862" y="329"/>
                  </a:lnTo>
                  <a:lnTo>
                    <a:pt x="3857" y="327"/>
                  </a:lnTo>
                  <a:lnTo>
                    <a:pt x="3853" y="325"/>
                  </a:lnTo>
                  <a:lnTo>
                    <a:pt x="3848" y="322"/>
                  </a:lnTo>
                  <a:lnTo>
                    <a:pt x="3844" y="319"/>
                  </a:lnTo>
                  <a:lnTo>
                    <a:pt x="3841" y="315"/>
                  </a:lnTo>
                  <a:lnTo>
                    <a:pt x="3837" y="310"/>
                  </a:lnTo>
                  <a:lnTo>
                    <a:pt x="3833" y="306"/>
                  </a:lnTo>
                  <a:lnTo>
                    <a:pt x="3830" y="300"/>
                  </a:lnTo>
                  <a:lnTo>
                    <a:pt x="3828" y="294"/>
                  </a:lnTo>
                  <a:lnTo>
                    <a:pt x="3826" y="288"/>
                  </a:lnTo>
                  <a:lnTo>
                    <a:pt x="3825" y="280"/>
                  </a:lnTo>
                  <a:lnTo>
                    <a:pt x="3824" y="273"/>
                  </a:lnTo>
                  <a:lnTo>
                    <a:pt x="3823" y="264"/>
                  </a:lnTo>
                  <a:lnTo>
                    <a:pt x="3823" y="254"/>
                  </a:lnTo>
                  <a:lnTo>
                    <a:pt x="3823" y="243"/>
                  </a:lnTo>
                  <a:lnTo>
                    <a:pt x="3824" y="232"/>
                  </a:lnTo>
                  <a:lnTo>
                    <a:pt x="3824" y="222"/>
                  </a:lnTo>
                  <a:lnTo>
                    <a:pt x="3825" y="212"/>
                  </a:lnTo>
                  <a:lnTo>
                    <a:pt x="3827" y="202"/>
                  </a:lnTo>
                  <a:lnTo>
                    <a:pt x="3828" y="193"/>
                  </a:lnTo>
                  <a:lnTo>
                    <a:pt x="3831" y="184"/>
                  </a:lnTo>
                  <a:lnTo>
                    <a:pt x="3833" y="176"/>
                  </a:lnTo>
                  <a:lnTo>
                    <a:pt x="3836" y="168"/>
                  </a:lnTo>
                  <a:lnTo>
                    <a:pt x="3839" y="161"/>
                  </a:lnTo>
                  <a:lnTo>
                    <a:pt x="3842" y="153"/>
                  </a:lnTo>
                  <a:lnTo>
                    <a:pt x="3846" y="147"/>
                  </a:lnTo>
                  <a:lnTo>
                    <a:pt x="3851" y="141"/>
                  </a:lnTo>
                  <a:lnTo>
                    <a:pt x="3856" y="135"/>
                  </a:lnTo>
                  <a:lnTo>
                    <a:pt x="3861" y="129"/>
                  </a:lnTo>
                  <a:lnTo>
                    <a:pt x="3868" y="124"/>
                  </a:lnTo>
                  <a:lnTo>
                    <a:pt x="3873" y="120"/>
                  </a:lnTo>
                  <a:lnTo>
                    <a:pt x="3877" y="117"/>
                  </a:lnTo>
                  <a:lnTo>
                    <a:pt x="3882" y="115"/>
                  </a:lnTo>
                  <a:lnTo>
                    <a:pt x="3887" y="113"/>
                  </a:lnTo>
                  <a:lnTo>
                    <a:pt x="3892" y="112"/>
                  </a:lnTo>
                  <a:lnTo>
                    <a:pt x="3896" y="111"/>
                  </a:lnTo>
                  <a:lnTo>
                    <a:pt x="3901" y="110"/>
                  </a:lnTo>
                  <a:lnTo>
                    <a:pt x="3905" y="110"/>
                  </a:lnTo>
                  <a:lnTo>
                    <a:pt x="3909" y="110"/>
                  </a:lnTo>
                  <a:lnTo>
                    <a:pt x="3915" y="110"/>
                  </a:lnTo>
                  <a:lnTo>
                    <a:pt x="3918" y="111"/>
                  </a:lnTo>
                  <a:lnTo>
                    <a:pt x="3922" y="112"/>
                  </a:lnTo>
                  <a:lnTo>
                    <a:pt x="3926" y="113"/>
                  </a:lnTo>
                  <a:lnTo>
                    <a:pt x="3930" y="115"/>
                  </a:lnTo>
                  <a:lnTo>
                    <a:pt x="3933" y="117"/>
                  </a:lnTo>
                  <a:lnTo>
                    <a:pt x="3937" y="119"/>
                  </a:lnTo>
                  <a:lnTo>
                    <a:pt x="3942" y="124"/>
                  </a:lnTo>
                  <a:lnTo>
                    <a:pt x="3946" y="130"/>
                  </a:lnTo>
                  <a:lnTo>
                    <a:pt x="3949" y="136"/>
                  </a:lnTo>
                  <a:lnTo>
                    <a:pt x="3951" y="143"/>
                  </a:lnTo>
                  <a:lnTo>
                    <a:pt x="3951" y="143"/>
                  </a:lnTo>
                  <a:lnTo>
                    <a:pt x="3952" y="134"/>
                  </a:lnTo>
                  <a:lnTo>
                    <a:pt x="3953" y="126"/>
                  </a:lnTo>
                  <a:lnTo>
                    <a:pt x="3954" y="117"/>
                  </a:lnTo>
                  <a:lnTo>
                    <a:pt x="3956" y="109"/>
                  </a:lnTo>
                  <a:lnTo>
                    <a:pt x="3957" y="100"/>
                  </a:lnTo>
                  <a:lnTo>
                    <a:pt x="3958" y="92"/>
                  </a:lnTo>
                  <a:lnTo>
                    <a:pt x="3959" y="84"/>
                  </a:lnTo>
                  <a:lnTo>
                    <a:pt x="3960" y="76"/>
                  </a:lnTo>
                  <a:lnTo>
                    <a:pt x="3961" y="68"/>
                  </a:lnTo>
                  <a:lnTo>
                    <a:pt x="3964" y="60"/>
                  </a:lnTo>
                  <a:lnTo>
                    <a:pt x="3965" y="50"/>
                  </a:lnTo>
                  <a:lnTo>
                    <a:pt x="3967" y="42"/>
                  </a:lnTo>
                  <a:lnTo>
                    <a:pt x="3968" y="33"/>
                  </a:lnTo>
                  <a:lnTo>
                    <a:pt x="3970" y="24"/>
                  </a:lnTo>
                  <a:lnTo>
                    <a:pt x="3971" y="14"/>
                  </a:lnTo>
                  <a:lnTo>
                    <a:pt x="3973" y="3"/>
                  </a:lnTo>
                  <a:lnTo>
                    <a:pt x="4050" y="3"/>
                  </a:lnTo>
                  <a:lnTo>
                    <a:pt x="4000" y="323"/>
                  </a:lnTo>
                  <a:lnTo>
                    <a:pt x="3920" y="323"/>
                  </a:lnTo>
                  <a:lnTo>
                    <a:pt x="3927" y="294"/>
                  </a:lnTo>
                  <a:lnTo>
                    <a:pt x="3927" y="294"/>
                  </a:lnTo>
                  <a:close/>
                  <a:moveTo>
                    <a:pt x="3903" y="244"/>
                  </a:moveTo>
                  <a:lnTo>
                    <a:pt x="3904" y="250"/>
                  </a:lnTo>
                  <a:lnTo>
                    <a:pt x="3906" y="254"/>
                  </a:lnTo>
                  <a:lnTo>
                    <a:pt x="3910" y="258"/>
                  </a:lnTo>
                  <a:lnTo>
                    <a:pt x="3916" y="259"/>
                  </a:lnTo>
                  <a:lnTo>
                    <a:pt x="3922" y="258"/>
                  </a:lnTo>
                  <a:lnTo>
                    <a:pt x="3927" y="254"/>
                  </a:lnTo>
                  <a:lnTo>
                    <a:pt x="3931" y="250"/>
                  </a:lnTo>
                  <a:lnTo>
                    <a:pt x="3935" y="244"/>
                  </a:lnTo>
                  <a:lnTo>
                    <a:pt x="3936" y="239"/>
                  </a:lnTo>
                  <a:lnTo>
                    <a:pt x="3938" y="234"/>
                  </a:lnTo>
                  <a:lnTo>
                    <a:pt x="3939" y="229"/>
                  </a:lnTo>
                  <a:lnTo>
                    <a:pt x="3940" y="223"/>
                  </a:lnTo>
                  <a:lnTo>
                    <a:pt x="3941" y="217"/>
                  </a:lnTo>
                  <a:lnTo>
                    <a:pt x="3942" y="211"/>
                  </a:lnTo>
                  <a:lnTo>
                    <a:pt x="3943" y="203"/>
                  </a:lnTo>
                  <a:lnTo>
                    <a:pt x="3944" y="195"/>
                  </a:lnTo>
                  <a:lnTo>
                    <a:pt x="3943" y="186"/>
                  </a:lnTo>
                  <a:lnTo>
                    <a:pt x="3940" y="179"/>
                  </a:lnTo>
                  <a:lnTo>
                    <a:pt x="3936" y="175"/>
                  </a:lnTo>
                  <a:lnTo>
                    <a:pt x="3930" y="174"/>
                  </a:lnTo>
                  <a:lnTo>
                    <a:pt x="3928" y="174"/>
                  </a:lnTo>
                  <a:lnTo>
                    <a:pt x="3925" y="175"/>
                  </a:lnTo>
                  <a:lnTo>
                    <a:pt x="3922" y="176"/>
                  </a:lnTo>
                  <a:lnTo>
                    <a:pt x="3918" y="179"/>
                  </a:lnTo>
                  <a:lnTo>
                    <a:pt x="3916" y="181"/>
                  </a:lnTo>
                  <a:lnTo>
                    <a:pt x="3913" y="184"/>
                  </a:lnTo>
                  <a:lnTo>
                    <a:pt x="3911" y="187"/>
                  </a:lnTo>
                  <a:lnTo>
                    <a:pt x="3910" y="190"/>
                  </a:lnTo>
                  <a:lnTo>
                    <a:pt x="3908" y="197"/>
                  </a:lnTo>
                  <a:lnTo>
                    <a:pt x="3907" y="203"/>
                  </a:lnTo>
                  <a:lnTo>
                    <a:pt x="3906" y="210"/>
                  </a:lnTo>
                  <a:lnTo>
                    <a:pt x="3905" y="215"/>
                  </a:lnTo>
                  <a:lnTo>
                    <a:pt x="3904" y="220"/>
                  </a:lnTo>
                  <a:lnTo>
                    <a:pt x="3903" y="224"/>
                  </a:lnTo>
                  <a:lnTo>
                    <a:pt x="3903" y="228"/>
                  </a:lnTo>
                  <a:lnTo>
                    <a:pt x="3903" y="231"/>
                  </a:lnTo>
                  <a:lnTo>
                    <a:pt x="3903" y="233"/>
                  </a:lnTo>
                  <a:lnTo>
                    <a:pt x="3903" y="236"/>
                  </a:lnTo>
                  <a:lnTo>
                    <a:pt x="3903" y="240"/>
                  </a:lnTo>
                  <a:lnTo>
                    <a:pt x="3903" y="244"/>
                  </a:lnTo>
                  <a:lnTo>
                    <a:pt x="3903" y="244"/>
                  </a:lnTo>
                  <a:close/>
                  <a:moveTo>
                    <a:pt x="4134" y="188"/>
                  </a:moveTo>
                  <a:lnTo>
                    <a:pt x="4170" y="188"/>
                  </a:lnTo>
                  <a:lnTo>
                    <a:pt x="4170" y="183"/>
                  </a:lnTo>
                  <a:lnTo>
                    <a:pt x="4169" y="174"/>
                  </a:lnTo>
                  <a:lnTo>
                    <a:pt x="4166" y="169"/>
                  </a:lnTo>
                  <a:lnTo>
                    <a:pt x="4162" y="166"/>
                  </a:lnTo>
                  <a:lnTo>
                    <a:pt x="4155" y="165"/>
                  </a:lnTo>
                  <a:lnTo>
                    <a:pt x="4151" y="165"/>
                  </a:lnTo>
                  <a:lnTo>
                    <a:pt x="4148" y="166"/>
                  </a:lnTo>
                  <a:lnTo>
                    <a:pt x="4145" y="168"/>
                  </a:lnTo>
                  <a:lnTo>
                    <a:pt x="4143" y="169"/>
                  </a:lnTo>
                  <a:lnTo>
                    <a:pt x="4140" y="173"/>
                  </a:lnTo>
                  <a:lnTo>
                    <a:pt x="4137" y="178"/>
                  </a:lnTo>
                  <a:lnTo>
                    <a:pt x="4136" y="183"/>
                  </a:lnTo>
                  <a:lnTo>
                    <a:pt x="4134" y="188"/>
                  </a:lnTo>
                  <a:close/>
                  <a:moveTo>
                    <a:pt x="4127" y="233"/>
                  </a:moveTo>
                  <a:lnTo>
                    <a:pt x="4127" y="235"/>
                  </a:lnTo>
                  <a:lnTo>
                    <a:pt x="4126" y="237"/>
                  </a:lnTo>
                  <a:lnTo>
                    <a:pt x="4124" y="239"/>
                  </a:lnTo>
                  <a:lnTo>
                    <a:pt x="4124" y="240"/>
                  </a:lnTo>
                  <a:lnTo>
                    <a:pt x="4124" y="241"/>
                  </a:lnTo>
                  <a:lnTo>
                    <a:pt x="4124" y="243"/>
                  </a:lnTo>
                  <a:lnTo>
                    <a:pt x="4124" y="245"/>
                  </a:lnTo>
                  <a:lnTo>
                    <a:pt x="4124" y="247"/>
                  </a:lnTo>
                  <a:lnTo>
                    <a:pt x="4125" y="256"/>
                  </a:lnTo>
                  <a:lnTo>
                    <a:pt x="4128" y="262"/>
                  </a:lnTo>
                  <a:lnTo>
                    <a:pt x="4132" y="266"/>
                  </a:lnTo>
                  <a:lnTo>
                    <a:pt x="4138" y="267"/>
                  </a:lnTo>
                  <a:lnTo>
                    <a:pt x="4140" y="267"/>
                  </a:lnTo>
                  <a:lnTo>
                    <a:pt x="4143" y="266"/>
                  </a:lnTo>
                  <a:lnTo>
                    <a:pt x="4146" y="265"/>
                  </a:lnTo>
                  <a:lnTo>
                    <a:pt x="4150" y="264"/>
                  </a:lnTo>
                  <a:lnTo>
                    <a:pt x="4153" y="261"/>
                  </a:lnTo>
                  <a:lnTo>
                    <a:pt x="4155" y="258"/>
                  </a:lnTo>
                  <a:lnTo>
                    <a:pt x="4157" y="254"/>
                  </a:lnTo>
                  <a:lnTo>
                    <a:pt x="4157" y="252"/>
                  </a:lnTo>
                  <a:lnTo>
                    <a:pt x="4235" y="252"/>
                  </a:lnTo>
                  <a:lnTo>
                    <a:pt x="4232" y="261"/>
                  </a:lnTo>
                  <a:lnTo>
                    <a:pt x="4229" y="268"/>
                  </a:lnTo>
                  <a:lnTo>
                    <a:pt x="4224" y="276"/>
                  </a:lnTo>
                  <a:lnTo>
                    <a:pt x="4220" y="283"/>
                  </a:lnTo>
                  <a:lnTo>
                    <a:pt x="4214" y="290"/>
                  </a:lnTo>
                  <a:lnTo>
                    <a:pt x="4207" y="296"/>
                  </a:lnTo>
                  <a:lnTo>
                    <a:pt x="4201" y="302"/>
                  </a:lnTo>
                  <a:lnTo>
                    <a:pt x="4193" y="309"/>
                  </a:lnTo>
                  <a:lnTo>
                    <a:pt x="4186" y="314"/>
                  </a:lnTo>
                  <a:lnTo>
                    <a:pt x="4178" y="318"/>
                  </a:lnTo>
                  <a:lnTo>
                    <a:pt x="4170" y="322"/>
                  </a:lnTo>
                  <a:lnTo>
                    <a:pt x="4162" y="325"/>
                  </a:lnTo>
                  <a:lnTo>
                    <a:pt x="4153" y="327"/>
                  </a:lnTo>
                  <a:lnTo>
                    <a:pt x="4145" y="329"/>
                  </a:lnTo>
                  <a:lnTo>
                    <a:pt x="4137" y="330"/>
                  </a:lnTo>
                  <a:lnTo>
                    <a:pt x="4129" y="330"/>
                  </a:lnTo>
                  <a:lnTo>
                    <a:pt x="4123" y="330"/>
                  </a:lnTo>
                  <a:lnTo>
                    <a:pt x="4117" y="329"/>
                  </a:lnTo>
                  <a:lnTo>
                    <a:pt x="4112" y="328"/>
                  </a:lnTo>
                  <a:lnTo>
                    <a:pt x="4105" y="326"/>
                  </a:lnTo>
                  <a:lnTo>
                    <a:pt x="4100" y="325"/>
                  </a:lnTo>
                  <a:lnTo>
                    <a:pt x="4095" y="322"/>
                  </a:lnTo>
                  <a:lnTo>
                    <a:pt x="4089" y="320"/>
                  </a:lnTo>
                  <a:lnTo>
                    <a:pt x="4084" y="317"/>
                  </a:lnTo>
                  <a:lnTo>
                    <a:pt x="4080" y="314"/>
                  </a:lnTo>
                  <a:lnTo>
                    <a:pt x="4075" y="311"/>
                  </a:lnTo>
                  <a:lnTo>
                    <a:pt x="4071" y="308"/>
                  </a:lnTo>
                  <a:lnTo>
                    <a:pt x="4067" y="303"/>
                  </a:lnTo>
                  <a:lnTo>
                    <a:pt x="4063" y="299"/>
                  </a:lnTo>
                  <a:lnTo>
                    <a:pt x="4059" y="295"/>
                  </a:lnTo>
                  <a:lnTo>
                    <a:pt x="4056" y="290"/>
                  </a:lnTo>
                  <a:lnTo>
                    <a:pt x="4053" y="285"/>
                  </a:lnTo>
                  <a:lnTo>
                    <a:pt x="4051" y="278"/>
                  </a:lnTo>
                  <a:lnTo>
                    <a:pt x="4049" y="271"/>
                  </a:lnTo>
                  <a:lnTo>
                    <a:pt x="4047" y="264"/>
                  </a:lnTo>
                  <a:lnTo>
                    <a:pt x="4047" y="257"/>
                  </a:lnTo>
                  <a:lnTo>
                    <a:pt x="4046" y="249"/>
                  </a:lnTo>
                  <a:lnTo>
                    <a:pt x="4046" y="241"/>
                  </a:lnTo>
                  <a:lnTo>
                    <a:pt x="4046" y="234"/>
                  </a:lnTo>
                  <a:lnTo>
                    <a:pt x="4046" y="226"/>
                  </a:lnTo>
                  <a:lnTo>
                    <a:pt x="4048" y="218"/>
                  </a:lnTo>
                  <a:lnTo>
                    <a:pt x="4050" y="211"/>
                  </a:lnTo>
                  <a:lnTo>
                    <a:pt x="4052" y="203"/>
                  </a:lnTo>
                  <a:lnTo>
                    <a:pt x="4054" y="195"/>
                  </a:lnTo>
                  <a:lnTo>
                    <a:pt x="4057" y="189"/>
                  </a:lnTo>
                  <a:lnTo>
                    <a:pt x="4060" y="182"/>
                  </a:lnTo>
                  <a:lnTo>
                    <a:pt x="4064" y="175"/>
                  </a:lnTo>
                  <a:lnTo>
                    <a:pt x="4067" y="169"/>
                  </a:lnTo>
                  <a:lnTo>
                    <a:pt x="4072" y="162"/>
                  </a:lnTo>
                  <a:lnTo>
                    <a:pt x="4076" y="155"/>
                  </a:lnTo>
                  <a:lnTo>
                    <a:pt x="4081" y="149"/>
                  </a:lnTo>
                  <a:lnTo>
                    <a:pt x="4086" y="144"/>
                  </a:lnTo>
                  <a:lnTo>
                    <a:pt x="4090" y="139"/>
                  </a:lnTo>
                  <a:lnTo>
                    <a:pt x="4096" y="134"/>
                  </a:lnTo>
                  <a:lnTo>
                    <a:pt x="4101" y="130"/>
                  </a:lnTo>
                  <a:lnTo>
                    <a:pt x="4107" y="126"/>
                  </a:lnTo>
                  <a:lnTo>
                    <a:pt x="4114" y="123"/>
                  </a:lnTo>
                  <a:lnTo>
                    <a:pt x="4121" y="120"/>
                  </a:lnTo>
                  <a:lnTo>
                    <a:pt x="4127" y="117"/>
                  </a:lnTo>
                  <a:lnTo>
                    <a:pt x="4134" y="115"/>
                  </a:lnTo>
                  <a:lnTo>
                    <a:pt x="4141" y="113"/>
                  </a:lnTo>
                  <a:lnTo>
                    <a:pt x="4148" y="111"/>
                  </a:lnTo>
                  <a:lnTo>
                    <a:pt x="4155" y="110"/>
                  </a:lnTo>
                  <a:lnTo>
                    <a:pt x="4163" y="110"/>
                  </a:lnTo>
                  <a:lnTo>
                    <a:pt x="4172" y="110"/>
                  </a:lnTo>
                  <a:lnTo>
                    <a:pt x="4181" y="111"/>
                  </a:lnTo>
                  <a:lnTo>
                    <a:pt x="4189" y="113"/>
                  </a:lnTo>
                  <a:lnTo>
                    <a:pt x="4196" y="115"/>
                  </a:lnTo>
                  <a:lnTo>
                    <a:pt x="4203" y="118"/>
                  </a:lnTo>
                  <a:lnTo>
                    <a:pt x="4211" y="122"/>
                  </a:lnTo>
                  <a:lnTo>
                    <a:pt x="4217" y="126"/>
                  </a:lnTo>
                  <a:lnTo>
                    <a:pt x="4222" y="131"/>
                  </a:lnTo>
                  <a:lnTo>
                    <a:pt x="4227" y="137"/>
                  </a:lnTo>
                  <a:lnTo>
                    <a:pt x="4231" y="143"/>
                  </a:lnTo>
                  <a:lnTo>
                    <a:pt x="4235" y="150"/>
                  </a:lnTo>
                  <a:lnTo>
                    <a:pt x="4238" y="158"/>
                  </a:lnTo>
                  <a:lnTo>
                    <a:pt x="4240" y="166"/>
                  </a:lnTo>
                  <a:lnTo>
                    <a:pt x="4242" y="175"/>
                  </a:lnTo>
                  <a:lnTo>
                    <a:pt x="4243" y="185"/>
                  </a:lnTo>
                  <a:lnTo>
                    <a:pt x="4243" y="195"/>
                  </a:lnTo>
                  <a:lnTo>
                    <a:pt x="4243" y="199"/>
                  </a:lnTo>
                  <a:lnTo>
                    <a:pt x="4243" y="203"/>
                  </a:lnTo>
                  <a:lnTo>
                    <a:pt x="4243" y="208"/>
                  </a:lnTo>
                  <a:lnTo>
                    <a:pt x="4242" y="213"/>
                  </a:lnTo>
                  <a:lnTo>
                    <a:pt x="4242" y="218"/>
                  </a:lnTo>
                  <a:lnTo>
                    <a:pt x="4241" y="223"/>
                  </a:lnTo>
                  <a:lnTo>
                    <a:pt x="4241" y="228"/>
                  </a:lnTo>
                  <a:lnTo>
                    <a:pt x="4240" y="233"/>
                  </a:lnTo>
                  <a:lnTo>
                    <a:pt x="4127" y="233"/>
                  </a:lnTo>
                  <a:close/>
                  <a:moveTo>
                    <a:pt x="4532" y="212"/>
                  </a:moveTo>
                  <a:lnTo>
                    <a:pt x="4532" y="212"/>
                  </a:lnTo>
                  <a:lnTo>
                    <a:pt x="4502" y="212"/>
                  </a:lnTo>
                  <a:lnTo>
                    <a:pt x="4513" y="147"/>
                  </a:lnTo>
                  <a:lnTo>
                    <a:pt x="4625" y="147"/>
                  </a:lnTo>
                  <a:lnTo>
                    <a:pt x="4624" y="160"/>
                  </a:lnTo>
                  <a:lnTo>
                    <a:pt x="4622" y="172"/>
                  </a:lnTo>
                  <a:lnTo>
                    <a:pt x="4620" y="184"/>
                  </a:lnTo>
                  <a:lnTo>
                    <a:pt x="4618" y="195"/>
                  </a:lnTo>
                  <a:lnTo>
                    <a:pt x="4615" y="207"/>
                  </a:lnTo>
                  <a:lnTo>
                    <a:pt x="4612" y="217"/>
                  </a:lnTo>
                  <a:lnTo>
                    <a:pt x="4608" y="227"/>
                  </a:lnTo>
                  <a:lnTo>
                    <a:pt x="4604" y="237"/>
                  </a:lnTo>
                  <a:lnTo>
                    <a:pt x="4600" y="247"/>
                  </a:lnTo>
                  <a:lnTo>
                    <a:pt x="4595" y="257"/>
                  </a:lnTo>
                  <a:lnTo>
                    <a:pt x="4591" y="265"/>
                  </a:lnTo>
                  <a:lnTo>
                    <a:pt x="4586" y="273"/>
                  </a:lnTo>
                  <a:lnTo>
                    <a:pt x="4581" y="281"/>
                  </a:lnTo>
                  <a:lnTo>
                    <a:pt x="4575" y="288"/>
                  </a:lnTo>
                  <a:lnTo>
                    <a:pt x="4569" y="295"/>
                  </a:lnTo>
                  <a:lnTo>
                    <a:pt x="4563" y="301"/>
                  </a:lnTo>
                  <a:lnTo>
                    <a:pt x="4556" y="307"/>
                  </a:lnTo>
                  <a:lnTo>
                    <a:pt x="4548" y="312"/>
                  </a:lnTo>
                  <a:lnTo>
                    <a:pt x="4540" y="317"/>
                  </a:lnTo>
                  <a:lnTo>
                    <a:pt x="4533" y="321"/>
                  </a:lnTo>
                  <a:lnTo>
                    <a:pt x="4524" y="324"/>
                  </a:lnTo>
                  <a:lnTo>
                    <a:pt x="4516" y="327"/>
                  </a:lnTo>
                  <a:lnTo>
                    <a:pt x="4507" y="329"/>
                  </a:lnTo>
                  <a:lnTo>
                    <a:pt x="4496" y="330"/>
                  </a:lnTo>
                  <a:lnTo>
                    <a:pt x="4488" y="330"/>
                  </a:lnTo>
                  <a:lnTo>
                    <a:pt x="4481" y="329"/>
                  </a:lnTo>
                  <a:lnTo>
                    <a:pt x="4473" y="328"/>
                  </a:lnTo>
                  <a:lnTo>
                    <a:pt x="4466" y="326"/>
                  </a:lnTo>
                  <a:lnTo>
                    <a:pt x="4459" y="325"/>
                  </a:lnTo>
                  <a:lnTo>
                    <a:pt x="4453" y="322"/>
                  </a:lnTo>
                  <a:lnTo>
                    <a:pt x="4446" y="320"/>
                  </a:lnTo>
                  <a:lnTo>
                    <a:pt x="4440" y="317"/>
                  </a:lnTo>
                  <a:lnTo>
                    <a:pt x="4434" y="314"/>
                  </a:lnTo>
                  <a:lnTo>
                    <a:pt x="4429" y="311"/>
                  </a:lnTo>
                  <a:lnTo>
                    <a:pt x="4424" y="308"/>
                  </a:lnTo>
                  <a:lnTo>
                    <a:pt x="4420" y="303"/>
                  </a:lnTo>
                  <a:lnTo>
                    <a:pt x="4415" y="298"/>
                  </a:lnTo>
                  <a:lnTo>
                    <a:pt x="4411" y="293"/>
                  </a:lnTo>
                  <a:lnTo>
                    <a:pt x="4408" y="287"/>
                  </a:lnTo>
                  <a:lnTo>
                    <a:pt x="4405" y="281"/>
                  </a:lnTo>
                  <a:lnTo>
                    <a:pt x="4401" y="275"/>
                  </a:lnTo>
                  <a:lnTo>
                    <a:pt x="4399" y="269"/>
                  </a:lnTo>
                  <a:lnTo>
                    <a:pt x="4397" y="262"/>
                  </a:lnTo>
                  <a:lnTo>
                    <a:pt x="4395" y="254"/>
                  </a:lnTo>
                  <a:lnTo>
                    <a:pt x="4394" y="247"/>
                  </a:lnTo>
                  <a:lnTo>
                    <a:pt x="4393" y="239"/>
                  </a:lnTo>
                  <a:lnTo>
                    <a:pt x="4392" y="230"/>
                  </a:lnTo>
                  <a:lnTo>
                    <a:pt x="4392" y="222"/>
                  </a:lnTo>
                  <a:lnTo>
                    <a:pt x="4392" y="222"/>
                  </a:lnTo>
                  <a:lnTo>
                    <a:pt x="4392" y="220"/>
                  </a:lnTo>
                  <a:lnTo>
                    <a:pt x="4392" y="219"/>
                  </a:lnTo>
                  <a:lnTo>
                    <a:pt x="4392" y="219"/>
                  </a:lnTo>
                  <a:lnTo>
                    <a:pt x="4392" y="202"/>
                  </a:lnTo>
                  <a:lnTo>
                    <a:pt x="4393" y="187"/>
                  </a:lnTo>
                  <a:lnTo>
                    <a:pt x="4395" y="173"/>
                  </a:lnTo>
                  <a:lnTo>
                    <a:pt x="4397" y="159"/>
                  </a:lnTo>
                  <a:lnTo>
                    <a:pt x="4400" y="145"/>
                  </a:lnTo>
                  <a:lnTo>
                    <a:pt x="4405" y="133"/>
                  </a:lnTo>
                  <a:lnTo>
                    <a:pt x="4409" y="121"/>
                  </a:lnTo>
                  <a:lnTo>
                    <a:pt x="4414" y="110"/>
                  </a:lnTo>
                  <a:lnTo>
                    <a:pt x="4419" y="97"/>
                  </a:lnTo>
                  <a:lnTo>
                    <a:pt x="4425" y="87"/>
                  </a:lnTo>
                  <a:lnTo>
                    <a:pt x="4431" y="77"/>
                  </a:lnTo>
                  <a:lnTo>
                    <a:pt x="4438" y="68"/>
                  </a:lnTo>
                  <a:lnTo>
                    <a:pt x="4445" y="60"/>
                  </a:lnTo>
                  <a:lnTo>
                    <a:pt x="4453" y="52"/>
                  </a:lnTo>
                  <a:lnTo>
                    <a:pt x="4460" y="45"/>
                  </a:lnTo>
                  <a:lnTo>
                    <a:pt x="4468" y="39"/>
                  </a:lnTo>
                  <a:lnTo>
                    <a:pt x="4476" y="34"/>
                  </a:lnTo>
                  <a:lnTo>
                    <a:pt x="4484" y="30"/>
                  </a:lnTo>
                  <a:lnTo>
                    <a:pt x="4492" y="26"/>
                  </a:lnTo>
                  <a:lnTo>
                    <a:pt x="4502" y="23"/>
                  </a:lnTo>
                  <a:lnTo>
                    <a:pt x="4510" y="21"/>
                  </a:lnTo>
                  <a:lnTo>
                    <a:pt x="4518" y="19"/>
                  </a:lnTo>
                  <a:lnTo>
                    <a:pt x="4526" y="18"/>
                  </a:lnTo>
                  <a:lnTo>
                    <a:pt x="4534" y="18"/>
                  </a:lnTo>
                  <a:lnTo>
                    <a:pt x="4542" y="18"/>
                  </a:lnTo>
                  <a:lnTo>
                    <a:pt x="4551" y="19"/>
                  </a:lnTo>
                  <a:lnTo>
                    <a:pt x="4559" y="21"/>
                  </a:lnTo>
                  <a:lnTo>
                    <a:pt x="4567" y="23"/>
                  </a:lnTo>
                  <a:lnTo>
                    <a:pt x="4574" y="26"/>
                  </a:lnTo>
                  <a:lnTo>
                    <a:pt x="4581" y="29"/>
                  </a:lnTo>
                  <a:lnTo>
                    <a:pt x="4588" y="33"/>
                  </a:lnTo>
                  <a:lnTo>
                    <a:pt x="4594" y="38"/>
                  </a:lnTo>
                  <a:lnTo>
                    <a:pt x="4601" y="42"/>
                  </a:lnTo>
                  <a:lnTo>
                    <a:pt x="4606" y="47"/>
                  </a:lnTo>
                  <a:lnTo>
                    <a:pt x="4611" y="53"/>
                  </a:lnTo>
                  <a:lnTo>
                    <a:pt x="4616" y="60"/>
                  </a:lnTo>
                  <a:lnTo>
                    <a:pt x="4620" y="68"/>
                  </a:lnTo>
                  <a:lnTo>
                    <a:pt x="4623" y="75"/>
                  </a:lnTo>
                  <a:lnTo>
                    <a:pt x="4626" y="83"/>
                  </a:lnTo>
                  <a:lnTo>
                    <a:pt x="4629" y="91"/>
                  </a:lnTo>
                  <a:lnTo>
                    <a:pt x="4544" y="120"/>
                  </a:lnTo>
                  <a:lnTo>
                    <a:pt x="4545" y="114"/>
                  </a:lnTo>
                  <a:lnTo>
                    <a:pt x="4544" y="109"/>
                  </a:lnTo>
                  <a:lnTo>
                    <a:pt x="4542" y="103"/>
                  </a:lnTo>
                  <a:lnTo>
                    <a:pt x="4539" y="98"/>
                  </a:lnTo>
                  <a:lnTo>
                    <a:pt x="4537" y="94"/>
                  </a:lnTo>
                  <a:lnTo>
                    <a:pt x="4533" y="91"/>
                  </a:lnTo>
                  <a:lnTo>
                    <a:pt x="4529" y="90"/>
                  </a:lnTo>
                  <a:lnTo>
                    <a:pt x="4525" y="90"/>
                  </a:lnTo>
                  <a:lnTo>
                    <a:pt x="4519" y="91"/>
                  </a:lnTo>
                  <a:lnTo>
                    <a:pt x="4512" y="95"/>
                  </a:lnTo>
                  <a:lnTo>
                    <a:pt x="4506" y="101"/>
                  </a:lnTo>
                  <a:lnTo>
                    <a:pt x="4498" y="110"/>
                  </a:lnTo>
                  <a:lnTo>
                    <a:pt x="4496" y="114"/>
                  </a:lnTo>
                  <a:lnTo>
                    <a:pt x="4493" y="118"/>
                  </a:lnTo>
                  <a:lnTo>
                    <a:pt x="4491" y="122"/>
                  </a:lnTo>
                  <a:lnTo>
                    <a:pt x="4489" y="127"/>
                  </a:lnTo>
                  <a:lnTo>
                    <a:pt x="4487" y="133"/>
                  </a:lnTo>
                  <a:lnTo>
                    <a:pt x="4486" y="140"/>
                  </a:lnTo>
                  <a:lnTo>
                    <a:pt x="4484" y="146"/>
                  </a:lnTo>
                  <a:lnTo>
                    <a:pt x="4482" y="154"/>
                  </a:lnTo>
                  <a:lnTo>
                    <a:pt x="4480" y="163"/>
                  </a:lnTo>
                  <a:lnTo>
                    <a:pt x="4478" y="170"/>
                  </a:lnTo>
                  <a:lnTo>
                    <a:pt x="4477" y="178"/>
                  </a:lnTo>
                  <a:lnTo>
                    <a:pt x="4476" y="185"/>
                  </a:lnTo>
                  <a:lnTo>
                    <a:pt x="4476" y="193"/>
                  </a:lnTo>
                  <a:lnTo>
                    <a:pt x="4475" y="200"/>
                  </a:lnTo>
                  <a:lnTo>
                    <a:pt x="4475" y="208"/>
                  </a:lnTo>
                  <a:lnTo>
                    <a:pt x="4475" y="215"/>
                  </a:lnTo>
                  <a:lnTo>
                    <a:pt x="4475" y="224"/>
                  </a:lnTo>
                  <a:lnTo>
                    <a:pt x="4476" y="232"/>
                  </a:lnTo>
                  <a:lnTo>
                    <a:pt x="4478" y="238"/>
                  </a:lnTo>
                  <a:lnTo>
                    <a:pt x="4480" y="244"/>
                  </a:lnTo>
                  <a:lnTo>
                    <a:pt x="4483" y="248"/>
                  </a:lnTo>
                  <a:lnTo>
                    <a:pt x="4487" y="251"/>
                  </a:lnTo>
                  <a:lnTo>
                    <a:pt x="4491" y="253"/>
                  </a:lnTo>
                  <a:lnTo>
                    <a:pt x="4496" y="254"/>
                  </a:lnTo>
                  <a:lnTo>
                    <a:pt x="4503" y="253"/>
                  </a:lnTo>
                  <a:lnTo>
                    <a:pt x="4509" y="252"/>
                  </a:lnTo>
                  <a:lnTo>
                    <a:pt x="4515" y="249"/>
                  </a:lnTo>
                  <a:lnTo>
                    <a:pt x="4520" y="244"/>
                  </a:lnTo>
                  <a:lnTo>
                    <a:pt x="4522" y="240"/>
                  </a:lnTo>
                  <a:lnTo>
                    <a:pt x="4525" y="236"/>
                  </a:lnTo>
                  <a:lnTo>
                    <a:pt x="4526" y="232"/>
                  </a:lnTo>
                  <a:lnTo>
                    <a:pt x="4528" y="228"/>
                  </a:lnTo>
                  <a:lnTo>
                    <a:pt x="4529" y="224"/>
                  </a:lnTo>
                  <a:lnTo>
                    <a:pt x="4530" y="221"/>
                  </a:lnTo>
                  <a:lnTo>
                    <a:pt x="4531" y="216"/>
                  </a:lnTo>
                  <a:lnTo>
                    <a:pt x="4532" y="212"/>
                  </a:lnTo>
                  <a:lnTo>
                    <a:pt x="4532" y="212"/>
                  </a:lnTo>
                  <a:close/>
                  <a:moveTo>
                    <a:pt x="4746" y="287"/>
                  </a:moveTo>
                  <a:lnTo>
                    <a:pt x="4739" y="296"/>
                  </a:lnTo>
                  <a:lnTo>
                    <a:pt x="4733" y="303"/>
                  </a:lnTo>
                  <a:lnTo>
                    <a:pt x="4725" y="311"/>
                  </a:lnTo>
                  <a:lnTo>
                    <a:pt x="4717" y="317"/>
                  </a:lnTo>
                  <a:lnTo>
                    <a:pt x="4713" y="320"/>
                  </a:lnTo>
                  <a:lnTo>
                    <a:pt x="4710" y="322"/>
                  </a:lnTo>
                  <a:lnTo>
                    <a:pt x="4706" y="325"/>
                  </a:lnTo>
                  <a:lnTo>
                    <a:pt x="4702" y="326"/>
                  </a:lnTo>
                  <a:lnTo>
                    <a:pt x="4696" y="328"/>
                  </a:lnTo>
                  <a:lnTo>
                    <a:pt x="4692" y="329"/>
                  </a:lnTo>
                  <a:lnTo>
                    <a:pt x="4687" y="330"/>
                  </a:lnTo>
                  <a:lnTo>
                    <a:pt x="4682" y="330"/>
                  </a:lnTo>
                  <a:lnTo>
                    <a:pt x="4677" y="330"/>
                  </a:lnTo>
                  <a:lnTo>
                    <a:pt x="4672" y="329"/>
                  </a:lnTo>
                  <a:lnTo>
                    <a:pt x="4668" y="327"/>
                  </a:lnTo>
                  <a:lnTo>
                    <a:pt x="4664" y="325"/>
                  </a:lnTo>
                  <a:lnTo>
                    <a:pt x="4660" y="322"/>
                  </a:lnTo>
                  <a:lnTo>
                    <a:pt x="4657" y="319"/>
                  </a:lnTo>
                  <a:lnTo>
                    <a:pt x="4654" y="315"/>
                  </a:lnTo>
                  <a:lnTo>
                    <a:pt x="4651" y="310"/>
                  </a:lnTo>
                  <a:lnTo>
                    <a:pt x="4646" y="306"/>
                  </a:lnTo>
                  <a:lnTo>
                    <a:pt x="4643" y="300"/>
                  </a:lnTo>
                  <a:lnTo>
                    <a:pt x="4641" y="294"/>
                  </a:lnTo>
                  <a:lnTo>
                    <a:pt x="4639" y="288"/>
                  </a:lnTo>
                  <a:lnTo>
                    <a:pt x="4638" y="280"/>
                  </a:lnTo>
                  <a:lnTo>
                    <a:pt x="4637" y="273"/>
                  </a:lnTo>
                  <a:lnTo>
                    <a:pt x="4636" y="264"/>
                  </a:lnTo>
                  <a:lnTo>
                    <a:pt x="4636" y="254"/>
                  </a:lnTo>
                  <a:lnTo>
                    <a:pt x="4636" y="251"/>
                  </a:lnTo>
                  <a:lnTo>
                    <a:pt x="4636" y="248"/>
                  </a:lnTo>
                  <a:lnTo>
                    <a:pt x="4636" y="244"/>
                  </a:lnTo>
                  <a:lnTo>
                    <a:pt x="4636" y="240"/>
                  </a:lnTo>
                  <a:lnTo>
                    <a:pt x="4636" y="235"/>
                  </a:lnTo>
                  <a:lnTo>
                    <a:pt x="4637" y="231"/>
                  </a:lnTo>
                  <a:lnTo>
                    <a:pt x="4637" y="228"/>
                  </a:lnTo>
                  <a:lnTo>
                    <a:pt x="4637" y="224"/>
                  </a:lnTo>
                  <a:lnTo>
                    <a:pt x="4638" y="214"/>
                  </a:lnTo>
                  <a:lnTo>
                    <a:pt x="4639" y="204"/>
                  </a:lnTo>
                  <a:lnTo>
                    <a:pt x="4641" y="196"/>
                  </a:lnTo>
                  <a:lnTo>
                    <a:pt x="4643" y="188"/>
                  </a:lnTo>
                  <a:lnTo>
                    <a:pt x="4645" y="180"/>
                  </a:lnTo>
                  <a:lnTo>
                    <a:pt x="4649" y="173"/>
                  </a:lnTo>
                  <a:lnTo>
                    <a:pt x="4651" y="166"/>
                  </a:lnTo>
                  <a:lnTo>
                    <a:pt x="4654" y="160"/>
                  </a:lnTo>
                  <a:lnTo>
                    <a:pt x="4658" y="153"/>
                  </a:lnTo>
                  <a:lnTo>
                    <a:pt x="4662" y="147"/>
                  </a:lnTo>
                  <a:lnTo>
                    <a:pt x="4666" y="141"/>
                  </a:lnTo>
                  <a:lnTo>
                    <a:pt x="4670" y="136"/>
                  </a:lnTo>
                  <a:lnTo>
                    <a:pt x="4674" y="131"/>
                  </a:lnTo>
                  <a:lnTo>
                    <a:pt x="4677" y="127"/>
                  </a:lnTo>
                  <a:lnTo>
                    <a:pt x="4682" y="123"/>
                  </a:lnTo>
                  <a:lnTo>
                    <a:pt x="4686" y="120"/>
                  </a:lnTo>
                  <a:lnTo>
                    <a:pt x="4690" y="118"/>
                  </a:lnTo>
                  <a:lnTo>
                    <a:pt x="4693" y="115"/>
                  </a:lnTo>
                  <a:lnTo>
                    <a:pt x="4698" y="114"/>
                  </a:lnTo>
                  <a:lnTo>
                    <a:pt x="4702" y="112"/>
                  </a:lnTo>
                  <a:lnTo>
                    <a:pt x="4707" y="111"/>
                  </a:lnTo>
                  <a:lnTo>
                    <a:pt x="4711" y="111"/>
                  </a:lnTo>
                  <a:lnTo>
                    <a:pt x="4716" y="110"/>
                  </a:lnTo>
                  <a:lnTo>
                    <a:pt x="4720" y="110"/>
                  </a:lnTo>
                  <a:lnTo>
                    <a:pt x="4727" y="111"/>
                  </a:lnTo>
                  <a:lnTo>
                    <a:pt x="4735" y="112"/>
                  </a:lnTo>
                  <a:lnTo>
                    <a:pt x="4742" y="115"/>
                  </a:lnTo>
                  <a:lnTo>
                    <a:pt x="4749" y="119"/>
                  </a:lnTo>
                  <a:lnTo>
                    <a:pt x="4754" y="125"/>
                  </a:lnTo>
                  <a:lnTo>
                    <a:pt x="4759" y="131"/>
                  </a:lnTo>
                  <a:lnTo>
                    <a:pt x="4763" y="138"/>
                  </a:lnTo>
                  <a:lnTo>
                    <a:pt x="4765" y="145"/>
                  </a:lnTo>
                  <a:lnTo>
                    <a:pt x="4765" y="145"/>
                  </a:lnTo>
                  <a:lnTo>
                    <a:pt x="4767" y="112"/>
                  </a:lnTo>
                  <a:lnTo>
                    <a:pt x="4850" y="112"/>
                  </a:lnTo>
                  <a:lnTo>
                    <a:pt x="4813" y="323"/>
                  </a:lnTo>
                  <a:lnTo>
                    <a:pt x="4736" y="323"/>
                  </a:lnTo>
                  <a:lnTo>
                    <a:pt x="4746" y="287"/>
                  </a:lnTo>
                  <a:lnTo>
                    <a:pt x="4746" y="287"/>
                  </a:lnTo>
                  <a:close/>
                  <a:moveTo>
                    <a:pt x="4715" y="237"/>
                  </a:moveTo>
                  <a:lnTo>
                    <a:pt x="4715" y="247"/>
                  </a:lnTo>
                  <a:lnTo>
                    <a:pt x="4717" y="254"/>
                  </a:lnTo>
                  <a:lnTo>
                    <a:pt x="4721" y="260"/>
                  </a:lnTo>
                  <a:lnTo>
                    <a:pt x="4727" y="264"/>
                  </a:lnTo>
                  <a:lnTo>
                    <a:pt x="4730" y="261"/>
                  </a:lnTo>
                  <a:lnTo>
                    <a:pt x="4734" y="259"/>
                  </a:lnTo>
                  <a:lnTo>
                    <a:pt x="4737" y="258"/>
                  </a:lnTo>
                  <a:lnTo>
                    <a:pt x="4741" y="254"/>
                  </a:lnTo>
                  <a:lnTo>
                    <a:pt x="4743" y="251"/>
                  </a:lnTo>
                  <a:lnTo>
                    <a:pt x="4744" y="247"/>
                  </a:lnTo>
                  <a:lnTo>
                    <a:pt x="4747" y="243"/>
                  </a:lnTo>
                  <a:lnTo>
                    <a:pt x="4749" y="238"/>
                  </a:lnTo>
                  <a:lnTo>
                    <a:pt x="4750" y="234"/>
                  </a:lnTo>
                  <a:lnTo>
                    <a:pt x="4751" y="229"/>
                  </a:lnTo>
                  <a:lnTo>
                    <a:pt x="4752" y="224"/>
                  </a:lnTo>
                  <a:lnTo>
                    <a:pt x="4753" y="219"/>
                  </a:lnTo>
                  <a:lnTo>
                    <a:pt x="4753" y="214"/>
                  </a:lnTo>
                  <a:lnTo>
                    <a:pt x="4755" y="209"/>
                  </a:lnTo>
                  <a:lnTo>
                    <a:pt x="4756" y="204"/>
                  </a:lnTo>
                  <a:lnTo>
                    <a:pt x="4756" y="202"/>
                  </a:lnTo>
                  <a:lnTo>
                    <a:pt x="4756" y="202"/>
                  </a:lnTo>
                  <a:lnTo>
                    <a:pt x="4756" y="201"/>
                  </a:lnTo>
                  <a:lnTo>
                    <a:pt x="4756" y="199"/>
                  </a:lnTo>
                  <a:lnTo>
                    <a:pt x="4756" y="197"/>
                  </a:lnTo>
                  <a:lnTo>
                    <a:pt x="4756" y="197"/>
                  </a:lnTo>
                  <a:lnTo>
                    <a:pt x="4756" y="196"/>
                  </a:lnTo>
                  <a:lnTo>
                    <a:pt x="4756" y="194"/>
                  </a:lnTo>
                  <a:lnTo>
                    <a:pt x="4756" y="193"/>
                  </a:lnTo>
                  <a:lnTo>
                    <a:pt x="4755" y="184"/>
                  </a:lnTo>
                  <a:lnTo>
                    <a:pt x="4753" y="178"/>
                  </a:lnTo>
                  <a:lnTo>
                    <a:pt x="4749" y="175"/>
                  </a:lnTo>
                  <a:lnTo>
                    <a:pt x="4743" y="174"/>
                  </a:lnTo>
                  <a:lnTo>
                    <a:pt x="4739" y="174"/>
                  </a:lnTo>
                  <a:lnTo>
                    <a:pt x="4736" y="175"/>
                  </a:lnTo>
                  <a:lnTo>
                    <a:pt x="4733" y="176"/>
                  </a:lnTo>
                  <a:lnTo>
                    <a:pt x="4731" y="179"/>
                  </a:lnTo>
                  <a:lnTo>
                    <a:pt x="4728" y="182"/>
                  </a:lnTo>
                  <a:lnTo>
                    <a:pt x="4726" y="186"/>
                  </a:lnTo>
                  <a:lnTo>
                    <a:pt x="4723" y="192"/>
                  </a:lnTo>
                  <a:lnTo>
                    <a:pt x="4721" y="198"/>
                  </a:lnTo>
                  <a:lnTo>
                    <a:pt x="4719" y="207"/>
                  </a:lnTo>
                  <a:lnTo>
                    <a:pt x="4717" y="216"/>
                  </a:lnTo>
                  <a:lnTo>
                    <a:pt x="4716" y="226"/>
                  </a:lnTo>
                  <a:lnTo>
                    <a:pt x="4715" y="237"/>
                  </a:lnTo>
                  <a:close/>
                  <a:moveTo>
                    <a:pt x="4724" y="83"/>
                  </a:moveTo>
                  <a:lnTo>
                    <a:pt x="4756" y="18"/>
                  </a:lnTo>
                  <a:lnTo>
                    <a:pt x="4817" y="18"/>
                  </a:lnTo>
                  <a:lnTo>
                    <a:pt x="4767" y="83"/>
                  </a:lnTo>
                  <a:lnTo>
                    <a:pt x="4724" y="83"/>
                  </a:lnTo>
                  <a:close/>
                  <a:moveTo>
                    <a:pt x="4886" y="245"/>
                  </a:moveTo>
                  <a:lnTo>
                    <a:pt x="4890" y="250"/>
                  </a:lnTo>
                  <a:lnTo>
                    <a:pt x="4895" y="254"/>
                  </a:lnTo>
                  <a:lnTo>
                    <a:pt x="4899" y="259"/>
                  </a:lnTo>
                  <a:lnTo>
                    <a:pt x="4903" y="262"/>
                  </a:lnTo>
                  <a:lnTo>
                    <a:pt x="4908" y="264"/>
                  </a:lnTo>
                  <a:lnTo>
                    <a:pt x="4912" y="266"/>
                  </a:lnTo>
                  <a:lnTo>
                    <a:pt x="4917" y="267"/>
                  </a:lnTo>
                  <a:lnTo>
                    <a:pt x="4922" y="267"/>
                  </a:lnTo>
                  <a:lnTo>
                    <a:pt x="4929" y="266"/>
                  </a:lnTo>
                  <a:lnTo>
                    <a:pt x="4935" y="265"/>
                  </a:lnTo>
                  <a:lnTo>
                    <a:pt x="4939" y="262"/>
                  </a:lnTo>
                  <a:lnTo>
                    <a:pt x="4940" y="259"/>
                  </a:lnTo>
                  <a:lnTo>
                    <a:pt x="4939" y="253"/>
                  </a:lnTo>
                  <a:lnTo>
                    <a:pt x="4935" y="249"/>
                  </a:lnTo>
                  <a:lnTo>
                    <a:pt x="4929" y="244"/>
                  </a:lnTo>
                  <a:lnTo>
                    <a:pt x="4921" y="240"/>
                  </a:lnTo>
                  <a:lnTo>
                    <a:pt x="4916" y="239"/>
                  </a:lnTo>
                  <a:lnTo>
                    <a:pt x="4911" y="237"/>
                  </a:lnTo>
                  <a:lnTo>
                    <a:pt x="4907" y="235"/>
                  </a:lnTo>
                  <a:lnTo>
                    <a:pt x="4903" y="233"/>
                  </a:lnTo>
                  <a:lnTo>
                    <a:pt x="4899" y="230"/>
                  </a:lnTo>
                  <a:lnTo>
                    <a:pt x="4895" y="228"/>
                  </a:lnTo>
                  <a:lnTo>
                    <a:pt x="4890" y="226"/>
                  </a:lnTo>
                  <a:lnTo>
                    <a:pt x="4886" y="224"/>
                  </a:lnTo>
                  <a:lnTo>
                    <a:pt x="4884" y="221"/>
                  </a:lnTo>
                  <a:lnTo>
                    <a:pt x="4881" y="218"/>
                  </a:lnTo>
                  <a:lnTo>
                    <a:pt x="4880" y="214"/>
                  </a:lnTo>
                  <a:lnTo>
                    <a:pt x="4878" y="210"/>
                  </a:lnTo>
                  <a:lnTo>
                    <a:pt x="4877" y="204"/>
                  </a:lnTo>
                  <a:lnTo>
                    <a:pt x="4877" y="199"/>
                  </a:lnTo>
                  <a:lnTo>
                    <a:pt x="4876" y="194"/>
                  </a:lnTo>
                  <a:lnTo>
                    <a:pt x="4876" y="188"/>
                  </a:lnTo>
                  <a:lnTo>
                    <a:pt x="4876" y="180"/>
                  </a:lnTo>
                  <a:lnTo>
                    <a:pt x="4878" y="173"/>
                  </a:lnTo>
                  <a:lnTo>
                    <a:pt x="4880" y="165"/>
                  </a:lnTo>
                  <a:lnTo>
                    <a:pt x="4883" y="158"/>
                  </a:lnTo>
                  <a:lnTo>
                    <a:pt x="4887" y="151"/>
                  </a:lnTo>
                  <a:lnTo>
                    <a:pt x="4893" y="144"/>
                  </a:lnTo>
                  <a:lnTo>
                    <a:pt x="4898" y="138"/>
                  </a:lnTo>
                  <a:lnTo>
                    <a:pt x="4905" y="133"/>
                  </a:lnTo>
                  <a:lnTo>
                    <a:pt x="4911" y="127"/>
                  </a:lnTo>
                  <a:lnTo>
                    <a:pt x="4918" y="123"/>
                  </a:lnTo>
                  <a:lnTo>
                    <a:pt x="4926" y="119"/>
                  </a:lnTo>
                  <a:lnTo>
                    <a:pt x="4934" y="115"/>
                  </a:lnTo>
                  <a:lnTo>
                    <a:pt x="4943" y="113"/>
                  </a:lnTo>
                  <a:lnTo>
                    <a:pt x="4952" y="111"/>
                  </a:lnTo>
                  <a:lnTo>
                    <a:pt x="4961" y="110"/>
                  </a:lnTo>
                  <a:lnTo>
                    <a:pt x="4971" y="110"/>
                  </a:lnTo>
                  <a:lnTo>
                    <a:pt x="4979" y="110"/>
                  </a:lnTo>
                  <a:lnTo>
                    <a:pt x="4987" y="111"/>
                  </a:lnTo>
                  <a:lnTo>
                    <a:pt x="4996" y="113"/>
                  </a:lnTo>
                  <a:lnTo>
                    <a:pt x="5004" y="115"/>
                  </a:lnTo>
                  <a:lnTo>
                    <a:pt x="5011" y="117"/>
                  </a:lnTo>
                  <a:lnTo>
                    <a:pt x="5019" y="120"/>
                  </a:lnTo>
                  <a:lnTo>
                    <a:pt x="5027" y="123"/>
                  </a:lnTo>
                  <a:lnTo>
                    <a:pt x="5035" y="127"/>
                  </a:lnTo>
                  <a:lnTo>
                    <a:pt x="5000" y="186"/>
                  </a:lnTo>
                  <a:lnTo>
                    <a:pt x="4996" y="182"/>
                  </a:lnTo>
                  <a:lnTo>
                    <a:pt x="4992" y="178"/>
                  </a:lnTo>
                  <a:lnTo>
                    <a:pt x="4987" y="175"/>
                  </a:lnTo>
                  <a:lnTo>
                    <a:pt x="4983" y="172"/>
                  </a:lnTo>
                  <a:lnTo>
                    <a:pt x="4980" y="170"/>
                  </a:lnTo>
                  <a:lnTo>
                    <a:pt x="4976" y="168"/>
                  </a:lnTo>
                  <a:lnTo>
                    <a:pt x="4972" y="167"/>
                  </a:lnTo>
                  <a:lnTo>
                    <a:pt x="4969" y="167"/>
                  </a:lnTo>
                  <a:lnTo>
                    <a:pt x="4964" y="167"/>
                  </a:lnTo>
                  <a:lnTo>
                    <a:pt x="4960" y="169"/>
                  </a:lnTo>
                  <a:lnTo>
                    <a:pt x="4957" y="172"/>
                  </a:lnTo>
                  <a:lnTo>
                    <a:pt x="4955" y="176"/>
                  </a:lnTo>
                  <a:lnTo>
                    <a:pt x="4956" y="180"/>
                  </a:lnTo>
                  <a:lnTo>
                    <a:pt x="4960" y="185"/>
                  </a:lnTo>
                  <a:lnTo>
                    <a:pt x="4967" y="190"/>
                  </a:lnTo>
                  <a:lnTo>
                    <a:pt x="4976" y="195"/>
                  </a:lnTo>
                  <a:lnTo>
                    <a:pt x="4981" y="198"/>
                  </a:lnTo>
                  <a:lnTo>
                    <a:pt x="4986" y="200"/>
                  </a:lnTo>
                  <a:lnTo>
                    <a:pt x="4991" y="203"/>
                  </a:lnTo>
                  <a:lnTo>
                    <a:pt x="4995" y="205"/>
                  </a:lnTo>
                  <a:lnTo>
                    <a:pt x="4998" y="209"/>
                  </a:lnTo>
                  <a:lnTo>
                    <a:pt x="5001" y="211"/>
                  </a:lnTo>
                  <a:lnTo>
                    <a:pt x="5004" y="213"/>
                  </a:lnTo>
                  <a:lnTo>
                    <a:pt x="5007" y="215"/>
                  </a:lnTo>
                  <a:lnTo>
                    <a:pt x="5010" y="218"/>
                  </a:lnTo>
                  <a:lnTo>
                    <a:pt x="5012" y="221"/>
                  </a:lnTo>
                  <a:lnTo>
                    <a:pt x="5014" y="224"/>
                  </a:lnTo>
                  <a:lnTo>
                    <a:pt x="5016" y="227"/>
                  </a:lnTo>
                  <a:lnTo>
                    <a:pt x="5017" y="231"/>
                  </a:lnTo>
                  <a:lnTo>
                    <a:pt x="5018" y="235"/>
                  </a:lnTo>
                  <a:lnTo>
                    <a:pt x="5019" y="240"/>
                  </a:lnTo>
                  <a:lnTo>
                    <a:pt x="5019" y="245"/>
                  </a:lnTo>
                  <a:lnTo>
                    <a:pt x="5019" y="254"/>
                  </a:lnTo>
                  <a:lnTo>
                    <a:pt x="5017" y="263"/>
                  </a:lnTo>
                  <a:lnTo>
                    <a:pt x="5015" y="271"/>
                  </a:lnTo>
                  <a:lnTo>
                    <a:pt x="5012" y="278"/>
                  </a:lnTo>
                  <a:lnTo>
                    <a:pt x="5008" y="285"/>
                  </a:lnTo>
                  <a:lnTo>
                    <a:pt x="5003" y="291"/>
                  </a:lnTo>
                  <a:lnTo>
                    <a:pt x="4996" y="297"/>
                  </a:lnTo>
                  <a:lnTo>
                    <a:pt x="4988" y="302"/>
                  </a:lnTo>
                  <a:lnTo>
                    <a:pt x="4981" y="308"/>
                  </a:lnTo>
                  <a:lnTo>
                    <a:pt x="4973" y="312"/>
                  </a:lnTo>
                  <a:lnTo>
                    <a:pt x="4965" y="316"/>
                  </a:lnTo>
                  <a:lnTo>
                    <a:pt x="4957" y="319"/>
                  </a:lnTo>
                  <a:lnTo>
                    <a:pt x="4948" y="322"/>
                  </a:lnTo>
                  <a:lnTo>
                    <a:pt x="4938" y="324"/>
                  </a:lnTo>
                  <a:lnTo>
                    <a:pt x="4930" y="325"/>
                  </a:lnTo>
                  <a:lnTo>
                    <a:pt x="4921" y="325"/>
                  </a:lnTo>
                  <a:lnTo>
                    <a:pt x="4912" y="325"/>
                  </a:lnTo>
                  <a:lnTo>
                    <a:pt x="4903" y="324"/>
                  </a:lnTo>
                  <a:lnTo>
                    <a:pt x="4895" y="322"/>
                  </a:lnTo>
                  <a:lnTo>
                    <a:pt x="4885" y="319"/>
                  </a:lnTo>
                  <a:lnTo>
                    <a:pt x="4876" y="316"/>
                  </a:lnTo>
                  <a:lnTo>
                    <a:pt x="4867" y="312"/>
                  </a:lnTo>
                  <a:lnTo>
                    <a:pt x="4858" y="308"/>
                  </a:lnTo>
                  <a:lnTo>
                    <a:pt x="4850" y="302"/>
                  </a:lnTo>
                  <a:lnTo>
                    <a:pt x="4886" y="245"/>
                  </a:lnTo>
                  <a:close/>
                </a:path>
              </a:pathLst>
            </a:custGeom>
            <a:solidFill>
              <a:srgbClr val="ff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7721640" y="1236600"/>
            <a:ext cx="1415880" cy="5583240"/>
            <a:chOff x="7721640" y="1236600"/>
            <a:chExt cx="1415880" cy="5583240"/>
          </a:xfrm>
        </p:grpSpPr>
        <p:pic>
          <p:nvPicPr>
            <p:cNvPr id="56" name="" descr=""/>
            <p:cNvPicPr/>
            <p:nvPr/>
          </p:nvPicPr>
          <p:blipFill>
            <a:blip r:embed="rId2">
              <a:lum bright="40000"/>
              <a:alphaModFix amt="15000"/>
            </a:blip>
            <a:stretch/>
          </p:blipFill>
          <p:spPr>
            <a:xfrm>
              <a:off x="7734240" y="1236600"/>
              <a:ext cx="1403280" cy="144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" descr=""/>
            <p:cNvPicPr/>
            <p:nvPr/>
          </p:nvPicPr>
          <p:blipFill>
            <a:blip r:embed="rId3">
              <a:lum bright="24000"/>
              <a:alphaModFix amt="15000"/>
            </a:blip>
            <a:stretch/>
          </p:blipFill>
          <p:spPr>
            <a:xfrm>
              <a:off x="7721640" y="4106520"/>
              <a:ext cx="1403280" cy="142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" descr=""/>
            <p:cNvPicPr/>
            <p:nvPr/>
          </p:nvPicPr>
          <p:blipFill>
            <a:blip r:embed="rId4">
              <a:lum bright="24000"/>
              <a:alphaModFix amt="15000"/>
            </a:blip>
            <a:stretch/>
          </p:blipFill>
          <p:spPr>
            <a:xfrm>
              <a:off x="7721640" y="5381280"/>
              <a:ext cx="1392120" cy="143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" descr=""/>
            <p:cNvPicPr/>
            <p:nvPr/>
          </p:nvPicPr>
          <p:blipFill>
            <a:blip r:embed="rId5">
              <a:lum bright="40000"/>
              <a:alphaModFix amt="15000"/>
            </a:blip>
            <a:stretch/>
          </p:blipFill>
          <p:spPr>
            <a:xfrm>
              <a:off x="7721640" y="2653920"/>
              <a:ext cx="1406520" cy="1452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0" name=""/>
          <p:cNvGrpSpPr/>
          <p:nvPr/>
        </p:nvGrpSpPr>
        <p:grpSpPr>
          <a:xfrm>
            <a:off x="7721640" y="0"/>
            <a:ext cx="1422360" cy="1175760"/>
            <a:chOff x="7721640" y="0"/>
            <a:chExt cx="1422360" cy="1175760"/>
          </a:xfrm>
        </p:grpSpPr>
        <p:sp>
          <p:nvSpPr>
            <p:cNvPr id="61" name=""/>
            <p:cNvSpPr/>
            <p:nvPr/>
          </p:nvSpPr>
          <p:spPr>
            <a:xfrm>
              <a:off x="8402400" y="0"/>
              <a:ext cx="179640" cy="640800"/>
            </a:xfrm>
            <a:custGeom>
              <a:avLst/>
              <a:gdLst/>
              <a:ahLst/>
              <a:rect l="l" t="t" r="r" b="b"/>
              <a:pathLst>
                <a:path w="659" h="1633">
                  <a:moveTo>
                    <a:pt x="0" y="1633"/>
                  </a:moveTo>
                  <a:lnTo>
                    <a:pt x="14" y="1593"/>
                  </a:lnTo>
                  <a:lnTo>
                    <a:pt x="31" y="1552"/>
                  </a:lnTo>
                  <a:lnTo>
                    <a:pt x="50" y="1511"/>
                  </a:lnTo>
                  <a:lnTo>
                    <a:pt x="69" y="1469"/>
                  </a:lnTo>
                  <a:lnTo>
                    <a:pt x="90" y="1426"/>
                  </a:lnTo>
                  <a:lnTo>
                    <a:pt x="110" y="1382"/>
                  </a:lnTo>
                  <a:lnTo>
                    <a:pt x="130" y="1340"/>
                  </a:lnTo>
                  <a:lnTo>
                    <a:pt x="151" y="1297"/>
                  </a:lnTo>
                  <a:lnTo>
                    <a:pt x="169" y="1257"/>
                  </a:lnTo>
                  <a:lnTo>
                    <a:pt x="187" y="1218"/>
                  </a:lnTo>
                  <a:lnTo>
                    <a:pt x="202" y="1180"/>
                  </a:lnTo>
                  <a:lnTo>
                    <a:pt x="215" y="1145"/>
                  </a:lnTo>
                  <a:lnTo>
                    <a:pt x="225" y="1113"/>
                  </a:lnTo>
                  <a:lnTo>
                    <a:pt x="232" y="1082"/>
                  </a:lnTo>
                  <a:lnTo>
                    <a:pt x="236" y="1055"/>
                  </a:lnTo>
                  <a:lnTo>
                    <a:pt x="235" y="1033"/>
                  </a:lnTo>
                  <a:lnTo>
                    <a:pt x="227" y="991"/>
                  </a:lnTo>
                  <a:lnTo>
                    <a:pt x="218" y="952"/>
                  </a:lnTo>
                  <a:lnTo>
                    <a:pt x="210" y="918"/>
                  </a:lnTo>
                  <a:lnTo>
                    <a:pt x="201" y="884"/>
                  </a:lnTo>
                  <a:lnTo>
                    <a:pt x="192" y="854"/>
                  </a:lnTo>
                  <a:lnTo>
                    <a:pt x="182" y="826"/>
                  </a:lnTo>
                  <a:lnTo>
                    <a:pt x="174" y="800"/>
                  </a:lnTo>
                  <a:lnTo>
                    <a:pt x="166" y="776"/>
                  </a:lnTo>
                  <a:lnTo>
                    <a:pt x="159" y="752"/>
                  </a:lnTo>
                  <a:lnTo>
                    <a:pt x="152" y="731"/>
                  </a:lnTo>
                  <a:lnTo>
                    <a:pt x="147" y="710"/>
                  </a:lnTo>
                  <a:lnTo>
                    <a:pt x="143" y="690"/>
                  </a:lnTo>
                  <a:lnTo>
                    <a:pt x="141" y="670"/>
                  </a:lnTo>
                  <a:lnTo>
                    <a:pt x="140" y="650"/>
                  </a:lnTo>
                  <a:lnTo>
                    <a:pt x="141" y="630"/>
                  </a:lnTo>
                  <a:lnTo>
                    <a:pt x="144" y="609"/>
                  </a:lnTo>
                  <a:lnTo>
                    <a:pt x="149" y="588"/>
                  </a:lnTo>
                  <a:lnTo>
                    <a:pt x="157" y="565"/>
                  </a:lnTo>
                  <a:lnTo>
                    <a:pt x="167" y="542"/>
                  </a:lnTo>
                  <a:lnTo>
                    <a:pt x="181" y="517"/>
                  </a:lnTo>
                  <a:lnTo>
                    <a:pt x="198" y="490"/>
                  </a:lnTo>
                  <a:lnTo>
                    <a:pt x="217" y="461"/>
                  </a:lnTo>
                  <a:lnTo>
                    <a:pt x="241" y="430"/>
                  </a:lnTo>
                  <a:lnTo>
                    <a:pt x="267" y="396"/>
                  </a:lnTo>
                  <a:lnTo>
                    <a:pt x="299" y="359"/>
                  </a:lnTo>
                  <a:lnTo>
                    <a:pt x="334" y="319"/>
                  </a:lnTo>
                  <a:lnTo>
                    <a:pt x="372" y="277"/>
                  </a:lnTo>
                  <a:lnTo>
                    <a:pt x="416" y="230"/>
                  </a:lnTo>
                  <a:lnTo>
                    <a:pt x="465" y="179"/>
                  </a:lnTo>
                  <a:lnTo>
                    <a:pt x="518" y="123"/>
                  </a:lnTo>
                  <a:lnTo>
                    <a:pt x="577" y="64"/>
                  </a:lnTo>
                  <a:lnTo>
                    <a:pt x="640" y="0"/>
                  </a:lnTo>
                  <a:lnTo>
                    <a:pt x="610" y="86"/>
                  </a:lnTo>
                  <a:lnTo>
                    <a:pt x="587" y="164"/>
                  </a:lnTo>
                  <a:lnTo>
                    <a:pt x="568" y="238"/>
                  </a:lnTo>
                  <a:lnTo>
                    <a:pt x="555" y="305"/>
                  </a:lnTo>
                  <a:lnTo>
                    <a:pt x="546" y="367"/>
                  </a:lnTo>
                  <a:lnTo>
                    <a:pt x="541" y="425"/>
                  </a:lnTo>
                  <a:lnTo>
                    <a:pt x="539" y="478"/>
                  </a:lnTo>
                  <a:lnTo>
                    <a:pt x="541" y="526"/>
                  </a:lnTo>
                  <a:lnTo>
                    <a:pt x="545" y="571"/>
                  </a:lnTo>
                  <a:lnTo>
                    <a:pt x="552" y="611"/>
                  </a:lnTo>
                  <a:lnTo>
                    <a:pt x="560" y="649"/>
                  </a:lnTo>
                  <a:lnTo>
                    <a:pt x="570" y="683"/>
                  </a:lnTo>
                  <a:lnTo>
                    <a:pt x="582" y="715"/>
                  </a:lnTo>
                  <a:lnTo>
                    <a:pt x="593" y="745"/>
                  </a:lnTo>
                  <a:lnTo>
                    <a:pt x="605" y="773"/>
                  </a:lnTo>
                  <a:lnTo>
                    <a:pt x="616" y="799"/>
                  </a:lnTo>
                  <a:lnTo>
                    <a:pt x="628" y="824"/>
                  </a:lnTo>
                  <a:lnTo>
                    <a:pt x="638" y="848"/>
                  </a:lnTo>
                  <a:lnTo>
                    <a:pt x="646" y="872"/>
                  </a:lnTo>
                  <a:lnTo>
                    <a:pt x="653" y="894"/>
                  </a:lnTo>
                  <a:lnTo>
                    <a:pt x="657" y="918"/>
                  </a:lnTo>
                  <a:lnTo>
                    <a:pt x="659" y="941"/>
                  </a:lnTo>
                  <a:lnTo>
                    <a:pt x="657" y="966"/>
                  </a:lnTo>
                  <a:lnTo>
                    <a:pt x="653" y="991"/>
                  </a:lnTo>
                  <a:lnTo>
                    <a:pt x="644" y="1019"/>
                  </a:lnTo>
                  <a:lnTo>
                    <a:pt x="631" y="1047"/>
                  </a:lnTo>
                  <a:lnTo>
                    <a:pt x="612" y="1078"/>
                  </a:lnTo>
                  <a:lnTo>
                    <a:pt x="589" y="1111"/>
                  </a:lnTo>
                  <a:lnTo>
                    <a:pt x="559" y="1147"/>
                  </a:lnTo>
                  <a:lnTo>
                    <a:pt x="524" y="1186"/>
                  </a:lnTo>
                  <a:lnTo>
                    <a:pt x="483" y="1229"/>
                  </a:lnTo>
                  <a:lnTo>
                    <a:pt x="434" y="1275"/>
                  </a:lnTo>
                  <a:lnTo>
                    <a:pt x="417" y="1289"/>
                  </a:lnTo>
                  <a:lnTo>
                    <a:pt x="398" y="1306"/>
                  </a:lnTo>
                  <a:lnTo>
                    <a:pt x="376" y="1324"/>
                  </a:lnTo>
                  <a:lnTo>
                    <a:pt x="353" y="1343"/>
                  </a:lnTo>
                  <a:lnTo>
                    <a:pt x="328" y="1365"/>
                  </a:lnTo>
                  <a:lnTo>
                    <a:pt x="302" y="1386"/>
                  </a:lnTo>
                  <a:lnTo>
                    <a:pt x="273" y="1410"/>
                  </a:lnTo>
                  <a:lnTo>
                    <a:pt x="245" y="1433"/>
                  </a:lnTo>
                  <a:lnTo>
                    <a:pt x="215" y="1458"/>
                  </a:lnTo>
                  <a:lnTo>
                    <a:pt x="184" y="1482"/>
                  </a:lnTo>
                  <a:lnTo>
                    <a:pt x="153" y="1508"/>
                  </a:lnTo>
                  <a:lnTo>
                    <a:pt x="122" y="1533"/>
                  </a:lnTo>
                  <a:lnTo>
                    <a:pt x="91" y="1559"/>
                  </a:lnTo>
                  <a:lnTo>
                    <a:pt x="60" y="1583"/>
                  </a:lnTo>
                  <a:lnTo>
                    <a:pt x="29" y="1609"/>
                  </a:lnTo>
                  <a:lnTo>
                    <a:pt x="0" y="163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721640" y="3960"/>
              <a:ext cx="1422360" cy="997560"/>
            </a:xfrm>
            <a:custGeom>
              <a:avLst/>
              <a:gdLst/>
              <a:ahLst/>
              <a:rect l="l" t="t" r="r" b="b"/>
              <a:pathLst>
                <a:path w="5178" h="2549">
                  <a:moveTo>
                    <a:pt x="2407" y="1589"/>
                  </a:moveTo>
                  <a:lnTo>
                    <a:pt x="2422" y="1551"/>
                  </a:lnTo>
                  <a:lnTo>
                    <a:pt x="2438" y="1511"/>
                  </a:lnTo>
                  <a:lnTo>
                    <a:pt x="2455" y="1471"/>
                  </a:lnTo>
                  <a:lnTo>
                    <a:pt x="2475" y="1429"/>
                  </a:lnTo>
                  <a:lnTo>
                    <a:pt x="2495" y="1387"/>
                  </a:lnTo>
                  <a:lnTo>
                    <a:pt x="2514" y="1345"/>
                  </a:lnTo>
                  <a:lnTo>
                    <a:pt x="2535" y="1304"/>
                  </a:lnTo>
                  <a:lnTo>
                    <a:pt x="2554" y="1263"/>
                  </a:lnTo>
                  <a:lnTo>
                    <a:pt x="2573" y="1223"/>
                  </a:lnTo>
                  <a:lnTo>
                    <a:pt x="2590" y="1185"/>
                  </a:lnTo>
                  <a:lnTo>
                    <a:pt x="2604" y="1148"/>
                  </a:lnTo>
                  <a:lnTo>
                    <a:pt x="2618" y="1115"/>
                  </a:lnTo>
                  <a:lnTo>
                    <a:pt x="2627" y="1082"/>
                  </a:lnTo>
                  <a:lnTo>
                    <a:pt x="2634" y="1054"/>
                  </a:lnTo>
                  <a:lnTo>
                    <a:pt x="2637" y="1028"/>
                  </a:lnTo>
                  <a:lnTo>
                    <a:pt x="2636" y="1006"/>
                  </a:lnTo>
                  <a:lnTo>
                    <a:pt x="2629" y="965"/>
                  </a:lnTo>
                  <a:lnTo>
                    <a:pt x="2621" y="927"/>
                  </a:lnTo>
                  <a:lnTo>
                    <a:pt x="2612" y="893"/>
                  </a:lnTo>
                  <a:lnTo>
                    <a:pt x="2603" y="861"/>
                  </a:lnTo>
                  <a:lnTo>
                    <a:pt x="2594" y="831"/>
                  </a:lnTo>
                  <a:lnTo>
                    <a:pt x="2586" y="804"/>
                  </a:lnTo>
                  <a:lnTo>
                    <a:pt x="2578" y="779"/>
                  </a:lnTo>
                  <a:lnTo>
                    <a:pt x="2570" y="755"/>
                  </a:lnTo>
                  <a:lnTo>
                    <a:pt x="2562" y="733"/>
                  </a:lnTo>
                  <a:lnTo>
                    <a:pt x="2556" y="712"/>
                  </a:lnTo>
                  <a:lnTo>
                    <a:pt x="2550" y="691"/>
                  </a:lnTo>
                  <a:lnTo>
                    <a:pt x="2547" y="671"/>
                  </a:lnTo>
                  <a:lnTo>
                    <a:pt x="2544" y="651"/>
                  </a:lnTo>
                  <a:lnTo>
                    <a:pt x="2543" y="632"/>
                  </a:lnTo>
                  <a:lnTo>
                    <a:pt x="2544" y="613"/>
                  </a:lnTo>
                  <a:lnTo>
                    <a:pt x="2547" y="593"/>
                  </a:lnTo>
                  <a:lnTo>
                    <a:pt x="2552" y="572"/>
                  </a:lnTo>
                  <a:lnTo>
                    <a:pt x="2560" y="550"/>
                  </a:lnTo>
                  <a:lnTo>
                    <a:pt x="2571" y="528"/>
                  </a:lnTo>
                  <a:lnTo>
                    <a:pt x="2584" y="503"/>
                  </a:lnTo>
                  <a:lnTo>
                    <a:pt x="2600" y="477"/>
                  </a:lnTo>
                  <a:lnTo>
                    <a:pt x="2620" y="449"/>
                  </a:lnTo>
                  <a:lnTo>
                    <a:pt x="2642" y="419"/>
                  </a:lnTo>
                  <a:lnTo>
                    <a:pt x="2669" y="386"/>
                  </a:lnTo>
                  <a:lnTo>
                    <a:pt x="2698" y="350"/>
                  </a:lnTo>
                  <a:lnTo>
                    <a:pt x="2732" y="311"/>
                  </a:lnTo>
                  <a:lnTo>
                    <a:pt x="2771" y="270"/>
                  </a:lnTo>
                  <a:lnTo>
                    <a:pt x="2813" y="224"/>
                  </a:lnTo>
                  <a:lnTo>
                    <a:pt x="2860" y="174"/>
                  </a:lnTo>
                  <a:lnTo>
                    <a:pt x="2912" y="121"/>
                  </a:lnTo>
                  <a:lnTo>
                    <a:pt x="2968" y="62"/>
                  </a:lnTo>
                  <a:lnTo>
                    <a:pt x="3030" y="0"/>
                  </a:lnTo>
                  <a:lnTo>
                    <a:pt x="3001" y="83"/>
                  </a:lnTo>
                  <a:lnTo>
                    <a:pt x="2979" y="160"/>
                  </a:lnTo>
                  <a:lnTo>
                    <a:pt x="2961" y="232"/>
                  </a:lnTo>
                  <a:lnTo>
                    <a:pt x="2947" y="297"/>
                  </a:lnTo>
                  <a:lnTo>
                    <a:pt x="2938" y="357"/>
                  </a:lnTo>
                  <a:lnTo>
                    <a:pt x="2934" y="414"/>
                  </a:lnTo>
                  <a:lnTo>
                    <a:pt x="2932" y="465"/>
                  </a:lnTo>
                  <a:lnTo>
                    <a:pt x="2934" y="511"/>
                  </a:lnTo>
                  <a:lnTo>
                    <a:pt x="2938" y="555"/>
                  </a:lnTo>
                  <a:lnTo>
                    <a:pt x="2944" y="595"/>
                  </a:lnTo>
                  <a:lnTo>
                    <a:pt x="2952" y="631"/>
                  </a:lnTo>
                  <a:lnTo>
                    <a:pt x="2963" y="665"/>
                  </a:lnTo>
                  <a:lnTo>
                    <a:pt x="2973" y="696"/>
                  </a:lnTo>
                  <a:lnTo>
                    <a:pt x="2985" y="725"/>
                  </a:lnTo>
                  <a:lnTo>
                    <a:pt x="2996" y="752"/>
                  </a:lnTo>
                  <a:lnTo>
                    <a:pt x="3008" y="778"/>
                  </a:lnTo>
                  <a:lnTo>
                    <a:pt x="3019" y="801"/>
                  </a:lnTo>
                  <a:lnTo>
                    <a:pt x="3028" y="825"/>
                  </a:lnTo>
                  <a:lnTo>
                    <a:pt x="3036" y="848"/>
                  </a:lnTo>
                  <a:lnTo>
                    <a:pt x="3043" y="871"/>
                  </a:lnTo>
                  <a:lnTo>
                    <a:pt x="3047" y="893"/>
                  </a:lnTo>
                  <a:lnTo>
                    <a:pt x="3049" y="916"/>
                  </a:lnTo>
                  <a:lnTo>
                    <a:pt x="3047" y="940"/>
                  </a:lnTo>
                  <a:lnTo>
                    <a:pt x="3043" y="965"/>
                  </a:lnTo>
                  <a:lnTo>
                    <a:pt x="3034" y="991"/>
                  </a:lnTo>
                  <a:lnTo>
                    <a:pt x="3021" y="1019"/>
                  </a:lnTo>
                  <a:lnTo>
                    <a:pt x="3003" y="1048"/>
                  </a:lnTo>
                  <a:lnTo>
                    <a:pt x="2980" y="1081"/>
                  </a:lnTo>
                  <a:lnTo>
                    <a:pt x="2952" y="1116"/>
                  </a:lnTo>
                  <a:lnTo>
                    <a:pt x="2918" y="1154"/>
                  </a:lnTo>
                  <a:lnTo>
                    <a:pt x="2877" y="1195"/>
                  </a:lnTo>
                  <a:lnTo>
                    <a:pt x="2830" y="1240"/>
                  </a:lnTo>
                  <a:lnTo>
                    <a:pt x="2814" y="1255"/>
                  </a:lnTo>
                  <a:lnTo>
                    <a:pt x="2795" y="1271"/>
                  </a:lnTo>
                  <a:lnTo>
                    <a:pt x="2775" y="1288"/>
                  </a:lnTo>
                  <a:lnTo>
                    <a:pt x="2751" y="1308"/>
                  </a:lnTo>
                  <a:lnTo>
                    <a:pt x="2727" y="1327"/>
                  </a:lnTo>
                  <a:lnTo>
                    <a:pt x="2701" y="1348"/>
                  </a:lnTo>
                  <a:lnTo>
                    <a:pt x="2674" y="1371"/>
                  </a:lnTo>
                  <a:lnTo>
                    <a:pt x="2646" y="1394"/>
                  </a:lnTo>
                  <a:lnTo>
                    <a:pt x="2617" y="1418"/>
                  </a:lnTo>
                  <a:lnTo>
                    <a:pt x="2587" y="1442"/>
                  </a:lnTo>
                  <a:lnTo>
                    <a:pt x="2556" y="1467"/>
                  </a:lnTo>
                  <a:lnTo>
                    <a:pt x="2527" y="1491"/>
                  </a:lnTo>
                  <a:lnTo>
                    <a:pt x="2496" y="1516"/>
                  </a:lnTo>
                  <a:lnTo>
                    <a:pt x="2465" y="1541"/>
                  </a:lnTo>
                  <a:lnTo>
                    <a:pt x="2436" y="1565"/>
                  </a:lnTo>
                  <a:lnTo>
                    <a:pt x="2407" y="1589"/>
                  </a:lnTo>
                  <a:close/>
                  <a:moveTo>
                    <a:pt x="0" y="1584"/>
                  </a:moveTo>
                  <a:lnTo>
                    <a:pt x="0" y="2549"/>
                  </a:lnTo>
                  <a:lnTo>
                    <a:pt x="184" y="2521"/>
                  </a:lnTo>
                  <a:lnTo>
                    <a:pt x="366" y="2496"/>
                  </a:lnTo>
                  <a:lnTo>
                    <a:pt x="545" y="2472"/>
                  </a:lnTo>
                  <a:lnTo>
                    <a:pt x="725" y="2450"/>
                  </a:lnTo>
                  <a:lnTo>
                    <a:pt x="901" y="2430"/>
                  </a:lnTo>
                  <a:lnTo>
                    <a:pt x="1078" y="2412"/>
                  </a:lnTo>
                  <a:lnTo>
                    <a:pt x="1253" y="2396"/>
                  </a:lnTo>
                  <a:lnTo>
                    <a:pt x="1425" y="2381"/>
                  </a:lnTo>
                  <a:lnTo>
                    <a:pt x="1597" y="2369"/>
                  </a:lnTo>
                  <a:lnTo>
                    <a:pt x="1767" y="2359"/>
                  </a:lnTo>
                  <a:lnTo>
                    <a:pt x="1937" y="2350"/>
                  </a:lnTo>
                  <a:lnTo>
                    <a:pt x="2104" y="2343"/>
                  </a:lnTo>
                  <a:lnTo>
                    <a:pt x="2269" y="2338"/>
                  </a:lnTo>
                  <a:lnTo>
                    <a:pt x="2435" y="2334"/>
                  </a:lnTo>
                  <a:lnTo>
                    <a:pt x="2598" y="2331"/>
                  </a:lnTo>
                  <a:lnTo>
                    <a:pt x="2761" y="2331"/>
                  </a:lnTo>
                  <a:lnTo>
                    <a:pt x="2921" y="2334"/>
                  </a:lnTo>
                  <a:lnTo>
                    <a:pt x="3080" y="2337"/>
                  </a:lnTo>
                  <a:lnTo>
                    <a:pt x="3238" y="2342"/>
                  </a:lnTo>
                  <a:lnTo>
                    <a:pt x="3395" y="2348"/>
                  </a:lnTo>
                  <a:lnTo>
                    <a:pt x="3551" y="2356"/>
                  </a:lnTo>
                  <a:lnTo>
                    <a:pt x="3705" y="2366"/>
                  </a:lnTo>
                  <a:lnTo>
                    <a:pt x="3858" y="2377"/>
                  </a:lnTo>
                  <a:lnTo>
                    <a:pt x="4009" y="2391"/>
                  </a:lnTo>
                  <a:lnTo>
                    <a:pt x="4160" y="2405"/>
                  </a:lnTo>
                  <a:lnTo>
                    <a:pt x="4309" y="2421"/>
                  </a:lnTo>
                  <a:lnTo>
                    <a:pt x="4456" y="2439"/>
                  </a:lnTo>
                  <a:lnTo>
                    <a:pt x="4603" y="2458"/>
                  </a:lnTo>
                  <a:lnTo>
                    <a:pt x="4749" y="2478"/>
                  </a:lnTo>
                  <a:lnTo>
                    <a:pt x="4893" y="2501"/>
                  </a:lnTo>
                  <a:lnTo>
                    <a:pt x="5036" y="2524"/>
                  </a:lnTo>
                  <a:lnTo>
                    <a:pt x="5178" y="2549"/>
                  </a:lnTo>
                  <a:lnTo>
                    <a:pt x="5178" y="1584"/>
                  </a:lnTo>
                  <a:lnTo>
                    <a:pt x="5177" y="1580"/>
                  </a:lnTo>
                  <a:lnTo>
                    <a:pt x="5174" y="1575"/>
                  </a:lnTo>
                  <a:lnTo>
                    <a:pt x="5168" y="1568"/>
                  </a:lnTo>
                  <a:lnTo>
                    <a:pt x="5161" y="1560"/>
                  </a:lnTo>
                  <a:lnTo>
                    <a:pt x="5150" y="1550"/>
                  </a:lnTo>
                  <a:lnTo>
                    <a:pt x="5138" y="1538"/>
                  </a:lnTo>
                  <a:lnTo>
                    <a:pt x="5124" y="1526"/>
                  </a:lnTo>
                  <a:lnTo>
                    <a:pt x="5106" y="1512"/>
                  </a:lnTo>
                  <a:lnTo>
                    <a:pt x="5087" y="1497"/>
                  </a:lnTo>
                  <a:lnTo>
                    <a:pt x="5066" y="1481"/>
                  </a:lnTo>
                  <a:lnTo>
                    <a:pt x="5042" y="1464"/>
                  </a:lnTo>
                  <a:lnTo>
                    <a:pt x="5016" y="1446"/>
                  </a:lnTo>
                  <a:lnTo>
                    <a:pt x="4987" y="1428"/>
                  </a:lnTo>
                  <a:lnTo>
                    <a:pt x="4955" y="1409"/>
                  </a:lnTo>
                  <a:lnTo>
                    <a:pt x="4923" y="1388"/>
                  </a:lnTo>
                  <a:lnTo>
                    <a:pt x="4886" y="1368"/>
                  </a:lnTo>
                  <a:lnTo>
                    <a:pt x="4847" y="1346"/>
                  </a:lnTo>
                  <a:lnTo>
                    <a:pt x="4806" y="1325"/>
                  </a:lnTo>
                  <a:lnTo>
                    <a:pt x="4762" y="1304"/>
                  </a:lnTo>
                  <a:lnTo>
                    <a:pt x="4717" y="1281"/>
                  </a:lnTo>
                  <a:lnTo>
                    <a:pt x="4668" y="1259"/>
                  </a:lnTo>
                  <a:lnTo>
                    <a:pt x="4616" y="1236"/>
                  </a:lnTo>
                  <a:lnTo>
                    <a:pt x="4562" y="1214"/>
                  </a:lnTo>
                  <a:lnTo>
                    <a:pt x="4505" y="1191"/>
                  </a:lnTo>
                  <a:lnTo>
                    <a:pt x="4446" y="1169"/>
                  </a:lnTo>
                  <a:lnTo>
                    <a:pt x="4384" y="1146"/>
                  </a:lnTo>
                  <a:lnTo>
                    <a:pt x="4319" y="1124"/>
                  </a:lnTo>
                  <a:lnTo>
                    <a:pt x="4251" y="1103"/>
                  </a:lnTo>
                  <a:lnTo>
                    <a:pt x="4181" y="1081"/>
                  </a:lnTo>
                  <a:lnTo>
                    <a:pt x="4108" y="1060"/>
                  </a:lnTo>
                  <a:lnTo>
                    <a:pt x="4032" y="1039"/>
                  </a:lnTo>
                  <a:lnTo>
                    <a:pt x="3953" y="1020"/>
                  </a:lnTo>
                  <a:lnTo>
                    <a:pt x="3873" y="1001"/>
                  </a:lnTo>
                  <a:lnTo>
                    <a:pt x="3794" y="983"/>
                  </a:lnTo>
                  <a:lnTo>
                    <a:pt x="3714" y="968"/>
                  </a:lnTo>
                  <a:lnTo>
                    <a:pt x="3635" y="952"/>
                  </a:lnTo>
                  <a:lnTo>
                    <a:pt x="3557" y="939"/>
                  </a:lnTo>
                  <a:lnTo>
                    <a:pt x="3478" y="927"/>
                  </a:lnTo>
                  <a:lnTo>
                    <a:pt x="3401" y="916"/>
                  </a:lnTo>
                  <a:lnTo>
                    <a:pt x="3323" y="907"/>
                  </a:lnTo>
                  <a:lnTo>
                    <a:pt x="3246" y="898"/>
                  </a:lnTo>
                  <a:lnTo>
                    <a:pt x="3170" y="890"/>
                  </a:lnTo>
                  <a:lnTo>
                    <a:pt x="3093" y="884"/>
                  </a:lnTo>
                  <a:lnTo>
                    <a:pt x="3018" y="879"/>
                  </a:lnTo>
                  <a:lnTo>
                    <a:pt x="2943" y="875"/>
                  </a:lnTo>
                  <a:lnTo>
                    <a:pt x="2869" y="872"/>
                  </a:lnTo>
                  <a:lnTo>
                    <a:pt x="2794" y="870"/>
                  </a:lnTo>
                  <a:lnTo>
                    <a:pt x="2721" y="869"/>
                  </a:lnTo>
                  <a:lnTo>
                    <a:pt x="2648" y="870"/>
                  </a:lnTo>
                  <a:lnTo>
                    <a:pt x="2576" y="870"/>
                  </a:lnTo>
                  <a:lnTo>
                    <a:pt x="2503" y="872"/>
                  </a:lnTo>
                  <a:lnTo>
                    <a:pt x="2432" y="875"/>
                  </a:lnTo>
                  <a:lnTo>
                    <a:pt x="2361" y="878"/>
                  </a:lnTo>
                  <a:lnTo>
                    <a:pt x="2291" y="883"/>
                  </a:lnTo>
                  <a:lnTo>
                    <a:pt x="2221" y="888"/>
                  </a:lnTo>
                  <a:lnTo>
                    <a:pt x="2153" y="894"/>
                  </a:lnTo>
                  <a:lnTo>
                    <a:pt x="2085" y="900"/>
                  </a:lnTo>
                  <a:lnTo>
                    <a:pt x="2017" y="909"/>
                  </a:lnTo>
                  <a:lnTo>
                    <a:pt x="1950" y="917"/>
                  </a:lnTo>
                  <a:lnTo>
                    <a:pt x="1884" y="925"/>
                  </a:lnTo>
                  <a:lnTo>
                    <a:pt x="1818" y="935"/>
                  </a:lnTo>
                  <a:lnTo>
                    <a:pt x="1753" y="945"/>
                  </a:lnTo>
                  <a:lnTo>
                    <a:pt x="1689" y="956"/>
                  </a:lnTo>
                  <a:lnTo>
                    <a:pt x="1625" y="967"/>
                  </a:lnTo>
                  <a:lnTo>
                    <a:pt x="1562" y="978"/>
                  </a:lnTo>
                  <a:lnTo>
                    <a:pt x="1500" y="990"/>
                  </a:lnTo>
                  <a:lnTo>
                    <a:pt x="1437" y="1002"/>
                  </a:lnTo>
                  <a:lnTo>
                    <a:pt x="1376" y="1015"/>
                  </a:lnTo>
                  <a:lnTo>
                    <a:pt x="1316" y="1027"/>
                  </a:lnTo>
                  <a:lnTo>
                    <a:pt x="1256" y="1039"/>
                  </a:lnTo>
                  <a:lnTo>
                    <a:pt x="1195" y="1052"/>
                  </a:lnTo>
                  <a:lnTo>
                    <a:pt x="1137" y="1066"/>
                  </a:lnTo>
                  <a:lnTo>
                    <a:pt x="1079" y="1080"/>
                  </a:lnTo>
                  <a:lnTo>
                    <a:pt x="1021" y="1093"/>
                  </a:lnTo>
                  <a:lnTo>
                    <a:pt x="965" y="1109"/>
                  </a:lnTo>
                  <a:lnTo>
                    <a:pt x="909" y="1124"/>
                  </a:lnTo>
                  <a:lnTo>
                    <a:pt x="854" y="1139"/>
                  </a:lnTo>
                  <a:lnTo>
                    <a:pt x="798" y="1156"/>
                  </a:lnTo>
                  <a:lnTo>
                    <a:pt x="745" y="1172"/>
                  </a:lnTo>
                  <a:lnTo>
                    <a:pt x="693" y="1189"/>
                  </a:lnTo>
                  <a:lnTo>
                    <a:pt x="641" y="1208"/>
                  </a:lnTo>
                  <a:lnTo>
                    <a:pt x="590" y="1227"/>
                  </a:lnTo>
                  <a:lnTo>
                    <a:pt x="541" y="1246"/>
                  </a:lnTo>
                  <a:lnTo>
                    <a:pt x="492" y="1267"/>
                  </a:lnTo>
                  <a:lnTo>
                    <a:pt x="445" y="1288"/>
                  </a:lnTo>
                  <a:lnTo>
                    <a:pt x="398" y="1310"/>
                  </a:lnTo>
                  <a:lnTo>
                    <a:pt x="353" y="1333"/>
                  </a:lnTo>
                  <a:lnTo>
                    <a:pt x="308" y="1357"/>
                  </a:lnTo>
                  <a:lnTo>
                    <a:pt x="265" y="1381"/>
                  </a:lnTo>
                  <a:lnTo>
                    <a:pt x="224" y="1407"/>
                  </a:lnTo>
                  <a:lnTo>
                    <a:pt x="183" y="1434"/>
                  </a:lnTo>
                  <a:lnTo>
                    <a:pt x="144" y="1462"/>
                  </a:lnTo>
                  <a:lnTo>
                    <a:pt x="106" y="1490"/>
                  </a:lnTo>
                  <a:lnTo>
                    <a:pt x="69" y="1521"/>
                  </a:lnTo>
                  <a:lnTo>
                    <a:pt x="34" y="1552"/>
                  </a:lnTo>
                  <a:lnTo>
                    <a:pt x="0" y="1584"/>
                  </a:lnTo>
                  <a:close/>
                </a:path>
              </a:pathLst>
            </a:custGeom>
            <a:solidFill>
              <a:srgbClr val="0000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685360" y="617400"/>
              <a:ext cx="228960" cy="258480"/>
            </a:xfrm>
            <a:custGeom>
              <a:avLst/>
              <a:gdLst/>
              <a:ahLst/>
              <a:rect l="l" t="t" r="r" b="b"/>
              <a:pathLst>
                <a:path w="835" h="660">
                  <a:moveTo>
                    <a:pt x="0" y="660"/>
                  </a:moveTo>
                  <a:lnTo>
                    <a:pt x="430" y="0"/>
                  </a:lnTo>
                  <a:lnTo>
                    <a:pt x="776" y="0"/>
                  </a:lnTo>
                  <a:lnTo>
                    <a:pt x="777" y="20"/>
                  </a:lnTo>
                  <a:lnTo>
                    <a:pt x="778" y="42"/>
                  </a:lnTo>
                  <a:lnTo>
                    <a:pt x="780" y="62"/>
                  </a:lnTo>
                  <a:lnTo>
                    <a:pt x="782" y="84"/>
                  </a:lnTo>
                  <a:lnTo>
                    <a:pt x="784" y="105"/>
                  </a:lnTo>
                  <a:lnTo>
                    <a:pt x="786" y="127"/>
                  </a:lnTo>
                  <a:lnTo>
                    <a:pt x="789" y="148"/>
                  </a:lnTo>
                  <a:lnTo>
                    <a:pt x="791" y="169"/>
                  </a:lnTo>
                  <a:lnTo>
                    <a:pt x="793" y="191"/>
                  </a:lnTo>
                  <a:lnTo>
                    <a:pt x="796" y="212"/>
                  </a:lnTo>
                  <a:lnTo>
                    <a:pt x="798" y="234"/>
                  </a:lnTo>
                  <a:lnTo>
                    <a:pt x="800" y="254"/>
                  </a:lnTo>
                  <a:lnTo>
                    <a:pt x="802" y="276"/>
                  </a:lnTo>
                  <a:lnTo>
                    <a:pt x="804" y="296"/>
                  </a:lnTo>
                  <a:lnTo>
                    <a:pt x="805" y="317"/>
                  </a:lnTo>
                  <a:lnTo>
                    <a:pt x="806" y="338"/>
                  </a:lnTo>
                  <a:lnTo>
                    <a:pt x="807" y="361"/>
                  </a:lnTo>
                  <a:lnTo>
                    <a:pt x="809" y="385"/>
                  </a:lnTo>
                  <a:lnTo>
                    <a:pt x="810" y="406"/>
                  </a:lnTo>
                  <a:lnTo>
                    <a:pt x="812" y="428"/>
                  </a:lnTo>
                  <a:lnTo>
                    <a:pt x="816" y="448"/>
                  </a:lnTo>
                  <a:lnTo>
                    <a:pt x="818" y="468"/>
                  </a:lnTo>
                  <a:lnTo>
                    <a:pt x="820" y="489"/>
                  </a:lnTo>
                  <a:lnTo>
                    <a:pt x="823" y="507"/>
                  </a:lnTo>
                  <a:lnTo>
                    <a:pt x="825" y="527"/>
                  </a:lnTo>
                  <a:lnTo>
                    <a:pt x="827" y="545"/>
                  </a:lnTo>
                  <a:lnTo>
                    <a:pt x="830" y="564"/>
                  </a:lnTo>
                  <a:lnTo>
                    <a:pt x="831" y="583"/>
                  </a:lnTo>
                  <a:lnTo>
                    <a:pt x="833" y="601"/>
                  </a:lnTo>
                  <a:lnTo>
                    <a:pt x="834" y="620"/>
                  </a:lnTo>
                  <a:lnTo>
                    <a:pt x="835" y="638"/>
                  </a:lnTo>
                  <a:lnTo>
                    <a:pt x="835" y="656"/>
                  </a:lnTo>
                  <a:lnTo>
                    <a:pt x="539" y="656"/>
                  </a:lnTo>
                  <a:lnTo>
                    <a:pt x="538" y="622"/>
                  </a:lnTo>
                  <a:lnTo>
                    <a:pt x="538" y="584"/>
                  </a:lnTo>
                  <a:lnTo>
                    <a:pt x="539" y="545"/>
                  </a:lnTo>
                  <a:lnTo>
                    <a:pt x="540" y="504"/>
                  </a:lnTo>
                  <a:lnTo>
                    <a:pt x="541" y="463"/>
                  </a:lnTo>
                  <a:lnTo>
                    <a:pt x="543" y="422"/>
                  </a:lnTo>
                  <a:lnTo>
                    <a:pt x="545" y="382"/>
                  </a:lnTo>
                  <a:lnTo>
                    <a:pt x="546" y="342"/>
                  </a:lnTo>
                  <a:lnTo>
                    <a:pt x="547" y="305"/>
                  </a:lnTo>
                  <a:lnTo>
                    <a:pt x="548" y="270"/>
                  </a:lnTo>
                  <a:lnTo>
                    <a:pt x="549" y="239"/>
                  </a:lnTo>
                  <a:lnTo>
                    <a:pt x="549" y="212"/>
                  </a:lnTo>
                  <a:lnTo>
                    <a:pt x="548" y="189"/>
                  </a:lnTo>
                  <a:lnTo>
                    <a:pt x="546" y="171"/>
                  </a:lnTo>
                  <a:lnTo>
                    <a:pt x="543" y="160"/>
                  </a:lnTo>
                  <a:lnTo>
                    <a:pt x="539" y="155"/>
                  </a:lnTo>
                  <a:lnTo>
                    <a:pt x="303" y="656"/>
                  </a:lnTo>
                  <a:lnTo>
                    <a:pt x="0" y="6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365320" y="613440"/>
              <a:ext cx="123480" cy="256680"/>
            </a:xfrm>
            <a:custGeom>
              <a:avLst/>
              <a:gdLst/>
              <a:ahLst/>
              <a:rect l="l" t="t" r="r" b="b"/>
              <a:pathLst>
                <a:path w="453" h="655">
                  <a:moveTo>
                    <a:pt x="0" y="655"/>
                  </a:moveTo>
                  <a:lnTo>
                    <a:pt x="165" y="0"/>
                  </a:lnTo>
                  <a:lnTo>
                    <a:pt x="453" y="0"/>
                  </a:lnTo>
                  <a:lnTo>
                    <a:pt x="287" y="655"/>
                  </a:lnTo>
                  <a:lnTo>
                    <a:pt x="0" y="6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215920" y="613440"/>
              <a:ext cx="176760" cy="256680"/>
            </a:xfrm>
            <a:custGeom>
              <a:avLst/>
              <a:gdLst/>
              <a:ahLst/>
              <a:rect l="l" t="t" r="r" b="b"/>
              <a:pathLst>
                <a:path w="646" h="655">
                  <a:moveTo>
                    <a:pt x="26" y="655"/>
                  </a:moveTo>
                  <a:lnTo>
                    <a:pt x="151" y="162"/>
                  </a:lnTo>
                  <a:lnTo>
                    <a:pt x="0" y="162"/>
                  </a:lnTo>
                  <a:lnTo>
                    <a:pt x="40" y="0"/>
                  </a:lnTo>
                  <a:lnTo>
                    <a:pt x="646" y="0"/>
                  </a:lnTo>
                  <a:lnTo>
                    <a:pt x="607" y="162"/>
                  </a:lnTo>
                  <a:lnTo>
                    <a:pt x="441" y="162"/>
                  </a:lnTo>
                  <a:lnTo>
                    <a:pt x="314" y="655"/>
                  </a:lnTo>
                  <a:lnTo>
                    <a:pt x="26" y="6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978320" y="609840"/>
              <a:ext cx="226080" cy="266040"/>
            </a:xfrm>
            <a:custGeom>
              <a:avLst/>
              <a:gdLst/>
              <a:ahLst/>
              <a:rect l="l" t="t" r="r" b="b"/>
              <a:pathLst>
                <a:path w="823" h="681">
                  <a:moveTo>
                    <a:pt x="0" y="395"/>
                  </a:moveTo>
                  <a:lnTo>
                    <a:pt x="0" y="381"/>
                  </a:lnTo>
                  <a:lnTo>
                    <a:pt x="2" y="369"/>
                  </a:lnTo>
                  <a:lnTo>
                    <a:pt x="4" y="356"/>
                  </a:lnTo>
                  <a:lnTo>
                    <a:pt x="7" y="343"/>
                  </a:lnTo>
                  <a:lnTo>
                    <a:pt x="10" y="330"/>
                  </a:lnTo>
                  <a:lnTo>
                    <a:pt x="14" y="318"/>
                  </a:lnTo>
                  <a:lnTo>
                    <a:pt x="20" y="305"/>
                  </a:lnTo>
                  <a:lnTo>
                    <a:pt x="25" y="292"/>
                  </a:lnTo>
                  <a:lnTo>
                    <a:pt x="30" y="280"/>
                  </a:lnTo>
                  <a:lnTo>
                    <a:pt x="36" y="268"/>
                  </a:lnTo>
                  <a:lnTo>
                    <a:pt x="43" y="256"/>
                  </a:lnTo>
                  <a:lnTo>
                    <a:pt x="50" y="244"/>
                  </a:lnTo>
                  <a:lnTo>
                    <a:pt x="56" y="232"/>
                  </a:lnTo>
                  <a:lnTo>
                    <a:pt x="63" y="221"/>
                  </a:lnTo>
                  <a:lnTo>
                    <a:pt x="72" y="210"/>
                  </a:lnTo>
                  <a:lnTo>
                    <a:pt x="79" y="199"/>
                  </a:lnTo>
                  <a:lnTo>
                    <a:pt x="87" y="186"/>
                  </a:lnTo>
                  <a:lnTo>
                    <a:pt x="95" y="175"/>
                  </a:lnTo>
                  <a:lnTo>
                    <a:pt x="104" y="164"/>
                  </a:lnTo>
                  <a:lnTo>
                    <a:pt x="115" y="153"/>
                  </a:lnTo>
                  <a:lnTo>
                    <a:pt x="124" y="141"/>
                  </a:lnTo>
                  <a:lnTo>
                    <a:pt x="134" y="131"/>
                  </a:lnTo>
                  <a:lnTo>
                    <a:pt x="145" y="121"/>
                  </a:lnTo>
                  <a:lnTo>
                    <a:pt x="156" y="111"/>
                  </a:lnTo>
                  <a:lnTo>
                    <a:pt x="168" y="102"/>
                  </a:lnTo>
                  <a:lnTo>
                    <a:pt x="179" y="92"/>
                  </a:lnTo>
                  <a:lnTo>
                    <a:pt x="191" y="83"/>
                  </a:lnTo>
                  <a:lnTo>
                    <a:pt x="203" y="75"/>
                  </a:lnTo>
                  <a:lnTo>
                    <a:pt x="216" y="68"/>
                  </a:lnTo>
                  <a:lnTo>
                    <a:pt x="228" y="61"/>
                  </a:lnTo>
                  <a:lnTo>
                    <a:pt x="240" y="55"/>
                  </a:lnTo>
                  <a:lnTo>
                    <a:pt x="253" y="48"/>
                  </a:lnTo>
                  <a:lnTo>
                    <a:pt x="268" y="42"/>
                  </a:lnTo>
                  <a:lnTo>
                    <a:pt x="283" y="36"/>
                  </a:lnTo>
                  <a:lnTo>
                    <a:pt x="298" y="31"/>
                  </a:lnTo>
                  <a:lnTo>
                    <a:pt x="314" y="26"/>
                  </a:lnTo>
                  <a:lnTo>
                    <a:pt x="330" y="22"/>
                  </a:lnTo>
                  <a:lnTo>
                    <a:pt x="346" y="18"/>
                  </a:lnTo>
                  <a:lnTo>
                    <a:pt x="363" y="14"/>
                  </a:lnTo>
                  <a:lnTo>
                    <a:pt x="379" y="11"/>
                  </a:lnTo>
                  <a:lnTo>
                    <a:pt x="395" y="8"/>
                  </a:lnTo>
                  <a:lnTo>
                    <a:pt x="412" y="6"/>
                  </a:lnTo>
                  <a:lnTo>
                    <a:pt x="428" y="4"/>
                  </a:lnTo>
                  <a:lnTo>
                    <a:pt x="444" y="2"/>
                  </a:lnTo>
                  <a:lnTo>
                    <a:pt x="461" y="1"/>
                  </a:lnTo>
                  <a:lnTo>
                    <a:pt x="477" y="0"/>
                  </a:lnTo>
                  <a:lnTo>
                    <a:pt x="493" y="0"/>
                  </a:lnTo>
                  <a:lnTo>
                    <a:pt x="510" y="0"/>
                  </a:lnTo>
                  <a:lnTo>
                    <a:pt x="522" y="0"/>
                  </a:lnTo>
                  <a:lnTo>
                    <a:pt x="535" y="1"/>
                  </a:lnTo>
                  <a:lnTo>
                    <a:pt x="548" y="1"/>
                  </a:lnTo>
                  <a:lnTo>
                    <a:pt x="561" y="2"/>
                  </a:lnTo>
                  <a:lnTo>
                    <a:pt x="574" y="4"/>
                  </a:lnTo>
                  <a:lnTo>
                    <a:pt x="586" y="5"/>
                  </a:lnTo>
                  <a:lnTo>
                    <a:pt x="598" y="7"/>
                  </a:lnTo>
                  <a:lnTo>
                    <a:pt x="611" y="9"/>
                  </a:lnTo>
                  <a:lnTo>
                    <a:pt x="623" y="12"/>
                  </a:lnTo>
                  <a:lnTo>
                    <a:pt x="634" y="14"/>
                  </a:lnTo>
                  <a:lnTo>
                    <a:pt x="645" y="17"/>
                  </a:lnTo>
                  <a:lnTo>
                    <a:pt x="657" y="20"/>
                  </a:lnTo>
                  <a:lnTo>
                    <a:pt x="667" y="23"/>
                  </a:lnTo>
                  <a:lnTo>
                    <a:pt x="676" y="27"/>
                  </a:lnTo>
                  <a:lnTo>
                    <a:pt x="685" y="30"/>
                  </a:lnTo>
                  <a:lnTo>
                    <a:pt x="693" y="34"/>
                  </a:lnTo>
                  <a:lnTo>
                    <a:pt x="711" y="43"/>
                  </a:lnTo>
                  <a:lnTo>
                    <a:pt x="726" y="55"/>
                  </a:lnTo>
                  <a:lnTo>
                    <a:pt x="741" y="67"/>
                  </a:lnTo>
                  <a:lnTo>
                    <a:pt x="755" y="79"/>
                  </a:lnTo>
                  <a:lnTo>
                    <a:pt x="766" y="92"/>
                  </a:lnTo>
                  <a:lnTo>
                    <a:pt x="776" y="107"/>
                  </a:lnTo>
                  <a:lnTo>
                    <a:pt x="786" y="122"/>
                  </a:lnTo>
                  <a:lnTo>
                    <a:pt x="794" y="136"/>
                  </a:lnTo>
                  <a:lnTo>
                    <a:pt x="802" y="153"/>
                  </a:lnTo>
                  <a:lnTo>
                    <a:pt x="808" y="168"/>
                  </a:lnTo>
                  <a:lnTo>
                    <a:pt x="812" y="183"/>
                  </a:lnTo>
                  <a:lnTo>
                    <a:pt x="816" y="199"/>
                  </a:lnTo>
                  <a:lnTo>
                    <a:pt x="819" y="214"/>
                  </a:lnTo>
                  <a:lnTo>
                    <a:pt x="821" y="229"/>
                  </a:lnTo>
                  <a:lnTo>
                    <a:pt x="823" y="243"/>
                  </a:lnTo>
                  <a:lnTo>
                    <a:pt x="823" y="258"/>
                  </a:lnTo>
                  <a:lnTo>
                    <a:pt x="823" y="270"/>
                  </a:lnTo>
                  <a:lnTo>
                    <a:pt x="822" y="282"/>
                  </a:lnTo>
                  <a:lnTo>
                    <a:pt x="821" y="294"/>
                  </a:lnTo>
                  <a:lnTo>
                    <a:pt x="819" y="307"/>
                  </a:lnTo>
                  <a:lnTo>
                    <a:pt x="817" y="319"/>
                  </a:lnTo>
                  <a:lnTo>
                    <a:pt x="815" y="331"/>
                  </a:lnTo>
                  <a:lnTo>
                    <a:pt x="812" y="343"/>
                  </a:lnTo>
                  <a:lnTo>
                    <a:pt x="808" y="356"/>
                  </a:lnTo>
                  <a:lnTo>
                    <a:pt x="805" y="368"/>
                  </a:lnTo>
                  <a:lnTo>
                    <a:pt x="801" y="380"/>
                  </a:lnTo>
                  <a:lnTo>
                    <a:pt x="795" y="392"/>
                  </a:lnTo>
                  <a:lnTo>
                    <a:pt x="790" y="405"/>
                  </a:lnTo>
                  <a:lnTo>
                    <a:pt x="785" y="417"/>
                  </a:lnTo>
                  <a:lnTo>
                    <a:pt x="780" y="428"/>
                  </a:lnTo>
                  <a:lnTo>
                    <a:pt x="774" y="440"/>
                  </a:lnTo>
                  <a:lnTo>
                    <a:pt x="768" y="452"/>
                  </a:lnTo>
                  <a:lnTo>
                    <a:pt x="760" y="464"/>
                  </a:lnTo>
                  <a:lnTo>
                    <a:pt x="753" y="476"/>
                  </a:lnTo>
                  <a:lnTo>
                    <a:pt x="743" y="488"/>
                  </a:lnTo>
                  <a:lnTo>
                    <a:pt x="735" y="500"/>
                  </a:lnTo>
                  <a:lnTo>
                    <a:pt x="726" y="512"/>
                  </a:lnTo>
                  <a:lnTo>
                    <a:pt x="716" y="523"/>
                  </a:lnTo>
                  <a:lnTo>
                    <a:pt x="706" y="534"/>
                  </a:lnTo>
                  <a:lnTo>
                    <a:pt x="695" y="545"/>
                  </a:lnTo>
                  <a:lnTo>
                    <a:pt x="685" y="555"/>
                  </a:lnTo>
                  <a:lnTo>
                    <a:pt x="674" y="565"/>
                  </a:lnTo>
                  <a:lnTo>
                    <a:pt x="663" y="574"/>
                  </a:lnTo>
                  <a:lnTo>
                    <a:pt x="650" y="583"/>
                  </a:lnTo>
                  <a:lnTo>
                    <a:pt x="638" y="593"/>
                  </a:lnTo>
                  <a:lnTo>
                    <a:pt x="626" y="601"/>
                  </a:lnTo>
                  <a:lnTo>
                    <a:pt x="614" y="609"/>
                  </a:lnTo>
                  <a:lnTo>
                    <a:pt x="600" y="616"/>
                  </a:lnTo>
                  <a:lnTo>
                    <a:pt x="586" y="623"/>
                  </a:lnTo>
                  <a:lnTo>
                    <a:pt x="571" y="629"/>
                  </a:lnTo>
                  <a:lnTo>
                    <a:pt x="556" y="636"/>
                  </a:lnTo>
                  <a:lnTo>
                    <a:pt x="540" y="643"/>
                  </a:lnTo>
                  <a:lnTo>
                    <a:pt x="524" y="648"/>
                  </a:lnTo>
                  <a:lnTo>
                    <a:pt x="507" y="654"/>
                  </a:lnTo>
                  <a:lnTo>
                    <a:pt x="489" y="658"/>
                  </a:lnTo>
                  <a:lnTo>
                    <a:pt x="472" y="663"/>
                  </a:lnTo>
                  <a:lnTo>
                    <a:pt x="453" y="667"/>
                  </a:lnTo>
                  <a:lnTo>
                    <a:pt x="435" y="671"/>
                  </a:lnTo>
                  <a:lnTo>
                    <a:pt x="417" y="674"/>
                  </a:lnTo>
                  <a:lnTo>
                    <a:pt x="398" y="676"/>
                  </a:lnTo>
                  <a:lnTo>
                    <a:pt x="380" y="678"/>
                  </a:lnTo>
                  <a:lnTo>
                    <a:pt x="361" y="680"/>
                  </a:lnTo>
                  <a:lnTo>
                    <a:pt x="342" y="681"/>
                  </a:lnTo>
                  <a:lnTo>
                    <a:pt x="323" y="681"/>
                  </a:lnTo>
                  <a:lnTo>
                    <a:pt x="301" y="681"/>
                  </a:lnTo>
                  <a:lnTo>
                    <a:pt x="282" y="680"/>
                  </a:lnTo>
                  <a:lnTo>
                    <a:pt x="262" y="678"/>
                  </a:lnTo>
                  <a:lnTo>
                    <a:pt x="243" y="675"/>
                  </a:lnTo>
                  <a:lnTo>
                    <a:pt x="224" y="672"/>
                  </a:lnTo>
                  <a:lnTo>
                    <a:pt x="206" y="669"/>
                  </a:lnTo>
                  <a:lnTo>
                    <a:pt x="190" y="664"/>
                  </a:lnTo>
                  <a:lnTo>
                    <a:pt x="174" y="659"/>
                  </a:lnTo>
                  <a:lnTo>
                    <a:pt x="157" y="654"/>
                  </a:lnTo>
                  <a:lnTo>
                    <a:pt x="143" y="648"/>
                  </a:lnTo>
                  <a:lnTo>
                    <a:pt x="130" y="641"/>
                  </a:lnTo>
                  <a:lnTo>
                    <a:pt x="117" y="633"/>
                  </a:lnTo>
                  <a:lnTo>
                    <a:pt x="104" y="626"/>
                  </a:lnTo>
                  <a:lnTo>
                    <a:pt x="93" y="618"/>
                  </a:lnTo>
                  <a:lnTo>
                    <a:pt x="83" y="609"/>
                  </a:lnTo>
                  <a:lnTo>
                    <a:pt x="74" y="600"/>
                  </a:lnTo>
                  <a:lnTo>
                    <a:pt x="63" y="588"/>
                  </a:lnTo>
                  <a:lnTo>
                    <a:pt x="54" y="577"/>
                  </a:lnTo>
                  <a:lnTo>
                    <a:pt x="45" y="566"/>
                  </a:lnTo>
                  <a:lnTo>
                    <a:pt x="38" y="554"/>
                  </a:lnTo>
                  <a:lnTo>
                    <a:pt x="31" y="540"/>
                  </a:lnTo>
                  <a:lnTo>
                    <a:pt x="25" y="528"/>
                  </a:lnTo>
                  <a:lnTo>
                    <a:pt x="20" y="515"/>
                  </a:lnTo>
                  <a:lnTo>
                    <a:pt x="15" y="502"/>
                  </a:lnTo>
                  <a:lnTo>
                    <a:pt x="11" y="488"/>
                  </a:lnTo>
                  <a:lnTo>
                    <a:pt x="8" y="475"/>
                  </a:lnTo>
                  <a:lnTo>
                    <a:pt x="5" y="462"/>
                  </a:lnTo>
                  <a:lnTo>
                    <a:pt x="3" y="449"/>
                  </a:lnTo>
                  <a:lnTo>
                    <a:pt x="2" y="434"/>
                  </a:lnTo>
                  <a:lnTo>
                    <a:pt x="1" y="421"/>
                  </a:lnTo>
                  <a:lnTo>
                    <a:pt x="0" y="408"/>
                  </a:lnTo>
                  <a:lnTo>
                    <a:pt x="0" y="395"/>
                  </a:lnTo>
                  <a:close/>
                  <a:moveTo>
                    <a:pt x="292" y="396"/>
                  </a:moveTo>
                  <a:lnTo>
                    <a:pt x="292" y="410"/>
                  </a:lnTo>
                  <a:lnTo>
                    <a:pt x="293" y="427"/>
                  </a:lnTo>
                  <a:lnTo>
                    <a:pt x="297" y="448"/>
                  </a:lnTo>
                  <a:lnTo>
                    <a:pt x="304" y="467"/>
                  </a:lnTo>
                  <a:lnTo>
                    <a:pt x="315" y="486"/>
                  </a:lnTo>
                  <a:lnTo>
                    <a:pt x="330" y="501"/>
                  </a:lnTo>
                  <a:lnTo>
                    <a:pt x="350" y="510"/>
                  </a:lnTo>
                  <a:lnTo>
                    <a:pt x="376" y="512"/>
                  </a:lnTo>
                  <a:lnTo>
                    <a:pt x="390" y="509"/>
                  </a:lnTo>
                  <a:lnTo>
                    <a:pt x="405" y="505"/>
                  </a:lnTo>
                  <a:lnTo>
                    <a:pt x="420" y="498"/>
                  </a:lnTo>
                  <a:lnTo>
                    <a:pt x="433" y="489"/>
                  </a:lnTo>
                  <a:lnTo>
                    <a:pt x="446" y="479"/>
                  </a:lnTo>
                  <a:lnTo>
                    <a:pt x="459" y="468"/>
                  </a:lnTo>
                  <a:lnTo>
                    <a:pt x="469" y="456"/>
                  </a:lnTo>
                  <a:lnTo>
                    <a:pt x="478" y="442"/>
                  </a:lnTo>
                  <a:lnTo>
                    <a:pt x="488" y="425"/>
                  </a:lnTo>
                  <a:lnTo>
                    <a:pt x="497" y="407"/>
                  </a:lnTo>
                  <a:lnTo>
                    <a:pt x="508" y="388"/>
                  </a:lnTo>
                  <a:lnTo>
                    <a:pt x="516" y="369"/>
                  </a:lnTo>
                  <a:lnTo>
                    <a:pt x="524" y="350"/>
                  </a:lnTo>
                  <a:lnTo>
                    <a:pt x="529" y="329"/>
                  </a:lnTo>
                  <a:lnTo>
                    <a:pt x="534" y="309"/>
                  </a:lnTo>
                  <a:lnTo>
                    <a:pt x="536" y="287"/>
                  </a:lnTo>
                  <a:lnTo>
                    <a:pt x="537" y="271"/>
                  </a:lnTo>
                  <a:lnTo>
                    <a:pt x="536" y="252"/>
                  </a:lnTo>
                  <a:lnTo>
                    <a:pt x="534" y="231"/>
                  </a:lnTo>
                  <a:lnTo>
                    <a:pt x="529" y="210"/>
                  </a:lnTo>
                  <a:lnTo>
                    <a:pt x="519" y="190"/>
                  </a:lnTo>
                  <a:lnTo>
                    <a:pt x="504" y="175"/>
                  </a:lnTo>
                  <a:lnTo>
                    <a:pt x="483" y="165"/>
                  </a:lnTo>
                  <a:lnTo>
                    <a:pt x="453" y="161"/>
                  </a:lnTo>
                  <a:lnTo>
                    <a:pt x="436" y="162"/>
                  </a:lnTo>
                  <a:lnTo>
                    <a:pt x="420" y="166"/>
                  </a:lnTo>
                  <a:lnTo>
                    <a:pt x="404" y="172"/>
                  </a:lnTo>
                  <a:lnTo>
                    <a:pt x="390" y="181"/>
                  </a:lnTo>
                  <a:lnTo>
                    <a:pt x="376" y="192"/>
                  </a:lnTo>
                  <a:lnTo>
                    <a:pt x="364" y="205"/>
                  </a:lnTo>
                  <a:lnTo>
                    <a:pt x="352" y="220"/>
                  </a:lnTo>
                  <a:lnTo>
                    <a:pt x="342" y="237"/>
                  </a:lnTo>
                  <a:lnTo>
                    <a:pt x="333" y="256"/>
                  </a:lnTo>
                  <a:lnTo>
                    <a:pt x="325" y="275"/>
                  </a:lnTo>
                  <a:lnTo>
                    <a:pt x="316" y="294"/>
                  </a:lnTo>
                  <a:lnTo>
                    <a:pt x="308" y="315"/>
                  </a:lnTo>
                  <a:lnTo>
                    <a:pt x="301" y="334"/>
                  </a:lnTo>
                  <a:lnTo>
                    <a:pt x="296" y="355"/>
                  </a:lnTo>
                  <a:lnTo>
                    <a:pt x="293" y="375"/>
                  </a:lnTo>
                  <a:lnTo>
                    <a:pt x="292" y="3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755840" y="611640"/>
              <a:ext cx="222480" cy="258480"/>
            </a:xfrm>
            <a:custGeom>
              <a:avLst/>
              <a:gdLst/>
              <a:ahLst/>
              <a:rect l="l" t="t" r="r" b="b"/>
              <a:pathLst>
                <a:path w="814" h="656">
                  <a:moveTo>
                    <a:pt x="0" y="656"/>
                  </a:moveTo>
                  <a:lnTo>
                    <a:pt x="163" y="0"/>
                  </a:lnTo>
                  <a:lnTo>
                    <a:pt x="444" y="0"/>
                  </a:lnTo>
                  <a:lnTo>
                    <a:pt x="466" y="0"/>
                  </a:lnTo>
                  <a:lnTo>
                    <a:pt x="489" y="1"/>
                  </a:lnTo>
                  <a:lnTo>
                    <a:pt x="512" y="2"/>
                  </a:lnTo>
                  <a:lnTo>
                    <a:pt x="534" y="3"/>
                  </a:lnTo>
                  <a:lnTo>
                    <a:pt x="558" y="5"/>
                  </a:lnTo>
                  <a:lnTo>
                    <a:pt x="581" y="8"/>
                  </a:lnTo>
                  <a:lnTo>
                    <a:pt x="605" y="11"/>
                  </a:lnTo>
                  <a:lnTo>
                    <a:pt x="627" y="15"/>
                  </a:lnTo>
                  <a:lnTo>
                    <a:pt x="649" y="20"/>
                  </a:lnTo>
                  <a:lnTo>
                    <a:pt x="670" y="25"/>
                  </a:lnTo>
                  <a:lnTo>
                    <a:pt x="691" y="31"/>
                  </a:lnTo>
                  <a:lnTo>
                    <a:pt x="709" y="38"/>
                  </a:lnTo>
                  <a:lnTo>
                    <a:pt x="727" y="47"/>
                  </a:lnTo>
                  <a:lnTo>
                    <a:pt x="744" y="57"/>
                  </a:lnTo>
                  <a:lnTo>
                    <a:pt x="758" y="67"/>
                  </a:lnTo>
                  <a:lnTo>
                    <a:pt x="771" y="78"/>
                  </a:lnTo>
                  <a:lnTo>
                    <a:pt x="779" y="87"/>
                  </a:lnTo>
                  <a:lnTo>
                    <a:pt x="787" y="97"/>
                  </a:lnTo>
                  <a:lnTo>
                    <a:pt x="793" y="107"/>
                  </a:lnTo>
                  <a:lnTo>
                    <a:pt x="799" y="118"/>
                  </a:lnTo>
                  <a:lnTo>
                    <a:pt x="803" y="128"/>
                  </a:lnTo>
                  <a:lnTo>
                    <a:pt x="807" y="140"/>
                  </a:lnTo>
                  <a:lnTo>
                    <a:pt x="810" y="152"/>
                  </a:lnTo>
                  <a:lnTo>
                    <a:pt x="812" y="163"/>
                  </a:lnTo>
                  <a:lnTo>
                    <a:pt x="813" y="175"/>
                  </a:lnTo>
                  <a:lnTo>
                    <a:pt x="814" y="186"/>
                  </a:lnTo>
                  <a:lnTo>
                    <a:pt x="814" y="199"/>
                  </a:lnTo>
                  <a:lnTo>
                    <a:pt x="813" y="210"/>
                  </a:lnTo>
                  <a:lnTo>
                    <a:pt x="812" y="221"/>
                  </a:lnTo>
                  <a:lnTo>
                    <a:pt x="810" y="232"/>
                  </a:lnTo>
                  <a:lnTo>
                    <a:pt x="807" y="243"/>
                  </a:lnTo>
                  <a:lnTo>
                    <a:pt x="804" y="253"/>
                  </a:lnTo>
                  <a:lnTo>
                    <a:pt x="795" y="276"/>
                  </a:lnTo>
                  <a:lnTo>
                    <a:pt x="783" y="298"/>
                  </a:lnTo>
                  <a:lnTo>
                    <a:pt x="768" y="318"/>
                  </a:lnTo>
                  <a:lnTo>
                    <a:pt x="751" y="337"/>
                  </a:lnTo>
                  <a:lnTo>
                    <a:pt x="730" y="354"/>
                  </a:lnTo>
                  <a:lnTo>
                    <a:pt x="707" y="370"/>
                  </a:lnTo>
                  <a:lnTo>
                    <a:pt x="681" y="384"/>
                  </a:lnTo>
                  <a:lnTo>
                    <a:pt x="654" y="397"/>
                  </a:lnTo>
                  <a:lnTo>
                    <a:pt x="623" y="408"/>
                  </a:lnTo>
                  <a:lnTo>
                    <a:pt x="590" y="418"/>
                  </a:lnTo>
                  <a:lnTo>
                    <a:pt x="555" y="426"/>
                  </a:lnTo>
                  <a:lnTo>
                    <a:pt x="516" y="432"/>
                  </a:lnTo>
                  <a:lnTo>
                    <a:pt x="476" y="438"/>
                  </a:lnTo>
                  <a:lnTo>
                    <a:pt x="434" y="442"/>
                  </a:lnTo>
                  <a:lnTo>
                    <a:pt x="390" y="443"/>
                  </a:lnTo>
                  <a:lnTo>
                    <a:pt x="343" y="443"/>
                  </a:lnTo>
                  <a:lnTo>
                    <a:pt x="285" y="656"/>
                  </a:lnTo>
                  <a:lnTo>
                    <a:pt x="0" y="656"/>
                  </a:lnTo>
                  <a:close/>
                  <a:moveTo>
                    <a:pt x="375" y="284"/>
                  </a:moveTo>
                  <a:lnTo>
                    <a:pt x="393" y="285"/>
                  </a:lnTo>
                  <a:lnTo>
                    <a:pt x="409" y="285"/>
                  </a:lnTo>
                  <a:lnTo>
                    <a:pt x="424" y="284"/>
                  </a:lnTo>
                  <a:lnTo>
                    <a:pt x="440" y="282"/>
                  </a:lnTo>
                  <a:lnTo>
                    <a:pt x="455" y="280"/>
                  </a:lnTo>
                  <a:lnTo>
                    <a:pt x="469" y="276"/>
                  </a:lnTo>
                  <a:lnTo>
                    <a:pt x="481" y="271"/>
                  </a:lnTo>
                  <a:lnTo>
                    <a:pt x="494" y="265"/>
                  </a:lnTo>
                  <a:lnTo>
                    <a:pt x="505" y="259"/>
                  </a:lnTo>
                  <a:lnTo>
                    <a:pt x="515" y="252"/>
                  </a:lnTo>
                  <a:lnTo>
                    <a:pt x="523" y="244"/>
                  </a:lnTo>
                  <a:lnTo>
                    <a:pt x="531" y="235"/>
                  </a:lnTo>
                  <a:lnTo>
                    <a:pt x="537" y="226"/>
                  </a:lnTo>
                  <a:lnTo>
                    <a:pt x="542" y="216"/>
                  </a:lnTo>
                  <a:lnTo>
                    <a:pt x="544" y="206"/>
                  </a:lnTo>
                  <a:lnTo>
                    <a:pt x="545" y="196"/>
                  </a:lnTo>
                  <a:lnTo>
                    <a:pt x="543" y="175"/>
                  </a:lnTo>
                  <a:lnTo>
                    <a:pt x="538" y="158"/>
                  </a:lnTo>
                  <a:lnTo>
                    <a:pt x="529" y="144"/>
                  </a:lnTo>
                  <a:lnTo>
                    <a:pt x="517" y="131"/>
                  </a:lnTo>
                  <a:lnTo>
                    <a:pt x="500" y="122"/>
                  </a:lnTo>
                  <a:lnTo>
                    <a:pt x="478" y="116"/>
                  </a:lnTo>
                  <a:lnTo>
                    <a:pt x="453" y="112"/>
                  </a:lnTo>
                  <a:lnTo>
                    <a:pt x="422" y="111"/>
                  </a:lnTo>
                  <a:lnTo>
                    <a:pt x="375" y="28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933760" y="613440"/>
              <a:ext cx="187920" cy="266400"/>
            </a:xfrm>
            <a:custGeom>
              <a:avLst/>
              <a:gdLst/>
              <a:ahLst/>
              <a:rect l="l" t="t" r="r" b="b"/>
              <a:pathLst>
                <a:path w="685" h="682">
                  <a:moveTo>
                    <a:pt x="50" y="444"/>
                  </a:moveTo>
                  <a:lnTo>
                    <a:pt x="67" y="462"/>
                  </a:lnTo>
                  <a:lnTo>
                    <a:pt x="85" y="477"/>
                  </a:lnTo>
                  <a:lnTo>
                    <a:pt x="104" y="491"/>
                  </a:lnTo>
                  <a:lnTo>
                    <a:pt x="125" y="501"/>
                  </a:lnTo>
                  <a:lnTo>
                    <a:pt x="146" y="509"/>
                  </a:lnTo>
                  <a:lnTo>
                    <a:pt x="168" y="515"/>
                  </a:lnTo>
                  <a:lnTo>
                    <a:pt x="190" y="519"/>
                  </a:lnTo>
                  <a:lnTo>
                    <a:pt x="212" y="520"/>
                  </a:lnTo>
                  <a:lnTo>
                    <a:pt x="232" y="519"/>
                  </a:lnTo>
                  <a:lnTo>
                    <a:pt x="250" y="517"/>
                  </a:lnTo>
                  <a:lnTo>
                    <a:pt x="267" y="513"/>
                  </a:lnTo>
                  <a:lnTo>
                    <a:pt x="280" y="508"/>
                  </a:lnTo>
                  <a:lnTo>
                    <a:pt x="291" y="502"/>
                  </a:lnTo>
                  <a:lnTo>
                    <a:pt x="300" y="494"/>
                  </a:lnTo>
                  <a:lnTo>
                    <a:pt x="308" y="485"/>
                  </a:lnTo>
                  <a:lnTo>
                    <a:pt x="313" y="474"/>
                  </a:lnTo>
                  <a:lnTo>
                    <a:pt x="313" y="469"/>
                  </a:lnTo>
                  <a:lnTo>
                    <a:pt x="311" y="463"/>
                  </a:lnTo>
                  <a:lnTo>
                    <a:pt x="307" y="456"/>
                  </a:lnTo>
                  <a:lnTo>
                    <a:pt x="299" y="448"/>
                  </a:lnTo>
                  <a:lnTo>
                    <a:pt x="289" y="439"/>
                  </a:lnTo>
                  <a:lnTo>
                    <a:pt x="277" y="428"/>
                  </a:lnTo>
                  <a:lnTo>
                    <a:pt x="263" y="418"/>
                  </a:lnTo>
                  <a:lnTo>
                    <a:pt x="245" y="407"/>
                  </a:lnTo>
                  <a:lnTo>
                    <a:pt x="229" y="397"/>
                  </a:lnTo>
                  <a:lnTo>
                    <a:pt x="213" y="387"/>
                  </a:lnTo>
                  <a:lnTo>
                    <a:pt x="197" y="377"/>
                  </a:lnTo>
                  <a:lnTo>
                    <a:pt x="183" y="368"/>
                  </a:lnTo>
                  <a:lnTo>
                    <a:pt x="170" y="360"/>
                  </a:lnTo>
                  <a:lnTo>
                    <a:pt x="158" y="352"/>
                  </a:lnTo>
                  <a:lnTo>
                    <a:pt x="146" y="344"/>
                  </a:lnTo>
                  <a:lnTo>
                    <a:pt x="136" y="335"/>
                  </a:lnTo>
                  <a:lnTo>
                    <a:pt x="127" y="325"/>
                  </a:lnTo>
                  <a:lnTo>
                    <a:pt x="120" y="316"/>
                  </a:lnTo>
                  <a:lnTo>
                    <a:pt x="113" y="306"/>
                  </a:lnTo>
                  <a:lnTo>
                    <a:pt x="108" y="295"/>
                  </a:lnTo>
                  <a:lnTo>
                    <a:pt x="104" y="282"/>
                  </a:lnTo>
                  <a:lnTo>
                    <a:pt x="101" y="269"/>
                  </a:lnTo>
                  <a:lnTo>
                    <a:pt x="100" y="255"/>
                  </a:lnTo>
                  <a:lnTo>
                    <a:pt x="101" y="239"/>
                  </a:lnTo>
                  <a:lnTo>
                    <a:pt x="102" y="225"/>
                  </a:lnTo>
                  <a:lnTo>
                    <a:pt x="105" y="212"/>
                  </a:lnTo>
                  <a:lnTo>
                    <a:pt x="109" y="200"/>
                  </a:lnTo>
                  <a:lnTo>
                    <a:pt x="114" y="188"/>
                  </a:lnTo>
                  <a:lnTo>
                    <a:pt x="120" y="175"/>
                  </a:lnTo>
                  <a:lnTo>
                    <a:pt x="126" y="163"/>
                  </a:lnTo>
                  <a:lnTo>
                    <a:pt x="134" y="152"/>
                  </a:lnTo>
                  <a:lnTo>
                    <a:pt x="142" y="142"/>
                  </a:lnTo>
                  <a:lnTo>
                    <a:pt x="150" y="130"/>
                  </a:lnTo>
                  <a:lnTo>
                    <a:pt x="161" y="120"/>
                  </a:lnTo>
                  <a:lnTo>
                    <a:pt x="171" y="111"/>
                  </a:lnTo>
                  <a:lnTo>
                    <a:pt x="182" y="102"/>
                  </a:lnTo>
                  <a:lnTo>
                    <a:pt x="193" y="93"/>
                  </a:lnTo>
                  <a:lnTo>
                    <a:pt x="204" y="83"/>
                  </a:lnTo>
                  <a:lnTo>
                    <a:pt x="217" y="75"/>
                  </a:lnTo>
                  <a:lnTo>
                    <a:pt x="229" y="67"/>
                  </a:lnTo>
                  <a:lnTo>
                    <a:pt x="243" y="59"/>
                  </a:lnTo>
                  <a:lnTo>
                    <a:pt x="258" y="52"/>
                  </a:lnTo>
                  <a:lnTo>
                    <a:pt x="272" y="45"/>
                  </a:lnTo>
                  <a:lnTo>
                    <a:pt x="287" y="37"/>
                  </a:lnTo>
                  <a:lnTo>
                    <a:pt x="302" y="31"/>
                  </a:lnTo>
                  <a:lnTo>
                    <a:pt x="318" y="26"/>
                  </a:lnTo>
                  <a:lnTo>
                    <a:pt x="333" y="21"/>
                  </a:lnTo>
                  <a:lnTo>
                    <a:pt x="349" y="16"/>
                  </a:lnTo>
                  <a:lnTo>
                    <a:pt x="366" y="13"/>
                  </a:lnTo>
                  <a:lnTo>
                    <a:pt x="382" y="9"/>
                  </a:lnTo>
                  <a:lnTo>
                    <a:pt x="399" y="6"/>
                  </a:lnTo>
                  <a:lnTo>
                    <a:pt x="417" y="4"/>
                  </a:lnTo>
                  <a:lnTo>
                    <a:pt x="434" y="2"/>
                  </a:lnTo>
                  <a:lnTo>
                    <a:pt x="453" y="1"/>
                  </a:lnTo>
                  <a:lnTo>
                    <a:pt x="471" y="0"/>
                  </a:lnTo>
                  <a:lnTo>
                    <a:pt x="489" y="0"/>
                  </a:lnTo>
                  <a:lnTo>
                    <a:pt x="501" y="0"/>
                  </a:lnTo>
                  <a:lnTo>
                    <a:pt x="513" y="1"/>
                  </a:lnTo>
                  <a:lnTo>
                    <a:pt x="524" y="1"/>
                  </a:lnTo>
                  <a:lnTo>
                    <a:pt x="536" y="2"/>
                  </a:lnTo>
                  <a:lnTo>
                    <a:pt x="549" y="3"/>
                  </a:lnTo>
                  <a:lnTo>
                    <a:pt x="561" y="4"/>
                  </a:lnTo>
                  <a:lnTo>
                    <a:pt x="573" y="6"/>
                  </a:lnTo>
                  <a:lnTo>
                    <a:pt x="585" y="8"/>
                  </a:lnTo>
                  <a:lnTo>
                    <a:pt x="598" y="10"/>
                  </a:lnTo>
                  <a:lnTo>
                    <a:pt x="611" y="12"/>
                  </a:lnTo>
                  <a:lnTo>
                    <a:pt x="623" y="15"/>
                  </a:lnTo>
                  <a:lnTo>
                    <a:pt x="635" y="17"/>
                  </a:lnTo>
                  <a:lnTo>
                    <a:pt x="648" y="20"/>
                  </a:lnTo>
                  <a:lnTo>
                    <a:pt x="661" y="23"/>
                  </a:lnTo>
                  <a:lnTo>
                    <a:pt x="673" y="27"/>
                  </a:lnTo>
                  <a:lnTo>
                    <a:pt x="685" y="30"/>
                  </a:lnTo>
                  <a:lnTo>
                    <a:pt x="636" y="228"/>
                  </a:lnTo>
                  <a:lnTo>
                    <a:pt x="620" y="212"/>
                  </a:lnTo>
                  <a:lnTo>
                    <a:pt x="602" y="198"/>
                  </a:lnTo>
                  <a:lnTo>
                    <a:pt x="583" y="184"/>
                  </a:lnTo>
                  <a:lnTo>
                    <a:pt x="565" y="174"/>
                  </a:lnTo>
                  <a:lnTo>
                    <a:pt x="544" y="166"/>
                  </a:lnTo>
                  <a:lnTo>
                    <a:pt x="525" y="160"/>
                  </a:lnTo>
                  <a:lnTo>
                    <a:pt x="504" y="156"/>
                  </a:lnTo>
                  <a:lnTo>
                    <a:pt x="482" y="155"/>
                  </a:lnTo>
                  <a:lnTo>
                    <a:pt x="456" y="157"/>
                  </a:lnTo>
                  <a:lnTo>
                    <a:pt x="433" y="163"/>
                  </a:lnTo>
                  <a:lnTo>
                    <a:pt x="416" y="172"/>
                  </a:lnTo>
                  <a:lnTo>
                    <a:pt x="404" y="184"/>
                  </a:lnTo>
                  <a:lnTo>
                    <a:pt x="397" y="198"/>
                  </a:lnTo>
                  <a:lnTo>
                    <a:pt x="397" y="211"/>
                  </a:lnTo>
                  <a:lnTo>
                    <a:pt x="406" y="225"/>
                  </a:lnTo>
                  <a:lnTo>
                    <a:pt x="422" y="239"/>
                  </a:lnTo>
                  <a:lnTo>
                    <a:pt x="441" y="250"/>
                  </a:lnTo>
                  <a:lnTo>
                    <a:pt x="461" y="261"/>
                  </a:lnTo>
                  <a:lnTo>
                    <a:pt x="482" y="273"/>
                  </a:lnTo>
                  <a:lnTo>
                    <a:pt x="504" y="286"/>
                  </a:lnTo>
                  <a:lnTo>
                    <a:pt x="524" y="299"/>
                  </a:lnTo>
                  <a:lnTo>
                    <a:pt x="542" y="311"/>
                  </a:lnTo>
                  <a:lnTo>
                    <a:pt x="560" y="325"/>
                  </a:lnTo>
                  <a:lnTo>
                    <a:pt x="574" y="339"/>
                  </a:lnTo>
                  <a:lnTo>
                    <a:pt x="581" y="347"/>
                  </a:lnTo>
                  <a:lnTo>
                    <a:pt x="588" y="355"/>
                  </a:lnTo>
                  <a:lnTo>
                    <a:pt x="594" y="363"/>
                  </a:lnTo>
                  <a:lnTo>
                    <a:pt x="600" y="372"/>
                  </a:lnTo>
                  <a:lnTo>
                    <a:pt x="604" y="383"/>
                  </a:lnTo>
                  <a:lnTo>
                    <a:pt x="607" y="393"/>
                  </a:lnTo>
                  <a:lnTo>
                    <a:pt x="609" y="404"/>
                  </a:lnTo>
                  <a:lnTo>
                    <a:pt x="610" y="416"/>
                  </a:lnTo>
                  <a:lnTo>
                    <a:pt x="609" y="434"/>
                  </a:lnTo>
                  <a:lnTo>
                    <a:pt x="606" y="452"/>
                  </a:lnTo>
                  <a:lnTo>
                    <a:pt x="602" y="469"/>
                  </a:lnTo>
                  <a:lnTo>
                    <a:pt x="594" y="486"/>
                  </a:lnTo>
                  <a:lnTo>
                    <a:pt x="586" y="503"/>
                  </a:lnTo>
                  <a:lnTo>
                    <a:pt x="576" y="519"/>
                  </a:lnTo>
                  <a:lnTo>
                    <a:pt x="564" y="535"/>
                  </a:lnTo>
                  <a:lnTo>
                    <a:pt x="551" y="550"/>
                  </a:lnTo>
                  <a:lnTo>
                    <a:pt x="536" y="563"/>
                  </a:lnTo>
                  <a:lnTo>
                    <a:pt x="521" y="576"/>
                  </a:lnTo>
                  <a:lnTo>
                    <a:pt x="505" y="590"/>
                  </a:lnTo>
                  <a:lnTo>
                    <a:pt x="486" y="602"/>
                  </a:lnTo>
                  <a:lnTo>
                    <a:pt x="466" y="613"/>
                  </a:lnTo>
                  <a:lnTo>
                    <a:pt x="444" y="625"/>
                  </a:lnTo>
                  <a:lnTo>
                    <a:pt x="421" y="636"/>
                  </a:lnTo>
                  <a:lnTo>
                    <a:pt x="396" y="646"/>
                  </a:lnTo>
                  <a:lnTo>
                    <a:pt x="386" y="650"/>
                  </a:lnTo>
                  <a:lnTo>
                    <a:pt x="375" y="653"/>
                  </a:lnTo>
                  <a:lnTo>
                    <a:pt x="363" y="657"/>
                  </a:lnTo>
                  <a:lnTo>
                    <a:pt x="351" y="660"/>
                  </a:lnTo>
                  <a:lnTo>
                    <a:pt x="339" y="663"/>
                  </a:lnTo>
                  <a:lnTo>
                    <a:pt x="326" y="666"/>
                  </a:lnTo>
                  <a:lnTo>
                    <a:pt x="314" y="669"/>
                  </a:lnTo>
                  <a:lnTo>
                    <a:pt x="300" y="671"/>
                  </a:lnTo>
                  <a:lnTo>
                    <a:pt x="287" y="673"/>
                  </a:lnTo>
                  <a:lnTo>
                    <a:pt x="274" y="675"/>
                  </a:lnTo>
                  <a:lnTo>
                    <a:pt x="261" y="677"/>
                  </a:lnTo>
                  <a:lnTo>
                    <a:pt x="247" y="679"/>
                  </a:lnTo>
                  <a:lnTo>
                    <a:pt x="234" y="680"/>
                  </a:lnTo>
                  <a:lnTo>
                    <a:pt x="221" y="681"/>
                  </a:lnTo>
                  <a:lnTo>
                    <a:pt x="208" y="682"/>
                  </a:lnTo>
                  <a:lnTo>
                    <a:pt x="194" y="682"/>
                  </a:lnTo>
                  <a:lnTo>
                    <a:pt x="182" y="682"/>
                  </a:lnTo>
                  <a:lnTo>
                    <a:pt x="169" y="682"/>
                  </a:lnTo>
                  <a:lnTo>
                    <a:pt x="157" y="681"/>
                  </a:lnTo>
                  <a:lnTo>
                    <a:pt x="143" y="680"/>
                  </a:lnTo>
                  <a:lnTo>
                    <a:pt x="131" y="679"/>
                  </a:lnTo>
                  <a:lnTo>
                    <a:pt x="119" y="677"/>
                  </a:lnTo>
                  <a:lnTo>
                    <a:pt x="106" y="676"/>
                  </a:lnTo>
                  <a:lnTo>
                    <a:pt x="94" y="674"/>
                  </a:lnTo>
                  <a:lnTo>
                    <a:pt x="82" y="672"/>
                  </a:lnTo>
                  <a:lnTo>
                    <a:pt x="70" y="670"/>
                  </a:lnTo>
                  <a:lnTo>
                    <a:pt x="57" y="668"/>
                  </a:lnTo>
                  <a:lnTo>
                    <a:pt x="45" y="666"/>
                  </a:lnTo>
                  <a:lnTo>
                    <a:pt x="34" y="663"/>
                  </a:lnTo>
                  <a:lnTo>
                    <a:pt x="23" y="661"/>
                  </a:lnTo>
                  <a:lnTo>
                    <a:pt x="12" y="658"/>
                  </a:lnTo>
                  <a:lnTo>
                    <a:pt x="0" y="655"/>
                  </a:lnTo>
                  <a:lnTo>
                    <a:pt x="50" y="4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8484840" y="613440"/>
              <a:ext cx="230400" cy="266400"/>
            </a:xfrm>
            <a:custGeom>
              <a:avLst/>
              <a:gdLst/>
              <a:ahLst/>
              <a:rect l="l" t="t" r="r" b="b"/>
              <a:pathLst>
                <a:path w="839" h="682">
                  <a:moveTo>
                    <a:pt x="491" y="423"/>
                  </a:moveTo>
                  <a:lnTo>
                    <a:pt x="491" y="423"/>
                  </a:lnTo>
                  <a:lnTo>
                    <a:pt x="390" y="423"/>
                  </a:lnTo>
                  <a:lnTo>
                    <a:pt x="424" y="286"/>
                  </a:lnTo>
                  <a:lnTo>
                    <a:pt x="820" y="286"/>
                  </a:lnTo>
                  <a:lnTo>
                    <a:pt x="819" y="299"/>
                  </a:lnTo>
                  <a:lnTo>
                    <a:pt x="817" y="312"/>
                  </a:lnTo>
                  <a:lnTo>
                    <a:pt x="815" y="325"/>
                  </a:lnTo>
                  <a:lnTo>
                    <a:pt x="812" y="338"/>
                  </a:lnTo>
                  <a:lnTo>
                    <a:pt x="808" y="351"/>
                  </a:lnTo>
                  <a:lnTo>
                    <a:pt x="805" y="363"/>
                  </a:lnTo>
                  <a:lnTo>
                    <a:pt x="801" y="375"/>
                  </a:lnTo>
                  <a:lnTo>
                    <a:pt x="797" y="388"/>
                  </a:lnTo>
                  <a:lnTo>
                    <a:pt x="793" y="400"/>
                  </a:lnTo>
                  <a:lnTo>
                    <a:pt x="788" y="412"/>
                  </a:lnTo>
                  <a:lnTo>
                    <a:pt x="783" y="423"/>
                  </a:lnTo>
                  <a:lnTo>
                    <a:pt x="777" y="435"/>
                  </a:lnTo>
                  <a:lnTo>
                    <a:pt x="772" y="446"/>
                  </a:lnTo>
                  <a:lnTo>
                    <a:pt x="766" y="457"/>
                  </a:lnTo>
                  <a:lnTo>
                    <a:pt x="759" y="467"/>
                  </a:lnTo>
                  <a:lnTo>
                    <a:pt x="753" y="477"/>
                  </a:lnTo>
                  <a:lnTo>
                    <a:pt x="740" y="499"/>
                  </a:lnTo>
                  <a:lnTo>
                    <a:pt x="725" y="519"/>
                  </a:lnTo>
                  <a:lnTo>
                    <a:pt x="707" y="538"/>
                  </a:lnTo>
                  <a:lnTo>
                    <a:pt x="689" y="556"/>
                  </a:lnTo>
                  <a:lnTo>
                    <a:pt x="670" y="573"/>
                  </a:lnTo>
                  <a:lnTo>
                    <a:pt x="648" y="590"/>
                  </a:lnTo>
                  <a:lnTo>
                    <a:pt x="625" y="605"/>
                  </a:lnTo>
                  <a:lnTo>
                    <a:pt x="600" y="619"/>
                  </a:lnTo>
                  <a:lnTo>
                    <a:pt x="589" y="625"/>
                  </a:lnTo>
                  <a:lnTo>
                    <a:pt x="577" y="632"/>
                  </a:lnTo>
                  <a:lnTo>
                    <a:pt x="564" y="638"/>
                  </a:lnTo>
                  <a:lnTo>
                    <a:pt x="552" y="644"/>
                  </a:lnTo>
                  <a:lnTo>
                    <a:pt x="539" y="649"/>
                  </a:lnTo>
                  <a:lnTo>
                    <a:pt x="525" y="653"/>
                  </a:lnTo>
                  <a:lnTo>
                    <a:pt x="511" y="658"/>
                  </a:lnTo>
                  <a:lnTo>
                    <a:pt x="496" y="662"/>
                  </a:lnTo>
                  <a:lnTo>
                    <a:pt x="482" y="665"/>
                  </a:lnTo>
                  <a:lnTo>
                    <a:pt x="466" y="669"/>
                  </a:lnTo>
                  <a:lnTo>
                    <a:pt x="451" y="672"/>
                  </a:lnTo>
                  <a:lnTo>
                    <a:pt x="436" y="674"/>
                  </a:lnTo>
                  <a:lnTo>
                    <a:pt x="421" y="677"/>
                  </a:lnTo>
                  <a:lnTo>
                    <a:pt x="405" y="679"/>
                  </a:lnTo>
                  <a:lnTo>
                    <a:pt x="389" y="681"/>
                  </a:lnTo>
                  <a:lnTo>
                    <a:pt x="374" y="682"/>
                  </a:lnTo>
                  <a:lnTo>
                    <a:pt x="359" y="682"/>
                  </a:lnTo>
                  <a:lnTo>
                    <a:pt x="345" y="682"/>
                  </a:lnTo>
                  <a:lnTo>
                    <a:pt x="332" y="681"/>
                  </a:lnTo>
                  <a:lnTo>
                    <a:pt x="317" y="681"/>
                  </a:lnTo>
                  <a:lnTo>
                    <a:pt x="304" y="680"/>
                  </a:lnTo>
                  <a:lnTo>
                    <a:pt x="291" y="679"/>
                  </a:lnTo>
                  <a:lnTo>
                    <a:pt x="279" y="677"/>
                  </a:lnTo>
                  <a:lnTo>
                    <a:pt x="265" y="676"/>
                  </a:lnTo>
                  <a:lnTo>
                    <a:pt x="253" y="674"/>
                  </a:lnTo>
                  <a:lnTo>
                    <a:pt x="241" y="672"/>
                  </a:lnTo>
                  <a:lnTo>
                    <a:pt x="229" y="670"/>
                  </a:lnTo>
                  <a:lnTo>
                    <a:pt x="216" y="668"/>
                  </a:lnTo>
                  <a:lnTo>
                    <a:pt x="204" y="665"/>
                  </a:lnTo>
                  <a:lnTo>
                    <a:pt x="193" y="662"/>
                  </a:lnTo>
                  <a:lnTo>
                    <a:pt x="182" y="659"/>
                  </a:lnTo>
                  <a:lnTo>
                    <a:pt x="170" y="655"/>
                  </a:lnTo>
                  <a:lnTo>
                    <a:pt x="148" y="649"/>
                  </a:lnTo>
                  <a:lnTo>
                    <a:pt x="129" y="641"/>
                  </a:lnTo>
                  <a:lnTo>
                    <a:pt x="109" y="633"/>
                  </a:lnTo>
                  <a:lnTo>
                    <a:pt x="93" y="622"/>
                  </a:lnTo>
                  <a:lnTo>
                    <a:pt x="77" y="612"/>
                  </a:lnTo>
                  <a:lnTo>
                    <a:pt x="64" y="601"/>
                  </a:lnTo>
                  <a:lnTo>
                    <a:pt x="53" y="590"/>
                  </a:lnTo>
                  <a:lnTo>
                    <a:pt x="43" y="577"/>
                  </a:lnTo>
                  <a:lnTo>
                    <a:pt x="34" y="563"/>
                  </a:lnTo>
                  <a:lnTo>
                    <a:pt x="25" y="548"/>
                  </a:lnTo>
                  <a:lnTo>
                    <a:pt x="18" y="533"/>
                  </a:lnTo>
                  <a:lnTo>
                    <a:pt x="12" y="516"/>
                  </a:lnTo>
                  <a:lnTo>
                    <a:pt x="7" y="500"/>
                  </a:lnTo>
                  <a:lnTo>
                    <a:pt x="3" y="483"/>
                  </a:lnTo>
                  <a:lnTo>
                    <a:pt x="1" y="465"/>
                  </a:lnTo>
                  <a:lnTo>
                    <a:pt x="0" y="448"/>
                  </a:lnTo>
                  <a:lnTo>
                    <a:pt x="0" y="447"/>
                  </a:lnTo>
                  <a:lnTo>
                    <a:pt x="0" y="446"/>
                  </a:lnTo>
                  <a:lnTo>
                    <a:pt x="0" y="445"/>
                  </a:lnTo>
                  <a:lnTo>
                    <a:pt x="0" y="444"/>
                  </a:lnTo>
                  <a:lnTo>
                    <a:pt x="0" y="426"/>
                  </a:lnTo>
                  <a:lnTo>
                    <a:pt x="1" y="408"/>
                  </a:lnTo>
                  <a:lnTo>
                    <a:pt x="3" y="392"/>
                  </a:lnTo>
                  <a:lnTo>
                    <a:pt x="5" y="374"/>
                  </a:lnTo>
                  <a:lnTo>
                    <a:pt x="7" y="358"/>
                  </a:lnTo>
                  <a:lnTo>
                    <a:pt x="11" y="342"/>
                  </a:lnTo>
                  <a:lnTo>
                    <a:pt x="14" y="325"/>
                  </a:lnTo>
                  <a:lnTo>
                    <a:pt x="19" y="310"/>
                  </a:lnTo>
                  <a:lnTo>
                    <a:pt x="24" y="295"/>
                  </a:lnTo>
                  <a:lnTo>
                    <a:pt x="30" y="279"/>
                  </a:lnTo>
                  <a:lnTo>
                    <a:pt x="36" y="265"/>
                  </a:lnTo>
                  <a:lnTo>
                    <a:pt x="43" y="251"/>
                  </a:lnTo>
                  <a:lnTo>
                    <a:pt x="51" y="238"/>
                  </a:lnTo>
                  <a:lnTo>
                    <a:pt x="58" y="223"/>
                  </a:lnTo>
                  <a:lnTo>
                    <a:pt x="67" y="211"/>
                  </a:lnTo>
                  <a:lnTo>
                    <a:pt x="76" y="198"/>
                  </a:lnTo>
                  <a:lnTo>
                    <a:pt x="86" y="186"/>
                  </a:lnTo>
                  <a:lnTo>
                    <a:pt x="96" y="173"/>
                  </a:lnTo>
                  <a:lnTo>
                    <a:pt x="106" y="162"/>
                  </a:lnTo>
                  <a:lnTo>
                    <a:pt x="117" y="151"/>
                  </a:lnTo>
                  <a:lnTo>
                    <a:pt x="129" y="141"/>
                  </a:lnTo>
                  <a:lnTo>
                    <a:pt x="140" y="129"/>
                  </a:lnTo>
                  <a:lnTo>
                    <a:pt x="152" y="120"/>
                  </a:lnTo>
                  <a:lnTo>
                    <a:pt x="164" y="110"/>
                  </a:lnTo>
                  <a:lnTo>
                    <a:pt x="177" y="102"/>
                  </a:lnTo>
                  <a:lnTo>
                    <a:pt x="190" y="93"/>
                  </a:lnTo>
                  <a:lnTo>
                    <a:pt x="203" y="84"/>
                  </a:lnTo>
                  <a:lnTo>
                    <a:pt x="216" y="76"/>
                  </a:lnTo>
                  <a:lnTo>
                    <a:pt x="230" y="69"/>
                  </a:lnTo>
                  <a:lnTo>
                    <a:pt x="244" y="61"/>
                  </a:lnTo>
                  <a:lnTo>
                    <a:pt x="258" y="55"/>
                  </a:lnTo>
                  <a:lnTo>
                    <a:pt x="272" y="48"/>
                  </a:lnTo>
                  <a:lnTo>
                    <a:pt x="287" y="42"/>
                  </a:lnTo>
                  <a:lnTo>
                    <a:pt x="301" y="36"/>
                  </a:lnTo>
                  <a:lnTo>
                    <a:pt x="315" y="31"/>
                  </a:lnTo>
                  <a:lnTo>
                    <a:pt x="330" y="26"/>
                  </a:lnTo>
                  <a:lnTo>
                    <a:pt x="344" y="22"/>
                  </a:lnTo>
                  <a:lnTo>
                    <a:pt x="358" y="18"/>
                  </a:lnTo>
                  <a:lnTo>
                    <a:pt x="373" y="15"/>
                  </a:lnTo>
                  <a:lnTo>
                    <a:pt x="387" y="11"/>
                  </a:lnTo>
                  <a:lnTo>
                    <a:pt x="401" y="9"/>
                  </a:lnTo>
                  <a:lnTo>
                    <a:pt x="416" y="6"/>
                  </a:lnTo>
                  <a:lnTo>
                    <a:pt x="431" y="4"/>
                  </a:lnTo>
                  <a:lnTo>
                    <a:pt x="446" y="3"/>
                  </a:lnTo>
                  <a:lnTo>
                    <a:pt x="461" y="2"/>
                  </a:lnTo>
                  <a:lnTo>
                    <a:pt x="477" y="1"/>
                  </a:lnTo>
                  <a:lnTo>
                    <a:pt x="492" y="0"/>
                  </a:lnTo>
                  <a:lnTo>
                    <a:pt x="507" y="0"/>
                  </a:lnTo>
                  <a:lnTo>
                    <a:pt x="522" y="0"/>
                  </a:lnTo>
                  <a:lnTo>
                    <a:pt x="536" y="1"/>
                  </a:lnTo>
                  <a:lnTo>
                    <a:pt x="550" y="2"/>
                  </a:lnTo>
                  <a:lnTo>
                    <a:pt x="563" y="3"/>
                  </a:lnTo>
                  <a:lnTo>
                    <a:pt x="577" y="4"/>
                  </a:lnTo>
                  <a:lnTo>
                    <a:pt x="590" y="6"/>
                  </a:lnTo>
                  <a:lnTo>
                    <a:pt x="603" y="8"/>
                  </a:lnTo>
                  <a:lnTo>
                    <a:pt x="615" y="11"/>
                  </a:lnTo>
                  <a:lnTo>
                    <a:pt x="628" y="14"/>
                  </a:lnTo>
                  <a:lnTo>
                    <a:pt x="640" y="17"/>
                  </a:lnTo>
                  <a:lnTo>
                    <a:pt x="652" y="20"/>
                  </a:lnTo>
                  <a:lnTo>
                    <a:pt x="664" y="24"/>
                  </a:lnTo>
                  <a:lnTo>
                    <a:pt x="676" y="28"/>
                  </a:lnTo>
                  <a:lnTo>
                    <a:pt x="687" y="32"/>
                  </a:lnTo>
                  <a:lnTo>
                    <a:pt x="698" y="36"/>
                  </a:lnTo>
                  <a:lnTo>
                    <a:pt x="709" y="42"/>
                  </a:lnTo>
                  <a:lnTo>
                    <a:pt x="732" y="52"/>
                  </a:lnTo>
                  <a:lnTo>
                    <a:pt x="752" y="64"/>
                  </a:lnTo>
                  <a:lnTo>
                    <a:pt x="772" y="77"/>
                  </a:lnTo>
                  <a:lnTo>
                    <a:pt x="788" y="92"/>
                  </a:lnTo>
                  <a:lnTo>
                    <a:pt x="803" y="107"/>
                  </a:lnTo>
                  <a:lnTo>
                    <a:pt x="818" y="124"/>
                  </a:lnTo>
                  <a:lnTo>
                    <a:pt x="829" y="142"/>
                  </a:lnTo>
                  <a:lnTo>
                    <a:pt x="839" y="161"/>
                  </a:lnTo>
                  <a:lnTo>
                    <a:pt x="542" y="223"/>
                  </a:lnTo>
                  <a:lnTo>
                    <a:pt x="542" y="218"/>
                  </a:lnTo>
                  <a:lnTo>
                    <a:pt x="541" y="212"/>
                  </a:lnTo>
                  <a:lnTo>
                    <a:pt x="539" y="206"/>
                  </a:lnTo>
                  <a:lnTo>
                    <a:pt x="537" y="201"/>
                  </a:lnTo>
                  <a:lnTo>
                    <a:pt x="535" y="195"/>
                  </a:lnTo>
                  <a:lnTo>
                    <a:pt x="532" y="189"/>
                  </a:lnTo>
                  <a:lnTo>
                    <a:pt x="529" y="181"/>
                  </a:lnTo>
                  <a:lnTo>
                    <a:pt x="526" y="175"/>
                  </a:lnTo>
                  <a:lnTo>
                    <a:pt x="519" y="171"/>
                  </a:lnTo>
                  <a:lnTo>
                    <a:pt x="512" y="168"/>
                  </a:lnTo>
                  <a:lnTo>
                    <a:pt x="505" y="164"/>
                  </a:lnTo>
                  <a:lnTo>
                    <a:pt x="498" y="161"/>
                  </a:lnTo>
                  <a:lnTo>
                    <a:pt x="491" y="159"/>
                  </a:lnTo>
                  <a:lnTo>
                    <a:pt x="483" y="157"/>
                  </a:lnTo>
                  <a:lnTo>
                    <a:pt x="475" y="155"/>
                  </a:lnTo>
                  <a:lnTo>
                    <a:pt x="465" y="155"/>
                  </a:lnTo>
                  <a:lnTo>
                    <a:pt x="455" y="156"/>
                  </a:lnTo>
                  <a:lnTo>
                    <a:pt x="445" y="158"/>
                  </a:lnTo>
                  <a:lnTo>
                    <a:pt x="434" y="161"/>
                  </a:lnTo>
                  <a:lnTo>
                    <a:pt x="423" y="166"/>
                  </a:lnTo>
                  <a:lnTo>
                    <a:pt x="410" y="172"/>
                  </a:lnTo>
                  <a:lnTo>
                    <a:pt x="398" y="179"/>
                  </a:lnTo>
                  <a:lnTo>
                    <a:pt x="386" y="188"/>
                  </a:lnTo>
                  <a:lnTo>
                    <a:pt x="374" y="198"/>
                  </a:lnTo>
                  <a:lnTo>
                    <a:pt x="366" y="206"/>
                  </a:lnTo>
                  <a:lnTo>
                    <a:pt x="359" y="216"/>
                  </a:lnTo>
                  <a:lnTo>
                    <a:pt x="352" y="227"/>
                  </a:lnTo>
                  <a:lnTo>
                    <a:pt x="344" y="240"/>
                  </a:lnTo>
                  <a:lnTo>
                    <a:pt x="336" y="253"/>
                  </a:lnTo>
                  <a:lnTo>
                    <a:pt x="328" y="268"/>
                  </a:lnTo>
                  <a:lnTo>
                    <a:pt x="320" y="283"/>
                  </a:lnTo>
                  <a:lnTo>
                    <a:pt x="313" y="301"/>
                  </a:lnTo>
                  <a:lnTo>
                    <a:pt x="310" y="318"/>
                  </a:lnTo>
                  <a:lnTo>
                    <a:pt x="307" y="336"/>
                  </a:lnTo>
                  <a:lnTo>
                    <a:pt x="304" y="352"/>
                  </a:lnTo>
                  <a:lnTo>
                    <a:pt x="301" y="368"/>
                  </a:lnTo>
                  <a:lnTo>
                    <a:pt x="298" y="384"/>
                  </a:lnTo>
                  <a:lnTo>
                    <a:pt x="295" y="400"/>
                  </a:lnTo>
                  <a:lnTo>
                    <a:pt x="291" y="416"/>
                  </a:lnTo>
                  <a:lnTo>
                    <a:pt x="288" y="433"/>
                  </a:lnTo>
                  <a:lnTo>
                    <a:pt x="289" y="453"/>
                  </a:lnTo>
                  <a:lnTo>
                    <a:pt x="293" y="470"/>
                  </a:lnTo>
                  <a:lnTo>
                    <a:pt x="299" y="486"/>
                  </a:lnTo>
                  <a:lnTo>
                    <a:pt x="308" y="498"/>
                  </a:lnTo>
                  <a:lnTo>
                    <a:pt x="319" y="508"/>
                  </a:lnTo>
                  <a:lnTo>
                    <a:pt x="335" y="514"/>
                  </a:lnTo>
                  <a:lnTo>
                    <a:pt x="352" y="519"/>
                  </a:lnTo>
                  <a:lnTo>
                    <a:pt x="374" y="520"/>
                  </a:lnTo>
                  <a:lnTo>
                    <a:pt x="383" y="520"/>
                  </a:lnTo>
                  <a:lnTo>
                    <a:pt x="393" y="518"/>
                  </a:lnTo>
                  <a:lnTo>
                    <a:pt x="402" y="516"/>
                  </a:lnTo>
                  <a:lnTo>
                    <a:pt x="411" y="513"/>
                  </a:lnTo>
                  <a:lnTo>
                    <a:pt x="421" y="509"/>
                  </a:lnTo>
                  <a:lnTo>
                    <a:pt x="430" y="504"/>
                  </a:lnTo>
                  <a:lnTo>
                    <a:pt x="439" y="497"/>
                  </a:lnTo>
                  <a:lnTo>
                    <a:pt x="448" y="490"/>
                  </a:lnTo>
                  <a:lnTo>
                    <a:pt x="457" y="484"/>
                  </a:lnTo>
                  <a:lnTo>
                    <a:pt x="465" y="477"/>
                  </a:lnTo>
                  <a:lnTo>
                    <a:pt x="473" y="469"/>
                  </a:lnTo>
                  <a:lnTo>
                    <a:pt x="479" y="462"/>
                  </a:lnTo>
                  <a:lnTo>
                    <a:pt x="484" y="453"/>
                  </a:lnTo>
                  <a:lnTo>
                    <a:pt x="488" y="444"/>
                  </a:lnTo>
                  <a:lnTo>
                    <a:pt x="490" y="435"/>
                  </a:lnTo>
                  <a:lnTo>
                    <a:pt x="491" y="423"/>
                  </a:lnTo>
                  <a:lnTo>
                    <a:pt x="491" y="4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740720" y="1011600"/>
              <a:ext cx="1382040" cy="164160"/>
            </a:xfrm>
            <a:custGeom>
              <a:avLst/>
              <a:gdLst/>
              <a:ahLst/>
              <a:rect l="l" t="t" r="r" b="b"/>
              <a:pathLst>
                <a:path w="5035" h="421">
                  <a:moveTo>
                    <a:pt x="173" y="233"/>
                  </a:moveTo>
                  <a:lnTo>
                    <a:pt x="155" y="317"/>
                  </a:lnTo>
                  <a:lnTo>
                    <a:pt x="148" y="320"/>
                  </a:lnTo>
                  <a:lnTo>
                    <a:pt x="141" y="322"/>
                  </a:lnTo>
                  <a:lnTo>
                    <a:pt x="135" y="325"/>
                  </a:lnTo>
                  <a:lnTo>
                    <a:pt x="129" y="326"/>
                  </a:lnTo>
                  <a:lnTo>
                    <a:pt x="122" y="328"/>
                  </a:lnTo>
                  <a:lnTo>
                    <a:pt x="116" y="329"/>
                  </a:lnTo>
                  <a:lnTo>
                    <a:pt x="109" y="330"/>
                  </a:lnTo>
                  <a:lnTo>
                    <a:pt x="102" y="330"/>
                  </a:lnTo>
                  <a:lnTo>
                    <a:pt x="90" y="329"/>
                  </a:lnTo>
                  <a:lnTo>
                    <a:pt x="79" y="328"/>
                  </a:lnTo>
                  <a:lnTo>
                    <a:pt x="69" y="325"/>
                  </a:lnTo>
                  <a:lnTo>
                    <a:pt x="60" y="321"/>
                  </a:lnTo>
                  <a:lnTo>
                    <a:pt x="49" y="316"/>
                  </a:lnTo>
                  <a:lnTo>
                    <a:pt x="41" y="310"/>
                  </a:lnTo>
                  <a:lnTo>
                    <a:pt x="32" y="302"/>
                  </a:lnTo>
                  <a:lnTo>
                    <a:pt x="24" y="294"/>
                  </a:lnTo>
                  <a:lnTo>
                    <a:pt x="18" y="285"/>
                  </a:lnTo>
                  <a:lnTo>
                    <a:pt x="13" y="276"/>
                  </a:lnTo>
                  <a:lnTo>
                    <a:pt x="8" y="265"/>
                  </a:lnTo>
                  <a:lnTo>
                    <a:pt x="4" y="252"/>
                  </a:lnTo>
                  <a:lnTo>
                    <a:pt x="1" y="239"/>
                  </a:lnTo>
                  <a:lnTo>
                    <a:pt x="0" y="225"/>
                  </a:lnTo>
                  <a:lnTo>
                    <a:pt x="0" y="210"/>
                  </a:lnTo>
                  <a:lnTo>
                    <a:pt x="1" y="193"/>
                  </a:lnTo>
                  <a:lnTo>
                    <a:pt x="4" y="178"/>
                  </a:lnTo>
                  <a:lnTo>
                    <a:pt x="7" y="163"/>
                  </a:lnTo>
                  <a:lnTo>
                    <a:pt x="10" y="148"/>
                  </a:lnTo>
                  <a:lnTo>
                    <a:pt x="13" y="135"/>
                  </a:lnTo>
                  <a:lnTo>
                    <a:pt x="18" y="123"/>
                  </a:lnTo>
                  <a:lnTo>
                    <a:pt x="23" y="112"/>
                  </a:lnTo>
                  <a:lnTo>
                    <a:pt x="28" y="100"/>
                  </a:lnTo>
                  <a:lnTo>
                    <a:pt x="35" y="90"/>
                  </a:lnTo>
                  <a:lnTo>
                    <a:pt x="41" y="80"/>
                  </a:lnTo>
                  <a:lnTo>
                    <a:pt x="48" y="72"/>
                  </a:lnTo>
                  <a:lnTo>
                    <a:pt x="56" y="64"/>
                  </a:lnTo>
                  <a:lnTo>
                    <a:pt x="63" y="55"/>
                  </a:lnTo>
                  <a:lnTo>
                    <a:pt x="71" y="49"/>
                  </a:lnTo>
                  <a:lnTo>
                    <a:pt x="78" y="43"/>
                  </a:lnTo>
                  <a:lnTo>
                    <a:pt x="86" y="37"/>
                  </a:lnTo>
                  <a:lnTo>
                    <a:pt x="94" y="32"/>
                  </a:lnTo>
                  <a:lnTo>
                    <a:pt x="104" y="29"/>
                  </a:lnTo>
                  <a:lnTo>
                    <a:pt x="113" y="26"/>
                  </a:lnTo>
                  <a:lnTo>
                    <a:pt x="122" y="24"/>
                  </a:lnTo>
                  <a:lnTo>
                    <a:pt x="130" y="22"/>
                  </a:lnTo>
                  <a:lnTo>
                    <a:pt x="139" y="20"/>
                  </a:lnTo>
                  <a:lnTo>
                    <a:pt x="147" y="19"/>
                  </a:lnTo>
                  <a:lnTo>
                    <a:pt x="156" y="18"/>
                  </a:lnTo>
                  <a:lnTo>
                    <a:pt x="164" y="18"/>
                  </a:lnTo>
                  <a:lnTo>
                    <a:pt x="169" y="18"/>
                  </a:lnTo>
                  <a:lnTo>
                    <a:pt x="174" y="18"/>
                  </a:lnTo>
                  <a:lnTo>
                    <a:pt x="179" y="19"/>
                  </a:lnTo>
                  <a:lnTo>
                    <a:pt x="184" y="19"/>
                  </a:lnTo>
                  <a:lnTo>
                    <a:pt x="189" y="20"/>
                  </a:lnTo>
                  <a:lnTo>
                    <a:pt x="193" y="21"/>
                  </a:lnTo>
                  <a:lnTo>
                    <a:pt x="197" y="23"/>
                  </a:lnTo>
                  <a:lnTo>
                    <a:pt x="202" y="24"/>
                  </a:lnTo>
                  <a:lnTo>
                    <a:pt x="187" y="112"/>
                  </a:lnTo>
                  <a:lnTo>
                    <a:pt x="185" y="107"/>
                  </a:lnTo>
                  <a:lnTo>
                    <a:pt x="182" y="104"/>
                  </a:lnTo>
                  <a:lnTo>
                    <a:pt x="178" y="100"/>
                  </a:lnTo>
                  <a:lnTo>
                    <a:pt x="173" y="97"/>
                  </a:lnTo>
                  <a:lnTo>
                    <a:pt x="169" y="95"/>
                  </a:lnTo>
                  <a:lnTo>
                    <a:pt x="165" y="93"/>
                  </a:lnTo>
                  <a:lnTo>
                    <a:pt x="159" y="92"/>
                  </a:lnTo>
                  <a:lnTo>
                    <a:pt x="152" y="91"/>
                  </a:lnTo>
                  <a:lnTo>
                    <a:pt x="146" y="91"/>
                  </a:lnTo>
                  <a:lnTo>
                    <a:pt x="141" y="92"/>
                  </a:lnTo>
                  <a:lnTo>
                    <a:pt x="136" y="94"/>
                  </a:lnTo>
                  <a:lnTo>
                    <a:pt x="132" y="96"/>
                  </a:lnTo>
                  <a:lnTo>
                    <a:pt x="127" y="99"/>
                  </a:lnTo>
                  <a:lnTo>
                    <a:pt x="123" y="102"/>
                  </a:lnTo>
                  <a:lnTo>
                    <a:pt x="118" y="106"/>
                  </a:lnTo>
                  <a:lnTo>
                    <a:pt x="114" y="112"/>
                  </a:lnTo>
                  <a:lnTo>
                    <a:pt x="110" y="117"/>
                  </a:lnTo>
                  <a:lnTo>
                    <a:pt x="106" y="123"/>
                  </a:lnTo>
                  <a:lnTo>
                    <a:pt x="102" y="130"/>
                  </a:lnTo>
                  <a:lnTo>
                    <a:pt x="97" y="137"/>
                  </a:lnTo>
                  <a:lnTo>
                    <a:pt x="94" y="145"/>
                  </a:lnTo>
                  <a:lnTo>
                    <a:pt x="91" y="153"/>
                  </a:lnTo>
                  <a:lnTo>
                    <a:pt x="89" y="163"/>
                  </a:lnTo>
                  <a:lnTo>
                    <a:pt x="87" y="172"/>
                  </a:lnTo>
                  <a:lnTo>
                    <a:pt x="87" y="178"/>
                  </a:lnTo>
                  <a:lnTo>
                    <a:pt x="86" y="184"/>
                  </a:lnTo>
                  <a:lnTo>
                    <a:pt x="85" y="190"/>
                  </a:lnTo>
                  <a:lnTo>
                    <a:pt x="85" y="197"/>
                  </a:lnTo>
                  <a:lnTo>
                    <a:pt x="85" y="201"/>
                  </a:lnTo>
                  <a:lnTo>
                    <a:pt x="85" y="205"/>
                  </a:lnTo>
                  <a:lnTo>
                    <a:pt x="86" y="210"/>
                  </a:lnTo>
                  <a:lnTo>
                    <a:pt x="86" y="214"/>
                  </a:lnTo>
                  <a:lnTo>
                    <a:pt x="87" y="218"/>
                  </a:lnTo>
                  <a:lnTo>
                    <a:pt x="88" y="222"/>
                  </a:lnTo>
                  <a:lnTo>
                    <a:pt x="88" y="225"/>
                  </a:lnTo>
                  <a:lnTo>
                    <a:pt x="89" y="229"/>
                  </a:lnTo>
                  <a:lnTo>
                    <a:pt x="91" y="234"/>
                  </a:lnTo>
                  <a:lnTo>
                    <a:pt x="95" y="238"/>
                  </a:lnTo>
                  <a:lnTo>
                    <a:pt x="99" y="242"/>
                  </a:lnTo>
                  <a:lnTo>
                    <a:pt x="105" y="245"/>
                  </a:lnTo>
                  <a:lnTo>
                    <a:pt x="110" y="249"/>
                  </a:lnTo>
                  <a:lnTo>
                    <a:pt x="116" y="251"/>
                  </a:lnTo>
                  <a:lnTo>
                    <a:pt x="121" y="252"/>
                  </a:lnTo>
                  <a:lnTo>
                    <a:pt x="126" y="252"/>
                  </a:lnTo>
                  <a:lnTo>
                    <a:pt x="132" y="251"/>
                  </a:lnTo>
                  <a:lnTo>
                    <a:pt x="138" y="250"/>
                  </a:lnTo>
                  <a:lnTo>
                    <a:pt x="143" y="249"/>
                  </a:lnTo>
                  <a:lnTo>
                    <a:pt x="149" y="247"/>
                  </a:lnTo>
                  <a:lnTo>
                    <a:pt x="156" y="244"/>
                  </a:lnTo>
                  <a:lnTo>
                    <a:pt x="161" y="241"/>
                  </a:lnTo>
                  <a:lnTo>
                    <a:pt x="167" y="237"/>
                  </a:lnTo>
                  <a:lnTo>
                    <a:pt x="173" y="233"/>
                  </a:lnTo>
                  <a:close/>
                  <a:moveTo>
                    <a:pt x="198" y="245"/>
                  </a:moveTo>
                  <a:lnTo>
                    <a:pt x="198" y="235"/>
                  </a:lnTo>
                  <a:lnTo>
                    <a:pt x="200" y="226"/>
                  </a:lnTo>
                  <a:lnTo>
                    <a:pt x="201" y="217"/>
                  </a:lnTo>
                  <a:lnTo>
                    <a:pt x="202" y="208"/>
                  </a:lnTo>
                  <a:lnTo>
                    <a:pt x="204" y="199"/>
                  </a:lnTo>
                  <a:lnTo>
                    <a:pt x="206" y="190"/>
                  </a:lnTo>
                  <a:lnTo>
                    <a:pt x="209" y="182"/>
                  </a:lnTo>
                  <a:lnTo>
                    <a:pt x="213" y="174"/>
                  </a:lnTo>
                  <a:lnTo>
                    <a:pt x="217" y="167"/>
                  </a:lnTo>
                  <a:lnTo>
                    <a:pt x="222" y="160"/>
                  </a:lnTo>
                  <a:lnTo>
                    <a:pt x="226" y="153"/>
                  </a:lnTo>
                  <a:lnTo>
                    <a:pt x="232" y="147"/>
                  </a:lnTo>
                  <a:lnTo>
                    <a:pt x="237" y="141"/>
                  </a:lnTo>
                  <a:lnTo>
                    <a:pt x="243" y="136"/>
                  </a:lnTo>
                  <a:lnTo>
                    <a:pt x="250" y="131"/>
                  </a:lnTo>
                  <a:lnTo>
                    <a:pt x="256" y="126"/>
                  </a:lnTo>
                  <a:lnTo>
                    <a:pt x="262" y="123"/>
                  </a:lnTo>
                  <a:lnTo>
                    <a:pt x="269" y="120"/>
                  </a:lnTo>
                  <a:lnTo>
                    <a:pt x="275" y="117"/>
                  </a:lnTo>
                  <a:lnTo>
                    <a:pt x="282" y="115"/>
                  </a:lnTo>
                  <a:lnTo>
                    <a:pt x="289" y="113"/>
                  </a:lnTo>
                  <a:lnTo>
                    <a:pt x="298" y="111"/>
                  </a:lnTo>
                  <a:lnTo>
                    <a:pt x="305" y="110"/>
                  </a:lnTo>
                  <a:lnTo>
                    <a:pt x="313" y="110"/>
                  </a:lnTo>
                  <a:lnTo>
                    <a:pt x="332" y="111"/>
                  </a:lnTo>
                  <a:lnTo>
                    <a:pt x="350" y="115"/>
                  </a:lnTo>
                  <a:lnTo>
                    <a:pt x="364" y="122"/>
                  </a:lnTo>
                  <a:lnTo>
                    <a:pt x="375" y="131"/>
                  </a:lnTo>
                  <a:lnTo>
                    <a:pt x="384" y="143"/>
                  </a:lnTo>
                  <a:lnTo>
                    <a:pt x="391" y="159"/>
                  </a:lnTo>
                  <a:lnTo>
                    <a:pt x="396" y="177"/>
                  </a:lnTo>
                  <a:lnTo>
                    <a:pt x="397" y="197"/>
                  </a:lnTo>
                  <a:lnTo>
                    <a:pt x="397" y="210"/>
                  </a:lnTo>
                  <a:lnTo>
                    <a:pt x="395" y="222"/>
                  </a:lnTo>
                  <a:lnTo>
                    <a:pt x="392" y="234"/>
                  </a:lnTo>
                  <a:lnTo>
                    <a:pt x="389" y="246"/>
                  </a:lnTo>
                  <a:lnTo>
                    <a:pt x="385" y="258"/>
                  </a:lnTo>
                  <a:lnTo>
                    <a:pt x="380" y="269"/>
                  </a:lnTo>
                  <a:lnTo>
                    <a:pt x="374" y="279"/>
                  </a:lnTo>
                  <a:lnTo>
                    <a:pt x="367" y="288"/>
                  </a:lnTo>
                  <a:lnTo>
                    <a:pt x="359" y="297"/>
                  </a:lnTo>
                  <a:lnTo>
                    <a:pt x="351" y="307"/>
                  </a:lnTo>
                  <a:lnTo>
                    <a:pt x="340" y="313"/>
                  </a:lnTo>
                  <a:lnTo>
                    <a:pt x="330" y="319"/>
                  </a:lnTo>
                  <a:lnTo>
                    <a:pt x="320" y="323"/>
                  </a:lnTo>
                  <a:lnTo>
                    <a:pt x="309" y="327"/>
                  </a:lnTo>
                  <a:lnTo>
                    <a:pt x="296" y="329"/>
                  </a:lnTo>
                  <a:lnTo>
                    <a:pt x="284" y="330"/>
                  </a:lnTo>
                  <a:lnTo>
                    <a:pt x="274" y="330"/>
                  </a:lnTo>
                  <a:lnTo>
                    <a:pt x="264" y="329"/>
                  </a:lnTo>
                  <a:lnTo>
                    <a:pt x="255" y="327"/>
                  </a:lnTo>
                  <a:lnTo>
                    <a:pt x="246" y="325"/>
                  </a:lnTo>
                  <a:lnTo>
                    <a:pt x="239" y="322"/>
                  </a:lnTo>
                  <a:lnTo>
                    <a:pt x="232" y="318"/>
                  </a:lnTo>
                  <a:lnTo>
                    <a:pt x="226" y="314"/>
                  </a:lnTo>
                  <a:lnTo>
                    <a:pt x="220" y="309"/>
                  </a:lnTo>
                  <a:lnTo>
                    <a:pt x="215" y="302"/>
                  </a:lnTo>
                  <a:lnTo>
                    <a:pt x="211" y="296"/>
                  </a:lnTo>
                  <a:lnTo>
                    <a:pt x="207" y="289"/>
                  </a:lnTo>
                  <a:lnTo>
                    <a:pt x="204" y="282"/>
                  </a:lnTo>
                  <a:lnTo>
                    <a:pt x="202" y="274"/>
                  </a:lnTo>
                  <a:lnTo>
                    <a:pt x="200" y="265"/>
                  </a:lnTo>
                  <a:lnTo>
                    <a:pt x="198" y="256"/>
                  </a:lnTo>
                  <a:lnTo>
                    <a:pt x="198" y="245"/>
                  </a:lnTo>
                  <a:close/>
                  <a:moveTo>
                    <a:pt x="277" y="222"/>
                  </a:moveTo>
                  <a:lnTo>
                    <a:pt x="277" y="224"/>
                  </a:lnTo>
                  <a:lnTo>
                    <a:pt x="277" y="225"/>
                  </a:lnTo>
                  <a:lnTo>
                    <a:pt x="277" y="228"/>
                  </a:lnTo>
                  <a:lnTo>
                    <a:pt x="277" y="231"/>
                  </a:lnTo>
                  <a:lnTo>
                    <a:pt x="276" y="233"/>
                  </a:lnTo>
                  <a:lnTo>
                    <a:pt x="275" y="235"/>
                  </a:lnTo>
                  <a:lnTo>
                    <a:pt x="275" y="238"/>
                  </a:lnTo>
                  <a:lnTo>
                    <a:pt x="275" y="240"/>
                  </a:lnTo>
                  <a:lnTo>
                    <a:pt x="276" y="252"/>
                  </a:lnTo>
                  <a:lnTo>
                    <a:pt x="280" y="261"/>
                  </a:lnTo>
                  <a:lnTo>
                    <a:pt x="285" y="266"/>
                  </a:lnTo>
                  <a:lnTo>
                    <a:pt x="291" y="267"/>
                  </a:lnTo>
                  <a:lnTo>
                    <a:pt x="296" y="266"/>
                  </a:lnTo>
                  <a:lnTo>
                    <a:pt x="302" y="263"/>
                  </a:lnTo>
                  <a:lnTo>
                    <a:pt x="306" y="259"/>
                  </a:lnTo>
                  <a:lnTo>
                    <a:pt x="309" y="252"/>
                  </a:lnTo>
                  <a:lnTo>
                    <a:pt x="313" y="244"/>
                  </a:lnTo>
                  <a:lnTo>
                    <a:pt x="315" y="234"/>
                  </a:lnTo>
                  <a:lnTo>
                    <a:pt x="318" y="223"/>
                  </a:lnTo>
                  <a:lnTo>
                    <a:pt x="320" y="210"/>
                  </a:lnTo>
                  <a:lnTo>
                    <a:pt x="320" y="208"/>
                  </a:lnTo>
                  <a:lnTo>
                    <a:pt x="321" y="205"/>
                  </a:lnTo>
                  <a:lnTo>
                    <a:pt x="322" y="204"/>
                  </a:lnTo>
                  <a:lnTo>
                    <a:pt x="322" y="202"/>
                  </a:lnTo>
                  <a:lnTo>
                    <a:pt x="322" y="200"/>
                  </a:lnTo>
                  <a:lnTo>
                    <a:pt x="322" y="198"/>
                  </a:lnTo>
                  <a:lnTo>
                    <a:pt x="322" y="197"/>
                  </a:lnTo>
                  <a:lnTo>
                    <a:pt x="322" y="195"/>
                  </a:lnTo>
                  <a:lnTo>
                    <a:pt x="322" y="188"/>
                  </a:lnTo>
                  <a:lnTo>
                    <a:pt x="321" y="181"/>
                  </a:lnTo>
                  <a:lnTo>
                    <a:pt x="319" y="176"/>
                  </a:lnTo>
                  <a:lnTo>
                    <a:pt x="317" y="172"/>
                  </a:lnTo>
                  <a:lnTo>
                    <a:pt x="315" y="169"/>
                  </a:lnTo>
                  <a:lnTo>
                    <a:pt x="312" y="168"/>
                  </a:lnTo>
                  <a:lnTo>
                    <a:pt x="309" y="167"/>
                  </a:lnTo>
                  <a:lnTo>
                    <a:pt x="306" y="167"/>
                  </a:lnTo>
                  <a:lnTo>
                    <a:pt x="301" y="169"/>
                  </a:lnTo>
                  <a:lnTo>
                    <a:pt x="295" y="172"/>
                  </a:lnTo>
                  <a:lnTo>
                    <a:pt x="291" y="176"/>
                  </a:lnTo>
                  <a:lnTo>
                    <a:pt x="288" y="182"/>
                  </a:lnTo>
                  <a:lnTo>
                    <a:pt x="284" y="190"/>
                  </a:lnTo>
                  <a:lnTo>
                    <a:pt x="282" y="199"/>
                  </a:lnTo>
                  <a:lnTo>
                    <a:pt x="279" y="210"/>
                  </a:lnTo>
                  <a:lnTo>
                    <a:pt x="277" y="222"/>
                  </a:lnTo>
                  <a:close/>
                  <a:moveTo>
                    <a:pt x="411" y="323"/>
                  </a:moveTo>
                  <a:lnTo>
                    <a:pt x="446" y="112"/>
                  </a:lnTo>
                  <a:lnTo>
                    <a:pt x="524" y="112"/>
                  </a:lnTo>
                  <a:lnTo>
                    <a:pt x="517" y="147"/>
                  </a:lnTo>
                  <a:lnTo>
                    <a:pt x="517" y="147"/>
                  </a:lnTo>
                  <a:lnTo>
                    <a:pt x="523" y="139"/>
                  </a:lnTo>
                  <a:lnTo>
                    <a:pt x="529" y="131"/>
                  </a:lnTo>
                  <a:lnTo>
                    <a:pt x="536" y="125"/>
                  </a:lnTo>
                  <a:lnTo>
                    <a:pt x="544" y="119"/>
                  </a:lnTo>
                  <a:lnTo>
                    <a:pt x="548" y="117"/>
                  </a:lnTo>
                  <a:lnTo>
                    <a:pt x="551" y="115"/>
                  </a:lnTo>
                  <a:lnTo>
                    <a:pt x="555" y="114"/>
                  </a:lnTo>
                  <a:lnTo>
                    <a:pt x="559" y="112"/>
                  </a:lnTo>
                  <a:lnTo>
                    <a:pt x="563" y="111"/>
                  </a:lnTo>
                  <a:lnTo>
                    <a:pt x="568" y="111"/>
                  </a:lnTo>
                  <a:lnTo>
                    <a:pt x="572" y="110"/>
                  </a:lnTo>
                  <a:lnTo>
                    <a:pt x="576" y="110"/>
                  </a:lnTo>
                  <a:lnTo>
                    <a:pt x="580" y="110"/>
                  </a:lnTo>
                  <a:lnTo>
                    <a:pt x="584" y="111"/>
                  </a:lnTo>
                  <a:lnTo>
                    <a:pt x="588" y="111"/>
                  </a:lnTo>
                  <a:lnTo>
                    <a:pt x="593" y="112"/>
                  </a:lnTo>
                  <a:lnTo>
                    <a:pt x="596" y="114"/>
                  </a:lnTo>
                  <a:lnTo>
                    <a:pt x="600" y="115"/>
                  </a:lnTo>
                  <a:lnTo>
                    <a:pt x="604" y="118"/>
                  </a:lnTo>
                  <a:lnTo>
                    <a:pt x="608" y="120"/>
                  </a:lnTo>
                  <a:lnTo>
                    <a:pt x="611" y="123"/>
                  </a:lnTo>
                  <a:lnTo>
                    <a:pt x="613" y="126"/>
                  </a:lnTo>
                  <a:lnTo>
                    <a:pt x="616" y="129"/>
                  </a:lnTo>
                  <a:lnTo>
                    <a:pt x="618" y="133"/>
                  </a:lnTo>
                  <a:lnTo>
                    <a:pt x="620" y="137"/>
                  </a:lnTo>
                  <a:lnTo>
                    <a:pt x="622" y="141"/>
                  </a:lnTo>
                  <a:lnTo>
                    <a:pt x="623" y="146"/>
                  </a:lnTo>
                  <a:lnTo>
                    <a:pt x="624" y="150"/>
                  </a:lnTo>
                  <a:lnTo>
                    <a:pt x="624" y="150"/>
                  </a:lnTo>
                  <a:lnTo>
                    <a:pt x="630" y="141"/>
                  </a:lnTo>
                  <a:lnTo>
                    <a:pt x="636" y="133"/>
                  </a:lnTo>
                  <a:lnTo>
                    <a:pt x="643" y="126"/>
                  </a:lnTo>
                  <a:lnTo>
                    <a:pt x="650" y="120"/>
                  </a:lnTo>
                  <a:lnTo>
                    <a:pt x="657" y="116"/>
                  </a:lnTo>
                  <a:lnTo>
                    <a:pt x="665" y="113"/>
                  </a:lnTo>
                  <a:lnTo>
                    <a:pt x="673" y="111"/>
                  </a:lnTo>
                  <a:lnTo>
                    <a:pt x="681" y="110"/>
                  </a:lnTo>
                  <a:lnTo>
                    <a:pt x="685" y="110"/>
                  </a:lnTo>
                  <a:lnTo>
                    <a:pt x="690" y="110"/>
                  </a:lnTo>
                  <a:lnTo>
                    <a:pt x="695" y="111"/>
                  </a:lnTo>
                  <a:lnTo>
                    <a:pt x="700" y="112"/>
                  </a:lnTo>
                  <a:lnTo>
                    <a:pt x="707" y="114"/>
                  </a:lnTo>
                  <a:lnTo>
                    <a:pt x="714" y="118"/>
                  </a:lnTo>
                  <a:lnTo>
                    <a:pt x="719" y="122"/>
                  </a:lnTo>
                  <a:lnTo>
                    <a:pt x="723" y="128"/>
                  </a:lnTo>
                  <a:lnTo>
                    <a:pt x="726" y="134"/>
                  </a:lnTo>
                  <a:lnTo>
                    <a:pt x="728" y="141"/>
                  </a:lnTo>
                  <a:lnTo>
                    <a:pt x="730" y="150"/>
                  </a:lnTo>
                  <a:lnTo>
                    <a:pt x="730" y="160"/>
                  </a:lnTo>
                  <a:lnTo>
                    <a:pt x="730" y="167"/>
                  </a:lnTo>
                  <a:lnTo>
                    <a:pt x="729" y="174"/>
                  </a:lnTo>
                  <a:lnTo>
                    <a:pt x="728" y="181"/>
                  </a:lnTo>
                  <a:lnTo>
                    <a:pt x="728" y="188"/>
                  </a:lnTo>
                  <a:lnTo>
                    <a:pt x="703" y="323"/>
                  </a:lnTo>
                  <a:lnTo>
                    <a:pt x="628" y="323"/>
                  </a:lnTo>
                  <a:lnTo>
                    <a:pt x="646" y="210"/>
                  </a:lnTo>
                  <a:lnTo>
                    <a:pt x="646" y="208"/>
                  </a:lnTo>
                  <a:lnTo>
                    <a:pt x="646" y="207"/>
                  </a:lnTo>
                  <a:lnTo>
                    <a:pt x="646" y="204"/>
                  </a:lnTo>
                  <a:lnTo>
                    <a:pt x="646" y="204"/>
                  </a:lnTo>
                  <a:lnTo>
                    <a:pt x="646" y="202"/>
                  </a:lnTo>
                  <a:lnTo>
                    <a:pt x="646" y="201"/>
                  </a:lnTo>
                  <a:lnTo>
                    <a:pt x="646" y="199"/>
                  </a:lnTo>
                  <a:lnTo>
                    <a:pt x="646" y="197"/>
                  </a:lnTo>
                  <a:lnTo>
                    <a:pt x="645" y="191"/>
                  </a:lnTo>
                  <a:lnTo>
                    <a:pt x="644" y="187"/>
                  </a:lnTo>
                  <a:lnTo>
                    <a:pt x="641" y="184"/>
                  </a:lnTo>
                  <a:lnTo>
                    <a:pt x="635" y="183"/>
                  </a:lnTo>
                  <a:lnTo>
                    <a:pt x="631" y="184"/>
                  </a:lnTo>
                  <a:lnTo>
                    <a:pt x="627" y="185"/>
                  </a:lnTo>
                  <a:lnTo>
                    <a:pt x="623" y="188"/>
                  </a:lnTo>
                  <a:lnTo>
                    <a:pt x="620" y="192"/>
                  </a:lnTo>
                  <a:lnTo>
                    <a:pt x="617" y="196"/>
                  </a:lnTo>
                  <a:lnTo>
                    <a:pt x="615" y="202"/>
                  </a:lnTo>
                  <a:lnTo>
                    <a:pt x="613" y="210"/>
                  </a:lnTo>
                  <a:lnTo>
                    <a:pt x="612" y="217"/>
                  </a:lnTo>
                  <a:lnTo>
                    <a:pt x="598" y="323"/>
                  </a:lnTo>
                  <a:lnTo>
                    <a:pt x="519" y="323"/>
                  </a:lnTo>
                  <a:lnTo>
                    <a:pt x="536" y="219"/>
                  </a:lnTo>
                  <a:lnTo>
                    <a:pt x="536" y="216"/>
                  </a:lnTo>
                  <a:lnTo>
                    <a:pt x="536" y="213"/>
                  </a:lnTo>
                  <a:lnTo>
                    <a:pt x="536" y="210"/>
                  </a:lnTo>
                  <a:lnTo>
                    <a:pt x="536" y="208"/>
                  </a:lnTo>
                  <a:lnTo>
                    <a:pt x="536" y="203"/>
                  </a:lnTo>
                  <a:lnTo>
                    <a:pt x="537" y="200"/>
                  </a:lnTo>
                  <a:lnTo>
                    <a:pt x="538" y="197"/>
                  </a:lnTo>
                  <a:lnTo>
                    <a:pt x="538" y="195"/>
                  </a:lnTo>
                  <a:lnTo>
                    <a:pt x="537" y="190"/>
                  </a:lnTo>
                  <a:lnTo>
                    <a:pt x="535" y="186"/>
                  </a:lnTo>
                  <a:lnTo>
                    <a:pt x="532" y="184"/>
                  </a:lnTo>
                  <a:lnTo>
                    <a:pt x="529" y="183"/>
                  </a:lnTo>
                  <a:lnTo>
                    <a:pt x="525" y="183"/>
                  </a:lnTo>
                  <a:lnTo>
                    <a:pt x="521" y="185"/>
                  </a:lnTo>
                  <a:lnTo>
                    <a:pt x="518" y="187"/>
                  </a:lnTo>
                  <a:lnTo>
                    <a:pt x="515" y="191"/>
                  </a:lnTo>
                  <a:lnTo>
                    <a:pt x="512" y="195"/>
                  </a:lnTo>
                  <a:lnTo>
                    <a:pt x="510" y="200"/>
                  </a:lnTo>
                  <a:lnTo>
                    <a:pt x="509" y="208"/>
                  </a:lnTo>
                  <a:lnTo>
                    <a:pt x="508" y="215"/>
                  </a:lnTo>
                  <a:lnTo>
                    <a:pt x="490" y="323"/>
                  </a:lnTo>
                  <a:lnTo>
                    <a:pt x="411" y="323"/>
                  </a:lnTo>
                  <a:close/>
                  <a:moveTo>
                    <a:pt x="842" y="238"/>
                  </a:moveTo>
                  <a:lnTo>
                    <a:pt x="841" y="247"/>
                  </a:lnTo>
                  <a:lnTo>
                    <a:pt x="842" y="254"/>
                  </a:lnTo>
                  <a:lnTo>
                    <a:pt x="846" y="260"/>
                  </a:lnTo>
                  <a:lnTo>
                    <a:pt x="852" y="264"/>
                  </a:lnTo>
                  <a:lnTo>
                    <a:pt x="857" y="261"/>
                  </a:lnTo>
                  <a:lnTo>
                    <a:pt x="861" y="259"/>
                  </a:lnTo>
                  <a:lnTo>
                    <a:pt x="866" y="254"/>
                  </a:lnTo>
                  <a:lnTo>
                    <a:pt x="870" y="247"/>
                  </a:lnTo>
                  <a:lnTo>
                    <a:pt x="872" y="242"/>
                  </a:lnTo>
                  <a:lnTo>
                    <a:pt x="873" y="236"/>
                  </a:lnTo>
                  <a:lnTo>
                    <a:pt x="875" y="231"/>
                  </a:lnTo>
                  <a:lnTo>
                    <a:pt x="876" y="226"/>
                  </a:lnTo>
                  <a:lnTo>
                    <a:pt x="877" y="221"/>
                  </a:lnTo>
                  <a:lnTo>
                    <a:pt x="877" y="215"/>
                  </a:lnTo>
                  <a:lnTo>
                    <a:pt x="878" y="210"/>
                  </a:lnTo>
                  <a:lnTo>
                    <a:pt x="878" y="204"/>
                  </a:lnTo>
                  <a:lnTo>
                    <a:pt x="879" y="197"/>
                  </a:lnTo>
                  <a:lnTo>
                    <a:pt x="879" y="190"/>
                  </a:lnTo>
                  <a:lnTo>
                    <a:pt x="879" y="185"/>
                  </a:lnTo>
                  <a:lnTo>
                    <a:pt x="878" y="181"/>
                  </a:lnTo>
                  <a:lnTo>
                    <a:pt x="876" y="178"/>
                  </a:lnTo>
                  <a:lnTo>
                    <a:pt x="873" y="176"/>
                  </a:lnTo>
                  <a:lnTo>
                    <a:pt x="870" y="174"/>
                  </a:lnTo>
                  <a:lnTo>
                    <a:pt x="866" y="174"/>
                  </a:lnTo>
                  <a:lnTo>
                    <a:pt x="864" y="174"/>
                  </a:lnTo>
                  <a:lnTo>
                    <a:pt x="861" y="174"/>
                  </a:lnTo>
                  <a:lnTo>
                    <a:pt x="859" y="175"/>
                  </a:lnTo>
                  <a:lnTo>
                    <a:pt x="857" y="176"/>
                  </a:lnTo>
                  <a:lnTo>
                    <a:pt x="854" y="180"/>
                  </a:lnTo>
                  <a:lnTo>
                    <a:pt x="851" y="186"/>
                  </a:lnTo>
                  <a:lnTo>
                    <a:pt x="849" y="192"/>
                  </a:lnTo>
                  <a:lnTo>
                    <a:pt x="847" y="199"/>
                  </a:lnTo>
                  <a:lnTo>
                    <a:pt x="845" y="208"/>
                  </a:lnTo>
                  <a:lnTo>
                    <a:pt x="843" y="217"/>
                  </a:lnTo>
                  <a:lnTo>
                    <a:pt x="842" y="227"/>
                  </a:lnTo>
                  <a:lnTo>
                    <a:pt x="842" y="238"/>
                  </a:lnTo>
                  <a:lnTo>
                    <a:pt x="842" y="238"/>
                  </a:lnTo>
                  <a:close/>
                  <a:moveTo>
                    <a:pt x="735" y="420"/>
                  </a:moveTo>
                  <a:lnTo>
                    <a:pt x="783" y="112"/>
                  </a:lnTo>
                  <a:lnTo>
                    <a:pt x="859" y="112"/>
                  </a:lnTo>
                  <a:lnTo>
                    <a:pt x="852" y="140"/>
                  </a:lnTo>
                  <a:lnTo>
                    <a:pt x="856" y="140"/>
                  </a:lnTo>
                  <a:lnTo>
                    <a:pt x="859" y="134"/>
                  </a:lnTo>
                  <a:lnTo>
                    <a:pt x="864" y="128"/>
                  </a:lnTo>
                  <a:lnTo>
                    <a:pt x="870" y="123"/>
                  </a:lnTo>
                  <a:lnTo>
                    <a:pt x="877" y="119"/>
                  </a:lnTo>
                  <a:lnTo>
                    <a:pt x="880" y="117"/>
                  </a:lnTo>
                  <a:lnTo>
                    <a:pt x="885" y="115"/>
                  </a:lnTo>
                  <a:lnTo>
                    <a:pt x="889" y="113"/>
                  </a:lnTo>
                  <a:lnTo>
                    <a:pt x="893" y="112"/>
                  </a:lnTo>
                  <a:lnTo>
                    <a:pt x="897" y="111"/>
                  </a:lnTo>
                  <a:lnTo>
                    <a:pt x="901" y="110"/>
                  </a:lnTo>
                  <a:lnTo>
                    <a:pt x="904" y="110"/>
                  </a:lnTo>
                  <a:lnTo>
                    <a:pt x="908" y="110"/>
                  </a:lnTo>
                  <a:lnTo>
                    <a:pt x="913" y="110"/>
                  </a:lnTo>
                  <a:lnTo>
                    <a:pt x="918" y="111"/>
                  </a:lnTo>
                  <a:lnTo>
                    <a:pt x="923" y="113"/>
                  </a:lnTo>
                  <a:lnTo>
                    <a:pt x="928" y="115"/>
                  </a:lnTo>
                  <a:lnTo>
                    <a:pt x="933" y="117"/>
                  </a:lnTo>
                  <a:lnTo>
                    <a:pt x="938" y="120"/>
                  </a:lnTo>
                  <a:lnTo>
                    <a:pt x="942" y="123"/>
                  </a:lnTo>
                  <a:lnTo>
                    <a:pt x="947" y="127"/>
                  </a:lnTo>
                  <a:lnTo>
                    <a:pt x="950" y="133"/>
                  </a:lnTo>
                  <a:lnTo>
                    <a:pt x="953" y="139"/>
                  </a:lnTo>
                  <a:lnTo>
                    <a:pt x="955" y="146"/>
                  </a:lnTo>
                  <a:lnTo>
                    <a:pt x="957" y="153"/>
                  </a:lnTo>
                  <a:lnTo>
                    <a:pt x="959" y="162"/>
                  </a:lnTo>
                  <a:lnTo>
                    <a:pt x="960" y="170"/>
                  </a:lnTo>
                  <a:lnTo>
                    <a:pt x="961" y="179"/>
                  </a:lnTo>
                  <a:lnTo>
                    <a:pt x="961" y="188"/>
                  </a:lnTo>
                  <a:lnTo>
                    <a:pt x="961" y="194"/>
                  </a:lnTo>
                  <a:lnTo>
                    <a:pt x="961" y="200"/>
                  </a:lnTo>
                  <a:lnTo>
                    <a:pt x="961" y="205"/>
                  </a:lnTo>
                  <a:lnTo>
                    <a:pt x="961" y="210"/>
                  </a:lnTo>
                  <a:lnTo>
                    <a:pt x="959" y="220"/>
                  </a:lnTo>
                  <a:lnTo>
                    <a:pt x="957" y="229"/>
                  </a:lnTo>
                  <a:lnTo>
                    <a:pt x="955" y="238"/>
                  </a:lnTo>
                  <a:lnTo>
                    <a:pt x="953" y="246"/>
                  </a:lnTo>
                  <a:lnTo>
                    <a:pt x="951" y="254"/>
                  </a:lnTo>
                  <a:lnTo>
                    <a:pt x="948" y="262"/>
                  </a:lnTo>
                  <a:lnTo>
                    <a:pt x="945" y="268"/>
                  </a:lnTo>
                  <a:lnTo>
                    <a:pt x="942" y="274"/>
                  </a:lnTo>
                  <a:lnTo>
                    <a:pt x="939" y="281"/>
                  </a:lnTo>
                  <a:lnTo>
                    <a:pt x="936" y="287"/>
                  </a:lnTo>
                  <a:lnTo>
                    <a:pt x="931" y="292"/>
                  </a:lnTo>
                  <a:lnTo>
                    <a:pt x="928" y="298"/>
                  </a:lnTo>
                  <a:lnTo>
                    <a:pt x="924" y="302"/>
                  </a:lnTo>
                  <a:lnTo>
                    <a:pt x="920" y="307"/>
                  </a:lnTo>
                  <a:lnTo>
                    <a:pt x="917" y="311"/>
                  </a:lnTo>
                  <a:lnTo>
                    <a:pt x="913" y="314"/>
                  </a:lnTo>
                  <a:lnTo>
                    <a:pt x="909" y="317"/>
                  </a:lnTo>
                  <a:lnTo>
                    <a:pt x="904" y="320"/>
                  </a:lnTo>
                  <a:lnTo>
                    <a:pt x="900" y="321"/>
                  </a:lnTo>
                  <a:lnTo>
                    <a:pt x="896" y="323"/>
                  </a:lnTo>
                  <a:lnTo>
                    <a:pt x="891" y="324"/>
                  </a:lnTo>
                  <a:lnTo>
                    <a:pt x="887" y="325"/>
                  </a:lnTo>
                  <a:lnTo>
                    <a:pt x="881" y="325"/>
                  </a:lnTo>
                  <a:lnTo>
                    <a:pt x="877" y="325"/>
                  </a:lnTo>
                  <a:lnTo>
                    <a:pt x="868" y="325"/>
                  </a:lnTo>
                  <a:lnTo>
                    <a:pt x="861" y="323"/>
                  </a:lnTo>
                  <a:lnTo>
                    <a:pt x="855" y="321"/>
                  </a:lnTo>
                  <a:lnTo>
                    <a:pt x="849" y="317"/>
                  </a:lnTo>
                  <a:lnTo>
                    <a:pt x="844" y="313"/>
                  </a:lnTo>
                  <a:lnTo>
                    <a:pt x="839" y="308"/>
                  </a:lnTo>
                  <a:lnTo>
                    <a:pt x="835" y="300"/>
                  </a:lnTo>
                  <a:lnTo>
                    <a:pt x="830" y="294"/>
                  </a:lnTo>
                  <a:lnTo>
                    <a:pt x="828" y="294"/>
                  </a:lnTo>
                  <a:lnTo>
                    <a:pt x="828" y="300"/>
                  </a:lnTo>
                  <a:lnTo>
                    <a:pt x="827" y="309"/>
                  </a:lnTo>
                  <a:lnTo>
                    <a:pt x="826" y="320"/>
                  </a:lnTo>
                  <a:lnTo>
                    <a:pt x="824" y="334"/>
                  </a:lnTo>
                  <a:lnTo>
                    <a:pt x="822" y="351"/>
                  </a:lnTo>
                  <a:lnTo>
                    <a:pt x="820" y="371"/>
                  </a:lnTo>
                  <a:lnTo>
                    <a:pt x="817" y="394"/>
                  </a:lnTo>
                  <a:lnTo>
                    <a:pt x="813" y="420"/>
                  </a:lnTo>
                  <a:lnTo>
                    <a:pt x="735" y="420"/>
                  </a:lnTo>
                  <a:close/>
                  <a:moveTo>
                    <a:pt x="1091" y="287"/>
                  </a:moveTo>
                  <a:lnTo>
                    <a:pt x="1085" y="296"/>
                  </a:lnTo>
                  <a:lnTo>
                    <a:pt x="1078" y="303"/>
                  </a:lnTo>
                  <a:lnTo>
                    <a:pt x="1070" y="311"/>
                  </a:lnTo>
                  <a:lnTo>
                    <a:pt x="1061" y="317"/>
                  </a:lnTo>
                  <a:lnTo>
                    <a:pt x="1058" y="320"/>
                  </a:lnTo>
                  <a:lnTo>
                    <a:pt x="1054" y="322"/>
                  </a:lnTo>
                  <a:lnTo>
                    <a:pt x="1050" y="325"/>
                  </a:lnTo>
                  <a:lnTo>
                    <a:pt x="1046" y="326"/>
                  </a:lnTo>
                  <a:lnTo>
                    <a:pt x="1042" y="328"/>
                  </a:lnTo>
                  <a:lnTo>
                    <a:pt x="1037" y="329"/>
                  </a:lnTo>
                  <a:lnTo>
                    <a:pt x="1033" y="330"/>
                  </a:lnTo>
                  <a:lnTo>
                    <a:pt x="1027" y="330"/>
                  </a:lnTo>
                  <a:lnTo>
                    <a:pt x="1022" y="330"/>
                  </a:lnTo>
                  <a:lnTo>
                    <a:pt x="1017" y="329"/>
                  </a:lnTo>
                  <a:lnTo>
                    <a:pt x="1013" y="327"/>
                  </a:lnTo>
                  <a:lnTo>
                    <a:pt x="1009" y="325"/>
                  </a:lnTo>
                  <a:lnTo>
                    <a:pt x="1005" y="322"/>
                  </a:lnTo>
                  <a:lnTo>
                    <a:pt x="1001" y="319"/>
                  </a:lnTo>
                  <a:lnTo>
                    <a:pt x="997" y="315"/>
                  </a:lnTo>
                  <a:lnTo>
                    <a:pt x="994" y="310"/>
                  </a:lnTo>
                  <a:lnTo>
                    <a:pt x="991" y="306"/>
                  </a:lnTo>
                  <a:lnTo>
                    <a:pt x="988" y="300"/>
                  </a:lnTo>
                  <a:lnTo>
                    <a:pt x="986" y="294"/>
                  </a:lnTo>
                  <a:lnTo>
                    <a:pt x="984" y="288"/>
                  </a:lnTo>
                  <a:lnTo>
                    <a:pt x="982" y="280"/>
                  </a:lnTo>
                  <a:lnTo>
                    <a:pt x="980" y="273"/>
                  </a:lnTo>
                  <a:lnTo>
                    <a:pt x="979" y="264"/>
                  </a:lnTo>
                  <a:lnTo>
                    <a:pt x="979" y="254"/>
                  </a:lnTo>
                  <a:lnTo>
                    <a:pt x="979" y="251"/>
                  </a:lnTo>
                  <a:lnTo>
                    <a:pt x="979" y="248"/>
                  </a:lnTo>
                  <a:lnTo>
                    <a:pt x="979" y="244"/>
                  </a:lnTo>
                  <a:lnTo>
                    <a:pt x="979" y="240"/>
                  </a:lnTo>
                  <a:lnTo>
                    <a:pt x="979" y="235"/>
                  </a:lnTo>
                  <a:lnTo>
                    <a:pt x="982" y="231"/>
                  </a:lnTo>
                  <a:lnTo>
                    <a:pt x="983" y="228"/>
                  </a:lnTo>
                  <a:lnTo>
                    <a:pt x="983" y="224"/>
                  </a:lnTo>
                  <a:lnTo>
                    <a:pt x="984" y="214"/>
                  </a:lnTo>
                  <a:lnTo>
                    <a:pt x="985" y="204"/>
                  </a:lnTo>
                  <a:lnTo>
                    <a:pt x="987" y="196"/>
                  </a:lnTo>
                  <a:lnTo>
                    <a:pt x="989" y="188"/>
                  </a:lnTo>
                  <a:lnTo>
                    <a:pt x="991" y="180"/>
                  </a:lnTo>
                  <a:lnTo>
                    <a:pt x="994" y="173"/>
                  </a:lnTo>
                  <a:lnTo>
                    <a:pt x="996" y="166"/>
                  </a:lnTo>
                  <a:lnTo>
                    <a:pt x="999" y="160"/>
                  </a:lnTo>
                  <a:lnTo>
                    <a:pt x="1003" y="153"/>
                  </a:lnTo>
                  <a:lnTo>
                    <a:pt x="1007" y="147"/>
                  </a:lnTo>
                  <a:lnTo>
                    <a:pt x="1011" y="141"/>
                  </a:lnTo>
                  <a:lnTo>
                    <a:pt x="1014" y="136"/>
                  </a:lnTo>
                  <a:lnTo>
                    <a:pt x="1018" y="131"/>
                  </a:lnTo>
                  <a:lnTo>
                    <a:pt x="1022" y="127"/>
                  </a:lnTo>
                  <a:lnTo>
                    <a:pt x="1026" y="123"/>
                  </a:lnTo>
                  <a:lnTo>
                    <a:pt x="1032" y="120"/>
                  </a:lnTo>
                  <a:lnTo>
                    <a:pt x="1035" y="118"/>
                  </a:lnTo>
                  <a:lnTo>
                    <a:pt x="1039" y="115"/>
                  </a:lnTo>
                  <a:lnTo>
                    <a:pt x="1043" y="114"/>
                  </a:lnTo>
                  <a:lnTo>
                    <a:pt x="1047" y="112"/>
                  </a:lnTo>
                  <a:lnTo>
                    <a:pt x="1051" y="111"/>
                  </a:lnTo>
                  <a:lnTo>
                    <a:pt x="1055" y="111"/>
                  </a:lnTo>
                  <a:lnTo>
                    <a:pt x="1059" y="110"/>
                  </a:lnTo>
                  <a:lnTo>
                    <a:pt x="1063" y="110"/>
                  </a:lnTo>
                  <a:lnTo>
                    <a:pt x="1071" y="111"/>
                  </a:lnTo>
                  <a:lnTo>
                    <a:pt x="1080" y="112"/>
                  </a:lnTo>
                  <a:lnTo>
                    <a:pt x="1086" y="115"/>
                  </a:lnTo>
                  <a:lnTo>
                    <a:pt x="1092" y="119"/>
                  </a:lnTo>
                  <a:lnTo>
                    <a:pt x="1097" y="125"/>
                  </a:lnTo>
                  <a:lnTo>
                    <a:pt x="1102" y="131"/>
                  </a:lnTo>
                  <a:lnTo>
                    <a:pt x="1106" y="138"/>
                  </a:lnTo>
                  <a:lnTo>
                    <a:pt x="1110" y="145"/>
                  </a:lnTo>
                  <a:lnTo>
                    <a:pt x="1110" y="145"/>
                  </a:lnTo>
                  <a:lnTo>
                    <a:pt x="1112" y="112"/>
                  </a:lnTo>
                  <a:lnTo>
                    <a:pt x="1194" y="112"/>
                  </a:lnTo>
                  <a:lnTo>
                    <a:pt x="1158" y="323"/>
                  </a:lnTo>
                  <a:lnTo>
                    <a:pt x="1082" y="323"/>
                  </a:lnTo>
                  <a:lnTo>
                    <a:pt x="1091" y="287"/>
                  </a:lnTo>
                  <a:lnTo>
                    <a:pt x="1091" y="287"/>
                  </a:lnTo>
                  <a:close/>
                  <a:moveTo>
                    <a:pt x="1060" y="237"/>
                  </a:moveTo>
                  <a:lnTo>
                    <a:pt x="1060" y="247"/>
                  </a:lnTo>
                  <a:lnTo>
                    <a:pt x="1062" y="254"/>
                  </a:lnTo>
                  <a:lnTo>
                    <a:pt x="1065" y="260"/>
                  </a:lnTo>
                  <a:lnTo>
                    <a:pt x="1070" y="264"/>
                  </a:lnTo>
                  <a:lnTo>
                    <a:pt x="1074" y="261"/>
                  </a:lnTo>
                  <a:lnTo>
                    <a:pt x="1078" y="259"/>
                  </a:lnTo>
                  <a:lnTo>
                    <a:pt x="1082" y="258"/>
                  </a:lnTo>
                  <a:lnTo>
                    <a:pt x="1085" y="254"/>
                  </a:lnTo>
                  <a:lnTo>
                    <a:pt x="1088" y="251"/>
                  </a:lnTo>
                  <a:lnTo>
                    <a:pt x="1090" y="247"/>
                  </a:lnTo>
                  <a:lnTo>
                    <a:pt x="1091" y="243"/>
                  </a:lnTo>
                  <a:lnTo>
                    <a:pt x="1092" y="238"/>
                  </a:lnTo>
                  <a:lnTo>
                    <a:pt x="1094" y="234"/>
                  </a:lnTo>
                  <a:lnTo>
                    <a:pt x="1096" y="229"/>
                  </a:lnTo>
                  <a:lnTo>
                    <a:pt x="1097" y="224"/>
                  </a:lnTo>
                  <a:lnTo>
                    <a:pt x="1098" y="219"/>
                  </a:lnTo>
                  <a:lnTo>
                    <a:pt x="1098" y="214"/>
                  </a:lnTo>
                  <a:lnTo>
                    <a:pt x="1099" y="209"/>
                  </a:lnTo>
                  <a:lnTo>
                    <a:pt x="1099" y="204"/>
                  </a:lnTo>
                  <a:lnTo>
                    <a:pt x="1099" y="202"/>
                  </a:lnTo>
                  <a:lnTo>
                    <a:pt x="1099" y="202"/>
                  </a:lnTo>
                  <a:lnTo>
                    <a:pt x="1099" y="201"/>
                  </a:lnTo>
                  <a:lnTo>
                    <a:pt x="1099" y="199"/>
                  </a:lnTo>
                  <a:lnTo>
                    <a:pt x="1099" y="197"/>
                  </a:lnTo>
                  <a:lnTo>
                    <a:pt x="1099" y="197"/>
                  </a:lnTo>
                  <a:lnTo>
                    <a:pt x="1099" y="196"/>
                  </a:lnTo>
                  <a:lnTo>
                    <a:pt x="1099" y="194"/>
                  </a:lnTo>
                  <a:lnTo>
                    <a:pt x="1099" y="193"/>
                  </a:lnTo>
                  <a:lnTo>
                    <a:pt x="1098" y="184"/>
                  </a:lnTo>
                  <a:lnTo>
                    <a:pt x="1097" y="178"/>
                  </a:lnTo>
                  <a:lnTo>
                    <a:pt x="1094" y="175"/>
                  </a:lnTo>
                  <a:lnTo>
                    <a:pt x="1089" y="174"/>
                  </a:lnTo>
                  <a:lnTo>
                    <a:pt x="1085" y="174"/>
                  </a:lnTo>
                  <a:lnTo>
                    <a:pt x="1082" y="175"/>
                  </a:lnTo>
                  <a:lnTo>
                    <a:pt x="1078" y="176"/>
                  </a:lnTo>
                  <a:lnTo>
                    <a:pt x="1076" y="179"/>
                  </a:lnTo>
                  <a:lnTo>
                    <a:pt x="1073" y="182"/>
                  </a:lnTo>
                  <a:lnTo>
                    <a:pt x="1070" y="186"/>
                  </a:lnTo>
                  <a:lnTo>
                    <a:pt x="1068" y="192"/>
                  </a:lnTo>
                  <a:lnTo>
                    <a:pt x="1065" y="198"/>
                  </a:lnTo>
                  <a:lnTo>
                    <a:pt x="1063" y="207"/>
                  </a:lnTo>
                  <a:lnTo>
                    <a:pt x="1062" y="216"/>
                  </a:lnTo>
                  <a:lnTo>
                    <a:pt x="1061" y="226"/>
                  </a:lnTo>
                  <a:lnTo>
                    <a:pt x="1060" y="237"/>
                  </a:lnTo>
                  <a:close/>
                  <a:moveTo>
                    <a:pt x="1201" y="323"/>
                  </a:moveTo>
                  <a:lnTo>
                    <a:pt x="1234" y="112"/>
                  </a:lnTo>
                  <a:lnTo>
                    <a:pt x="1314" y="112"/>
                  </a:lnTo>
                  <a:lnTo>
                    <a:pt x="1303" y="152"/>
                  </a:lnTo>
                  <a:lnTo>
                    <a:pt x="1303" y="152"/>
                  </a:lnTo>
                  <a:lnTo>
                    <a:pt x="1306" y="147"/>
                  </a:lnTo>
                  <a:lnTo>
                    <a:pt x="1309" y="142"/>
                  </a:lnTo>
                  <a:lnTo>
                    <a:pt x="1312" y="138"/>
                  </a:lnTo>
                  <a:lnTo>
                    <a:pt x="1316" y="133"/>
                  </a:lnTo>
                  <a:lnTo>
                    <a:pt x="1320" y="130"/>
                  </a:lnTo>
                  <a:lnTo>
                    <a:pt x="1324" y="126"/>
                  </a:lnTo>
                  <a:lnTo>
                    <a:pt x="1328" y="123"/>
                  </a:lnTo>
                  <a:lnTo>
                    <a:pt x="1332" y="120"/>
                  </a:lnTo>
                  <a:lnTo>
                    <a:pt x="1336" y="117"/>
                  </a:lnTo>
                  <a:lnTo>
                    <a:pt x="1340" y="115"/>
                  </a:lnTo>
                  <a:lnTo>
                    <a:pt x="1344" y="113"/>
                  </a:lnTo>
                  <a:lnTo>
                    <a:pt x="1349" y="112"/>
                  </a:lnTo>
                  <a:lnTo>
                    <a:pt x="1353" y="111"/>
                  </a:lnTo>
                  <a:lnTo>
                    <a:pt x="1357" y="110"/>
                  </a:lnTo>
                  <a:lnTo>
                    <a:pt x="1362" y="110"/>
                  </a:lnTo>
                  <a:lnTo>
                    <a:pt x="1366" y="110"/>
                  </a:lnTo>
                  <a:lnTo>
                    <a:pt x="1371" y="110"/>
                  </a:lnTo>
                  <a:lnTo>
                    <a:pt x="1377" y="111"/>
                  </a:lnTo>
                  <a:lnTo>
                    <a:pt x="1382" y="112"/>
                  </a:lnTo>
                  <a:lnTo>
                    <a:pt x="1386" y="113"/>
                  </a:lnTo>
                  <a:lnTo>
                    <a:pt x="1390" y="115"/>
                  </a:lnTo>
                  <a:lnTo>
                    <a:pt x="1394" y="117"/>
                  </a:lnTo>
                  <a:lnTo>
                    <a:pt x="1397" y="120"/>
                  </a:lnTo>
                  <a:lnTo>
                    <a:pt x="1400" y="124"/>
                  </a:lnTo>
                  <a:lnTo>
                    <a:pt x="1403" y="128"/>
                  </a:lnTo>
                  <a:lnTo>
                    <a:pt x="1405" y="132"/>
                  </a:lnTo>
                  <a:lnTo>
                    <a:pt x="1407" y="136"/>
                  </a:lnTo>
                  <a:lnTo>
                    <a:pt x="1409" y="141"/>
                  </a:lnTo>
                  <a:lnTo>
                    <a:pt x="1410" y="146"/>
                  </a:lnTo>
                  <a:lnTo>
                    <a:pt x="1411" y="151"/>
                  </a:lnTo>
                  <a:lnTo>
                    <a:pt x="1412" y="156"/>
                  </a:lnTo>
                  <a:lnTo>
                    <a:pt x="1412" y="162"/>
                  </a:lnTo>
                  <a:lnTo>
                    <a:pt x="1412" y="166"/>
                  </a:lnTo>
                  <a:lnTo>
                    <a:pt x="1412" y="171"/>
                  </a:lnTo>
                  <a:lnTo>
                    <a:pt x="1411" y="177"/>
                  </a:lnTo>
                  <a:lnTo>
                    <a:pt x="1409" y="183"/>
                  </a:lnTo>
                  <a:lnTo>
                    <a:pt x="1388" y="323"/>
                  </a:lnTo>
                  <a:lnTo>
                    <a:pt x="1309" y="323"/>
                  </a:lnTo>
                  <a:lnTo>
                    <a:pt x="1325" y="219"/>
                  </a:lnTo>
                  <a:lnTo>
                    <a:pt x="1325" y="218"/>
                  </a:lnTo>
                  <a:lnTo>
                    <a:pt x="1326" y="217"/>
                  </a:lnTo>
                  <a:lnTo>
                    <a:pt x="1327" y="214"/>
                  </a:lnTo>
                  <a:lnTo>
                    <a:pt x="1329" y="212"/>
                  </a:lnTo>
                  <a:lnTo>
                    <a:pt x="1329" y="209"/>
                  </a:lnTo>
                  <a:lnTo>
                    <a:pt x="1329" y="205"/>
                  </a:lnTo>
                  <a:lnTo>
                    <a:pt x="1329" y="202"/>
                  </a:lnTo>
                  <a:lnTo>
                    <a:pt x="1329" y="200"/>
                  </a:lnTo>
                  <a:lnTo>
                    <a:pt x="1328" y="194"/>
                  </a:lnTo>
                  <a:lnTo>
                    <a:pt x="1326" y="189"/>
                  </a:lnTo>
                  <a:lnTo>
                    <a:pt x="1321" y="187"/>
                  </a:lnTo>
                  <a:lnTo>
                    <a:pt x="1317" y="186"/>
                  </a:lnTo>
                  <a:lnTo>
                    <a:pt x="1312" y="186"/>
                  </a:lnTo>
                  <a:lnTo>
                    <a:pt x="1307" y="188"/>
                  </a:lnTo>
                  <a:lnTo>
                    <a:pt x="1304" y="191"/>
                  </a:lnTo>
                  <a:lnTo>
                    <a:pt x="1302" y="195"/>
                  </a:lnTo>
                  <a:lnTo>
                    <a:pt x="1300" y="200"/>
                  </a:lnTo>
                  <a:lnTo>
                    <a:pt x="1298" y="207"/>
                  </a:lnTo>
                  <a:lnTo>
                    <a:pt x="1296" y="214"/>
                  </a:lnTo>
                  <a:lnTo>
                    <a:pt x="1295" y="224"/>
                  </a:lnTo>
                  <a:lnTo>
                    <a:pt x="1279" y="323"/>
                  </a:lnTo>
                  <a:lnTo>
                    <a:pt x="1201" y="323"/>
                  </a:lnTo>
                  <a:close/>
                  <a:moveTo>
                    <a:pt x="1429" y="323"/>
                  </a:moveTo>
                  <a:lnTo>
                    <a:pt x="1479" y="3"/>
                  </a:lnTo>
                  <a:lnTo>
                    <a:pt x="1558" y="3"/>
                  </a:lnTo>
                  <a:lnTo>
                    <a:pt x="1557" y="12"/>
                  </a:lnTo>
                  <a:lnTo>
                    <a:pt x="1555" y="20"/>
                  </a:lnTo>
                  <a:lnTo>
                    <a:pt x="1554" y="27"/>
                  </a:lnTo>
                  <a:lnTo>
                    <a:pt x="1553" y="34"/>
                  </a:lnTo>
                  <a:lnTo>
                    <a:pt x="1552" y="41"/>
                  </a:lnTo>
                  <a:lnTo>
                    <a:pt x="1551" y="48"/>
                  </a:lnTo>
                  <a:lnTo>
                    <a:pt x="1550" y="55"/>
                  </a:lnTo>
                  <a:lnTo>
                    <a:pt x="1549" y="62"/>
                  </a:lnTo>
                  <a:lnTo>
                    <a:pt x="1548" y="68"/>
                  </a:lnTo>
                  <a:lnTo>
                    <a:pt x="1547" y="74"/>
                  </a:lnTo>
                  <a:lnTo>
                    <a:pt x="1546" y="80"/>
                  </a:lnTo>
                  <a:lnTo>
                    <a:pt x="1545" y="86"/>
                  </a:lnTo>
                  <a:lnTo>
                    <a:pt x="1543" y="92"/>
                  </a:lnTo>
                  <a:lnTo>
                    <a:pt x="1542" y="99"/>
                  </a:lnTo>
                  <a:lnTo>
                    <a:pt x="1541" y="105"/>
                  </a:lnTo>
                  <a:lnTo>
                    <a:pt x="1540" y="112"/>
                  </a:lnTo>
                  <a:lnTo>
                    <a:pt x="1539" y="117"/>
                  </a:lnTo>
                  <a:lnTo>
                    <a:pt x="1538" y="122"/>
                  </a:lnTo>
                  <a:lnTo>
                    <a:pt x="1537" y="128"/>
                  </a:lnTo>
                  <a:lnTo>
                    <a:pt x="1536" y="132"/>
                  </a:lnTo>
                  <a:lnTo>
                    <a:pt x="1535" y="137"/>
                  </a:lnTo>
                  <a:lnTo>
                    <a:pt x="1535" y="142"/>
                  </a:lnTo>
                  <a:lnTo>
                    <a:pt x="1534" y="146"/>
                  </a:lnTo>
                  <a:lnTo>
                    <a:pt x="1533" y="150"/>
                  </a:lnTo>
                  <a:lnTo>
                    <a:pt x="1533" y="150"/>
                  </a:lnTo>
                  <a:lnTo>
                    <a:pt x="1536" y="145"/>
                  </a:lnTo>
                  <a:lnTo>
                    <a:pt x="1540" y="140"/>
                  </a:lnTo>
                  <a:lnTo>
                    <a:pt x="1543" y="136"/>
                  </a:lnTo>
                  <a:lnTo>
                    <a:pt x="1547" y="132"/>
                  </a:lnTo>
                  <a:lnTo>
                    <a:pt x="1550" y="128"/>
                  </a:lnTo>
                  <a:lnTo>
                    <a:pt x="1554" y="125"/>
                  </a:lnTo>
                  <a:lnTo>
                    <a:pt x="1557" y="122"/>
                  </a:lnTo>
                  <a:lnTo>
                    <a:pt x="1561" y="119"/>
                  </a:lnTo>
                  <a:lnTo>
                    <a:pt x="1565" y="117"/>
                  </a:lnTo>
                  <a:lnTo>
                    <a:pt x="1570" y="115"/>
                  </a:lnTo>
                  <a:lnTo>
                    <a:pt x="1575" y="114"/>
                  </a:lnTo>
                  <a:lnTo>
                    <a:pt x="1579" y="112"/>
                  </a:lnTo>
                  <a:lnTo>
                    <a:pt x="1584" y="111"/>
                  </a:lnTo>
                  <a:lnTo>
                    <a:pt x="1588" y="111"/>
                  </a:lnTo>
                  <a:lnTo>
                    <a:pt x="1593" y="110"/>
                  </a:lnTo>
                  <a:lnTo>
                    <a:pt x="1597" y="110"/>
                  </a:lnTo>
                  <a:lnTo>
                    <a:pt x="1601" y="110"/>
                  </a:lnTo>
                  <a:lnTo>
                    <a:pt x="1605" y="111"/>
                  </a:lnTo>
                  <a:lnTo>
                    <a:pt x="1609" y="112"/>
                  </a:lnTo>
                  <a:lnTo>
                    <a:pt x="1614" y="113"/>
                  </a:lnTo>
                  <a:lnTo>
                    <a:pt x="1618" y="115"/>
                  </a:lnTo>
                  <a:lnTo>
                    <a:pt x="1622" y="117"/>
                  </a:lnTo>
                  <a:lnTo>
                    <a:pt x="1625" y="120"/>
                  </a:lnTo>
                  <a:lnTo>
                    <a:pt x="1628" y="124"/>
                  </a:lnTo>
                  <a:lnTo>
                    <a:pt x="1631" y="128"/>
                  </a:lnTo>
                  <a:lnTo>
                    <a:pt x="1633" y="133"/>
                  </a:lnTo>
                  <a:lnTo>
                    <a:pt x="1635" y="137"/>
                  </a:lnTo>
                  <a:lnTo>
                    <a:pt x="1637" y="142"/>
                  </a:lnTo>
                  <a:lnTo>
                    <a:pt x="1638" y="146"/>
                  </a:lnTo>
                  <a:lnTo>
                    <a:pt x="1639" y="151"/>
                  </a:lnTo>
                  <a:lnTo>
                    <a:pt x="1640" y="156"/>
                  </a:lnTo>
                  <a:lnTo>
                    <a:pt x="1640" y="162"/>
                  </a:lnTo>
                  <a:lnTo>
                    <a:pt x="1640" y="165"/>
                  </a:lnTo>
                  <a:lnTo>
                    <a:pt x="1640" y="169"/>
                  </a:lnTo>
                  <a:lnTo>
                    <a:pt x="1639" y="173"/>
                  </a:lnTo>
                  <a:lnTo>
                    <a:pt x="1639" y="178"/>
                  </a:lnTo>
                  <a:lnTo>
                    <a:pt x="1638" y="183"/>
                  </a:lnTo>
                  <a:lnTo>
                    <a:pt x="1637" y="190"/>
                  </a:lnTo>
                  <a:lnTo>
                    <a:pt x="1636" y="196"/>
                  </a:lnTo>
                  <a:lnTo>
                    <a:pt x="1635" y="204"/>
                  </a:lnTo>
                  <a:lnTo>
                    <a:pt x="1615" y="323"/>
                  </a:lnTo>
                  <a:lnTo>
                    <a:pt x="1537" y="323"/>
                  </a:lnTo>
                  <a:lnTo>
                    <a:pt x="1556" y="210"/>
                  </a:lnTo>
                  <a:lnTo>
                    <a:pt x="1556" y="210"/>
                  </a:lnTo>
                  <a:lnTo>
                    <a:pt x="1556" y="209"/>
                  </a:lnTo>
                  <a:lnTo>
                    <a:pt x="1556" y="207"/>
                  </a:lnTo>
                  <a:lnTo>
                    <a:pt x="1556" y="204"/>
                  </a:lnTo>
                  <a:lnTo>
                    <a:pt x="1556" y="204"/>
                  </a:lnTo>
                  <a:lnTo>
                    <a:pt x="1556" y="203"/>
                  </a:lnTo>
                  <a:lnTo>
                    <a:pt x="1556" y="201"/>
                  </a:lnTo>
                  <a:lnTo>
                    <a:pt x="1556" y="200"/>
                  </a:lnTo>
                  <a:lnTo>
                    <a:pt x="1556" y="194"/>
                  </a:lnTo>
                  <a:lnTo>
                    <a:pt x="1554" y="189"/>
                  </a:lnTo>
                  <a:lnTo>
                    <a:pt x="1551" y="187"/>
                  </a:lnTo>
                  <a:lnTo>
                    <a:pt x="1547" y="186"/>
                  </a:lnTo>
                  <a:lnTo>
                    <a:pt x="1542" y="186"/>
                  </a:lnTo>
                  <a:lnTo>
                    <a:pt x="1538" y="187"/>
                  </a:lnTo>
                  <a:lnTo>
                    <a:pt x="1535" y="189"/>
                  </a:lnTo>
                  <a:lnTo>
                    <a:pt x="1533" y="190"/>
                  </a:lnTo>
                  <a:lnTo>
                    <a:pt x="1531" y="194"/>
                  </a:lnTo>
                  <a:lnTo>
                    <a:pt x="1529" y="197"/>
                  </a:lnTo>
                  <a:lnTo>
                    <a:pt x="1528" y="201"/>
                  </a:lnTo>
                  <a:lnTo>
                    <a:pt x="1528" y="204"/>
                  </a:lnTo>
                  <a:lnTo>
                    <a:pt x="1527" y="209"/>
                  </a:lnTo>
                  <a:lnTo>
                    <a:pt x="1526" y="212"/>
                  </a:lnTo>
                  <a:lnTo>
                    <a:pt x="1525" y="216"/>
                  </a:lnTo>
                  <a:lnTo>
                    <a:pt x="1523" y="219"/>
                  </a:lnTo>
                  <a:lnTo>
                    <a:pt x="1507" y="323"/>
                  </a:lnTo>
                  <a:lnTo>
                    <a:pt x="1429" y="323"/>
                  </a:lnTo>
                  <a:close/>
                  <a:moveTo>
                    <a:pt x="1692" y="48"/>
                  </a:moveTo>
                  <a:lnTo>
                    <a:pt x="1692" y="44"/>
                  </a:lnTo>
                  <a:lnTo>
                    <a:pt x="1693" y="40"/>
                  </a:lnTo>
                  <a:lnTo>
                    <a:pt x="1694" y="36"/>
                  </a:lnTo>
                  <a:lnTo>
                    <a:pt x="1696" y="32"/>
                  </a:lnTo>
                  <a:lnTo>
                    <a:pt x="1698" y="28"/>
                  </a:lnTo>
                  <a:lnTo>
                    <a:pt x="1700" y="24"/>
                  </a:lnTo>
                  <a:lnTo>
                    <a:pt x="1703" y="20"/>
                  </a:lnTo>
                  <a:lnTo>
                    <a:pt x="1706" y="17"/>
                  </a:lnTo>
                  <a:lnTo>
                    <a:pt x="1711" y="13"/>
                  </a:lnTo>
                  <a:lnTo>
                    <a:pt x="1717" y="10"/>
                  </a:lnTo>
                  <a:lnTo>
                    <a:pt x="1721" y="6"/>
                  </a:lnTo>
                  <a:lnTo>
                    <a:pt x="1726" y="4"/>
                  </a:lnTo>
                  <a:lnTo>
                    <a:pt x="1730" y="2"/>
                  </a:lnTo>
                  <a:lnTo>
                    <a:pt x="1734" y="1"/>
                  </a:lnTo>
                  <a:lnTo>
                    <a:pt x="1738" y="0"/>
                  </a:lnTo>
                  <a:lnTo>
                    <a:pt x="1742" y="0"/>
                  </a:lnTo>
                  <a:lnTo>
                    <a:pt x="1747" y="0"/>
                  </a:lnTo>
                  <a:lnTo>
                    <a:pt x="1751" y="1"/>
                  </a:lnTo>
                  <a:lnTo>
                    <a:pt x="1755" y="2"/>
                  </a:lnTo>
                  <a:lnTo>
                    <a:pt x="1759" y="3"/>
                  </a:lnTo>
                  <a:lnTo>
                    <a:pt x="1764" y="5"/>
                  </a:lnTo>
                  <a:lnTo>
                    <a:pt x="1767" y="7"/>
                  </a:lnTo>
                  <a:lnTo>
                    <a:pt x="1770" y="10"/>
                  </a:lnTo>
                  <a:lnTo>
                    <a:pt x="1773" y="13"/>
                  </a:lnTo>
                  <a:lnTo>
                    <a:pt x="1779" y="19"/>
                  </a:lnTo>
                  <a:lnTo>
                    <a:pt x="1782" y="26"/>
                  </a:lnTo>
                  <a:lnTo>
                    <a:pt x="1784" y="33"/>
                  </a:lnTo>
                  <a:lnTo>
                    <a:pt x="1784" y="39"/>
                  </a:lnTo>
                  <a:lnTo>
                    <a:pt x="1784" y="44"/>
                  </a:lnTo>
                  <a:lnTo>
                    <a:pt x="1783" y="50"/>
                  </a:lnTo>
                  <a:lnTo>
                    <a:pt x="1782" y="55"/>
                  </a:lnTo>
                  <a:lnTo>
                    <a:pt x="1781" y="60"/>
                  </a:lnTo>
                  <a:lnTo>
                    <a:pt x="1779" y="65"/>
                  </a:lnTo>
                  <a:lnTo>
                    <a:pt x="1776" y="69"/>
                  </a:lnTo>
                  <a:lnTo>
                    <a:pt x="1773" y="72"/>
                  </a:lnTo>
                  <a:lnTo>
                    <a:pt x="1770" y="76"/>
                  </a:lnTo>
                  <a:lnTo>
                    <a:pt x="1765" y="79"/>
                  </a:lnTo>
                  <a:lnTo>
                    <a:pt x="1760" y="81"/>
                  </a:lnTo>
                  <a:lnTo>
                    <a:pt x="1755" y="84"/>
                  </a:lnTo>
                  <a:lnTo>
                    <a:pt x="1751" y="86"/>
                  </a:lnTo>
                  <a:lnTo>
                    <a:pt x="1746" y="87"/>
                  </a:lnTo>
                  <a:lnTo>
                    <a:pt x="1742" y="89"/>
                  </a:lnTo>
                  <a:lnTo>
                    <a:pt x="1737" y="90"/>
                  </a:lnTo>
                  <a:lnTo>
                    <a:pt x="1732" y="90"/>
                  </a:lnTo>
                  <a:lnTo>
                    <a:pt x="1724" y="89"/>
                  </a:lnTo>
                  <a:lnTo>
                    <a:pt x="1716" y="87"/>
                  </a:lnTo>
                  <a:lnTo>
                    <a:pt x="1709" y="84"/>
                  </a:lnTo>
                  <a:lnTo>
                    <a:pt x="1703" y="81"/>
                  </a:lnTo>
                  <a:lnTo>
                    <a:pt x="1701" y="78"/>
                  </a:lnTo>
                  <a:lnTo>
                    <a:pt x="1698" y="75"/>
                  </a:lnTo>
                  <a:lnTo>
                    <a:pt x="1696" y="71"/>
                  </a:lnTo>
                  <a:lnTo>
                    <a:pt x="1695" y="68"/>
                  </a:lnTo>
                  <a:lnTo>
                    <a:pt x="1694" y="63"/>
                  </a:lnTo>
                  <a:lnTo>
                    <a:pt x="1693" y="58"/>
                  </a:lnTo>
                  <a:lnTo>
                    <a:pt x="1692" y="53"/>
                  </a:lnTo>
                  <a:lnTo>
                    <a:pt x="1692" y="48"/>
                  </a:lnTo>
                  <a:lnTo>
                    <a:pt x="1692" y="48"/>
                  </a:lnTo>
                  <a:close/>
                  <a:moveTo>
                    <a:pt x="1654" y="323"/>
                  </a:moveTo>
                  <a:lnTo>
                    <a:pt x="1689" y="112"/>
                  </a:lnTo>
                  <a:lnTo>
                    <a:pt x="1768" y="112"/>
                  </a:lnTo>
                  <a:lnTo>
                    <a:pt x="1734" y="323"/>
                  </a:lnTo>
                  <a:lnTo>
                    <a:pt x="1654" y="323"/>
                  </a:lnTo>
                  <a:close/>
                  <a:moveTo>
                    <a:pt x="1893" y="287"/>
                  </a:moveTo>
                  <a:lnTo>
                    <a:pt x="1890" y="291"/>
                  </a:lnTo>
                  <a:lnTo>
                    <a:pt x="1886" y="296"/>
                  </a:lnTo>
                  <a:lnTo>
                    <a:pt x="1883" y="300"/>
                  </a:lnTo>
                  <a:lnTo>
                    <a:pt x="1879" y="303"/>
                  </a:lnTo>
                  <a:lnTo>
                    <a:pt x="1875" y="308"/>
                  </a:lnTo>
                  <a:lnTo>
                    <a:pt x="1871" y="311"/>
                  </a:lnTo>
                  <a:lnTo>
                    <a:pt x="1867" y="314"/>
                  </a:lnTo>
                  <a:lnTo>
                    <a:pt x="1863" y="317"/>
                  </a:lnTo>
                  <a:lnTo>
                    <a:pt x="1858" y="320"/>
                  </a:lnTo>
                  <a:lnTo>
                    <a:pt x="1855" y="322"/>
                  </a:lnTo>
                  <a:lnTo>
                    <a:pt x="1851" y="325"/>
                  </a:lnTo>
                  <a:lnTo>
                    <a:pt x="1847" y="326"/>
                  </a:lnTo>
                  <a:lnTo>
                    <a:pt x="1843" y="328"/>
                  </a:lnTo>
                  <a:lnTo>
                    <a:pt x="1838" y="329"/>
                  </a:lnTo>
                  <a:lnTo>
                    <a:pt x="1834" y="330"/>
                  </a:lnTo>
                  <a:lnTo>
                    <a:pt x="1830" y="330"/>
                  </a:lnTo>
                  <a:lnTo>
                    <a:pt x="1825" y="330"/>
                  </a:lnTo>
                  <a:lnTo>
                    <a:pt x="1820" y="329"/>
                  </a:lnTo>
                  <a:lnTo>
                    <a:pt x="1815" y="327"/>
                  </a:lnTo>
                  <a:lnTo>
                    <a:pt x="1810" y="325"/>
                  </a:lnTo>
                  <a:lnTo>
                    <a:pt x="1806" y="322"/>
                  </a:lnTo>
                  <a:lnTo>
                    <a:pt x="1802" y="319"/>
                  </a:lnTo>
                  <a:lnTo>
                    <a:pt x="1799" y="315"/>
                  </a:lnTo>
                  <a:lnTo>
                    <a:pt x="1796" y="310"/>
                  </a:lnTo>
                  <a:lnTo>
                    <a:pt x="1793" y="306"/>
                  </a:lnTo>
                  <a:lnTo>
                    <a:pt x="1790" y="300"/>
                  </a:lnTo>
                  <a:lnTo>
                    <a:pt x="1788" y="294"/>
                  </a:lnTo>
                  <a:lnTo>
                    <a:pt x="1786" y="288"/>
                  </a:lnTo>
                  <a:lnTo>
                    <a:pt x="1784" y="280"/>
                  </a:lnTo>
                  <a:lnTo>
                    <a:pt x="1783" y="273"/>
                  </a:lnTo>
                  <a:lnTo>
                    <a:pt x="1782" y="264"/>
                  </a:lnTo>
                  <a:lnTo>
                    <a:pt x="1782" y="254"/>
                  </a:lnTo>
                  <a:lnTo>
                    <a:pt x="1782" y="251"/>
                  </a:lnTo>
                  <a:lnTo>
                    <a:pt x="1782" y="248"/>
                  </a:lnTo>
                  <a:lnTo>
                    <a:pt x="1782" y="244"/>
                  </a:lnTo>
                  <a:lnTo>
                    <a:pt x="1782" y="240"/>
                  </a:lnTo>
                  <a:lnTo>
                    <a:pt x="1782" y="235"/>
                  </a:lnTo>
                  <a:lnTo>
                    <a:pt x="1783" y="231"/>
                  </a:lnTo>
                  <a:lnTo>
                    <a:pt x="1784" y="228"/>
                  </a:lnTo>
                  <a:lnTo>
                    <a:pt x="1784" y="224"/>
                  </a:lnTo>
                  <a:lnTo>
                    <a:pt x="1785" y="214"/>
                  </a:lnTo>
                  <a:lnTo>
                    <a:pt x="1787" y="204"/>
                  </a:lnTo>
                  <a:lnTo>
                    <a:pt x="1789" y="196"/>
                  </a:lnTo>
                  <a:lnTo>
                    <a:pt x="1791" y="188"/>
                  </a:lnTo>
                  <a:lnTo>
                    <a:pt x="1793" y="180"/>
                  </a:lnTo>
                  <a:lnTo>
                    <a:pt x="1796" y="173"/>
                  </a:lnTo>
                  <a:lnTo>
                    <a:pt x="1798" y="166"/>
                  </a:lnTo>
                  <a:lnTo>
                    <a:pt x="1801" y="160"/>
                  </a:lnTo>
                  <a:lnTo>
                    <a:pt x="1804" y="153"/>
                  </a:lnTo>
                  <a:lnTo>
                    <a:pt x="1808" y="147"/>
                  </a:lnTo>
                  <a:lnTo>
                    <a:pt x="1811" y="141"/>
                  </a:lnTo>
                  <a:lnTo>
                    <a:pt x="1816" y="136"/>
                  </a:lnTo>
                  <a:lnTo>
                    <a:pt x="1820" y="131"/>
                  </a:lnTo>
                  <a:lnTo>
                    <a:pt x="1824" y="127"/>
                  </a:lnTo>
                  <a:lnTo>
                    <a:pt x="1828" y="123"/>
                  </a:lnTo>
                  <a:lnTo>
                    <a:pt x="1832" y="120"/>
                  </a:lnTo>
                  <a:lnTo>
                    <a:pt x="1836" y="118"/>
                  </a:lnTo>
                  <a:lnTo>
                    <a:pt x="1839" y="115"/>
                  </a:lnTo>
                  <a:lnTo>
                    <a:pt x="1843" y="114"/>
                  </a:lnTo>
                  <a:lnTo>
                    <a:pt x="1847" y="112"/>
                  </a:lnTo>
                  <a:lnTo>
                    <a:pt x="1852" y="111"/>
                  </a:lnTo>
                  <a:lnTo>
                    <a:pt x="1856" y="111"/>
                  </a:lnTo>
                  <a:lnTo>
                    <a:pt x="1862" y="110"/>
                  </a:lnTo>
                  <a:lnTo>
                    <a:pt x="1866" y="110"/>
                  </a:lnTo>
                  <a:lnTo>
                    <a:pt x="1873" y="111"/>
                  </a:lnTo>
                  <a:lnTo>
                    <a:pt x="1881" y="112"/>
                  </a:lnTo>
                  <a:lnTo>
                    <a:pt x="1889" y="115"/>
                  </a:lnTo>
                  <a:lnTo>
                    <a:pt x="1895" y="119"/>
                  </a:lnTo>
                  <a:lnTo>
                    <a:pt x="1900" y="125"/>
                  </a:lnTo>
                  <a:lnTo>
                    <a:pt x="1905" y="131"/>
                  </a:lnTo>
                  <a:lnTo>
                    <a:pt x="1908" y="138"/>
                  </a:lnTo>
                  <a:lnTo>
                    <a:pt x="1911" y="145"/>
                  </a:lnTo>
                  <a:lnTo>
                    <a:pt x="1911" y="145"/>
                  </a:lnTo>
                  <a:lnTo>
                    <a:pt x="1915" y="112"/>
                  </a:lnTo>
                  <a:lnTo>
                    <a:pt x="1995" y="112"/>
                  </a:lnTo>
                  <a:lnTo>
                    <a:pt x="1960" y="323"/>
                  </a:lnTo>
                  <a:lnTo>
                    <a:pt x="1882" y="323"/>
                  </a:lnTo>
                  <a:lnTo>
                    <a:pt x="1893" y="287"/>
                  </a:lnTo>
                  <a:lnTo>
                    <a:pt x="1893" y="287"/>
                  </a:lnTo>
                  <a:close/>
                  <a:moveTo>
                    <a:pt x="1860" y="237"/>
                  </a:moveTo>
                  <a:lnTo>
                    <a:pt x="1860" y="247"/>
                  </a:lnTo>
                  <a:lnTo>
                    <a:pt x="1863" y="254"/>
                  </a:lnTo>
                  <a:lnTo>
                    <a:pt x="1867" y="260"/>
                  </a:lnTo>
                  <a:lnTo>
                    <a:pt x="1873" y="264"/>
                  </a:lnTo>
                  <a:lnTo>
                    <a:pt x="1876" y="261"/>
                  </a:lnTo>
                  <a:lnTo>
                    <a:pt x="1880" y="259"/>
                  </a:lnTo>
                  <a:lnTo>
                    <a:pt x="1884" y="258"/>
                  </a:lnTo>
                  <a:lnTo>
                    <a:pt x="1888" y="254"/>
                  </a:lnTo>
                  <a:lnTo>
                    <a:pt x="1889" y="251"/>
                  </a:lnTo>
                  <a:lnTo>
                    <a:pt x="1891" y="247"/>
                  </a:lnTo>
                  <a:lnTo>
                    <a:pt x="1893" y="243"/>
                  </a:lnTo>
                  <a:lnTo>
                    <a:pt x="1895" y="238"/>
                  </a:lnTo>
                  <a:lnTo>
                    <a:pt x="1896" y="234"/>
                  </a:lnTo>
                  <a:lnTo>
                    <a:pt x="1896" y="229"/>
                  </a:lnTo>
                  <a:lnTo>
                    <a:pt x="1898" y="224"/>
                  </a:lnTo>
                  <a:lnTo>
                    <a:pt x="1900" y="219"/>
                  </a:lnTo>
                  <a:lnTo>
                    <a:pt x="1900" y="214"/>
                  </a:lnTo>
                  <a:lnTo>
                    <a:pt x="1901" y="209"/>
                  </a:lnTo>
                  <a:lnTo>
                    <a:pt x="1902" y="204"/>
                  </a:lnTo>
                  <a:lnTo>
                    <a:pt x="1902" y="202"/>
                  </a:lnTo>
                  <a:lnTo>
                    <a:pt x="1902" y="202"/>
                  </a:lnTo>
                  <a:lnTo>
                    <a:pt x="1902" y="201"/>
                  </a:lnTo>
                  <a:lnTo>
                    <a:pt x="1902" y="199"/>
                  </a:lnTo>
                  <a:lnTo>
                    <a:pt x="1902" y="197"/>
                  </a:lnTo>
                  <a:lnTo>
                    <a:pt x="1902" y="197"/>
                  </a:lnTo>
                  <a:lnTo>
                    <a:pt x="1902" y="196"/>
                  </a:lnTo>
                  <a:lnTo>
                    <a:pt x="1902" y="194"/>
                  </a:lnTo>
                  <a:lnTo>
                    <a:pt x="1902" y="193"/>
                  </a:lnTo>
                  <a:lnTo>
                    <a:pt x="1901" y="184"/>
                  </a:lnTo>
                  <a:lnTo>
                    <a:pt x="1898" y="178"/>
                  </a:lnTo>
                  <a:lnTo>
                    <a:pt x="1894" y="175"/>
                  </a:lnTo>
                  <a:lnTo>
                    <a:pt x="1889" y="174"/>
                  </a:lnTo>
                  <a:lnTo>
                    <a:pt x="1886" y="174"/>
                  </a:lnTo>
                  <a:lnTo>
                    <a:pt x="1883" y="175"/>
                  </a:lnTo>
                  <a:lnTo>
                    <a:pt x="1880" y="176"/>
                  </a:lnTo>
                  <a:lnTo>
                    <a:pt x="1877" y="179"/>
                  </a:lnTo>
                  <a:lnTo>
                    <a:pt x="1874" y="182"/>
                  </a:lnTo>
                  <a:lnTo>
                    <a:pt x="1872" y="186"/>
                  </a:lnTo>
                  <a:lnTo>
                    <a:pt x="1869" y="192"/>
                  </a:lnTo>
                  <a:lnTo>
                    <a:pt x="1867" y="198"/>
                  </a:lnTo>
                  <a:lnTo>
                    <a:pt x="1865" y="207"/>
                  </a:lnTo>
                  <a:lnTo>
                    <a:pt x="1863" y="216"/>
                  </a:lnTo>
                  <a:lnTo>
                    <a:pt x="1862" y="226"/>
                  </a:lnTo>
                  <a:lnTo>
                    <a:pt x="1860" y="237"/>
                  </a:lnTo>
                  <a:close/>
                  <a:moveTo>
                    <a:pt x="2128" y="323"/>
                  </a:moveTo>
                  <a:lnTo>
                    <a:pt x="2173" y="24"/>
                  </a:lnTo>
                  <a:lnTo>
                    <a:pt x="2251" y="24"/>
                  </a:lnTo>
                  <a:lnTo>
                    <a:pt x="2261" y="24"/>
                  </a:lnTo>
                  <a:lnTo>
                    <a:pt x="2269" y="25"/>
                  </a:lnTo>
                  <a:lnTo>
                    <a:pt x="2277" y="25"/>
                  </a:lnTo>
                  <a:lnTo>
                    <a:pt x="2285" y="26"/>
                  </a:lnTo>
                  <a:lnTo>
                    <a:pt x="2292" y="27"/>
                  </a:lnTo>
                  <a:lnTo>
                    <a:pt x="2299" y="29"/>
                  </a:lnTo>
                  <a:lnTo>
                    <a:pt x="2306" y="30"/>
                  </a:lnTo>
                  <a:lnTo>
                    <a:pt x="2312" y="32"/>
                  </a:lnTo>
                  <a:lnTo>
                    <a:pt x="2318" y="34"/>
                  </a:lnTo>
                  <a:lnTo>
                    <a:pt x="2323" y="37"/>
                  </a:lnTo>
                  <a:lnTo>
                    <a:pt x="2329" y="40"/>
                  </a:lnTo>
                  <a:lnTo>
                    <a:pt x="2333" y="43"/>
                  </a:lnTo>
                  <a:lnTo>
                    <a:pt x="2338" y="46"/>
                  </a:lnTo>
                  <a:lnTo>
                    <a:pt x="2342" y="50"/>
                  </a:lnTo>
                  <a:lnTo>
                    <a:pt x="2345" y="54"/>
                  </a:lnTo>
                  <a:lnTo>
                    <a:pt x="2348" y="60"/>
                  </a:lnTo>
                  <a:lnTo>
                    <a:pt x="2352" y="64"/>
                  </a:lnTo>
                  <a:lnTo>
                    <a:pt x="2354" y="68"/>
                  </a:lnTo>
                  <a:lnTo>
                    <a:pt x="2356" y="73"/>
                  </a:lnTo>
                  <a:lnTo>
                    <a:pt x="2358" y="78"/>
                  </a:lnTo>
                  <a:lnTo>
                    <a:pt x="2359" y="84"/>
                  </a:lnTo>
                  <a:lnTo>
                    <a:pt x="2360" y="90"/>
                  </a:lnTo>
                  <a:lnTo>
                    <a:pt x="2361" y="97"/>
                  </a:lnTo>
                  <a:lnTo>
                    <a:pt x="2361" y="104"/>
                  </a:lnTo>
                  <a:lnTo>
                    <a:pt x="2361" y="107"/>
                  </a:lnTo>
                  <a:lnTo>
                    <a:pt x="2360" y="112"/>
                  </a:lnTo>
                  <a:lnTo>
                    <a:pt x="2360" y="116"/>
                  </a:lnTo>
                  <a:lnTo>
                    <a:pt x="2359" y="120"/>
                  </a:lnTo>
                  <a:lnTo>
                    <a:pt x="2358" y="124"/>
                  </a:lnTo>
                  <a:lnTo>
                    <a:pt x="2357" y="129"/>
                  </a:lnTo>
                  <a:lnTo>
                    <a:pt x="2357" y="133"/>
                  </a:lnTo>
                  <a:lnTo>
                    <a:pt x="2356" y="138"/>
                  </a:lnTo>
                  <a:lnTo>
                    <a:pt x="2348" y="159"/>
                  </a:lnTo>
                  <a:lnTo>
                    <a:pt x="2339" y="177"/>
                  </a:lnTo>
                  <a:lnTo>
                    <a:pt x="2327" y="192"/>
                  </a:lnTo>
                  <a:lnTo>
                    <a:pt x="2312" y="203"/>
                  </a:lnTo>
                  <a:lnTo>
                    <a:pt x="2294" y="214"/>
                  </a:lnTo>
                  <a:lnTo>
                    <a:pt x="2273" y="220"/>
                  </a:lnTo>
                  <a:lnTo>
                    <a:pt x="2249" y="223"/>
                  </a:lnTo>
                  <a:lnTo>
                    <a:pt x="2223" y="224"/>
                  </a:lnTo>
                  <a:lnTo>
                    <a:pt x="2209" y="323"/>
                  </a:lnTo>
                  <a:lnTo>
                    <a:pt x="2128" y="323"/>
                  </a:lnTo>
                  <a:close/>
                  <a:moveTo>
                    <a:pt x="2233" y="158"/>
                  </a:moveTo>
                  <a:lnTo>
                    <a:pt x="2238" y="158"/>
                  </a:lnTo>
                  <a:lnTo>
                    <a:pt x="2243" y="156"/>
                  </a:lnTo>
                  <a:lnTo>
                    <a:pt x="2247" y="156"/>
                  </a:lnTo>
                  <a:lnTo>
                    <a:pt x="2251" y="155"/>
                  </a:lnTo>
                  <a:lnTo>
                    <a:pt x="2255" y="153"/>
                  </a:lnTo>
                  <a:lnTo>
                    <a:pt x="2258" y="152"/>
                  </a:lnTo>
                  <a:lnTo>
                    <a:pt x="2261" y="149"/>
                  </a:lnTo>
                  <a:lnTo>
                    <a:pt x="2264" y="147"/>
                  </a:lnTo>
                  <a:lnTo>
                    <a:pt x="2269" y="141"/>
                  </a:lnTo>
                  <a:lnTo>
                    <a:pt x="2273" y="135"/>
                  </a:lnTo>
                  <a:lnTo>
                    <a:pt x="2275" y="127"/>
                  </a:lnTo>
                  <a:lnTo>
                    <a:pt x="2276" y="119"/>
                  </a:lnTo>
                  <a:lnTo>
                    <a:pt x="2276" y="112"/>
                  </a:lnTo>
                  <a:lnTo>
                    <a:pt x="2275" y="104"/>
                  </a:lnTo>
                  <a:lnTo>
                    <a:pt x="2273" y="99"/>
                  </a:lnTo>
                  <a:lnTo>
                    <a:pt x="2270" y="95"/>
                  </a:lnTo>
                  <a:lnTo>
                    <a:pt x="2267" y="92"/>
                  </a:lnTo>
                  <a:lnTo>
                    <a:pt x="2262" y="90"/>
                  </a:lnTo>
                  <a:lnTo>
                    <a:pt x="2257" y="88"/>
                  </a:lnTo>
                  <a:lnTo>
                    <a:pt x="2249" y="88"/>
                  </a:lnTo>
                  <a:lnTo>
                    <a:pt x="2244" y="88"/>
                  </a:lnTo>
                  <a:lnTo>
                    <a:pt x="2233" y="158"/>
                  </a:lnTo>
                  <a:close/>
                  <a:moveTo>
                    <a:pt x="2361" y="245"/>
                  </a:moveTo>
                  <a:lnTo>
                    <a:pt x="2361" y="235"/>
                  </a:lnTo>
                  <a:lnTo>
                    <a:pt x="2362" y="226"/>
                  </a:lnTo>
                  <a:lnTo>
                    <a:pt x="2363" y="217"/>
                  </a:lnTo>
                  <a:lnTo>
                    <a:pt x="2364" y="208"/>
                  </a:lnTo>
                  <a:lnTo>
                    <a:pt x="2366" y="199"/>
                  </a:lnTo>
                  <a:lnTo>
                    <a:pt x="2368" y="190"/>
                  </a:lnTo>
                  <a:lnTo>
                    <a:pt x="2371" y="182"/>
                  </a:lnTo>
                  <a:lnTo>
                    <a:pt x="2375" y="174"/>
                  </a:lnTo>
                  <a:lnTo>
                    <a:pt x="2379" y="167"/>
                  </a:lnTo>
                  <a:lnTo>
                    <a:pt x="2383" y="160"/>
                  </a:lnTo>
                  <a:lnTo>
                    <a:pt x="2388" y="153"/>
                  </a:lnTo>
                  <a:lnTo>
                    <a:pt x="2393" y="147"/>
                  </a:lnTo>
                  <a:lnTo>
                    <a:pt x="2398" y="141"/>
                  </a:lnTo>
                  <a:lnTo>
                    <a:pt x="2405" y="136"/>
                  </a:lnTo>
                  <a:lnTo>
                    <a:pt x="2411" y="131"/>
                  </a:lnTo>
                  <a:lnTo>
                    <a:pt x="2418" y="126"/>
                  </a:lnTo>
                  <a:lnTo>
                    <a:pt x="2424" y="123"/>
                  </a:lnTo>
                  <a:lnTo>
                    <a:pt x="2431" y="120"/>
                  </a:lnTo>
                  <a:lnTo>
                    <a:pt x="2437" y="117"/>
                  </a:lnTo>
                  <a:lnTo>
                    <a:pt x="2444" y="115"/>
                  </a:lnTo>
                  <a:lnTo>
                    <a:pt x="2452" y="113"/>
                  </a:lnTo>
                  <a:lnTo>
                    <a:pt x="2460" y="111"/>
                  </a:lnTo>
                  <a:lnTo>
                    <a:pt x="2467" y="110"/>
                  </a:lnTo>
                  <a:lnTo>
                    <a:pt x="2475" y="110"/>
                  </a:lnTo>
                  <a:lnTo>
                    <a:pt x="2494" y="111"/>
                  </a:lnTo>
                  <a:lnTo>
                    <a:pt x="2512" y="115"/>
                  </a:lnTo>
                  <a:lnTo>
                    <a:pt x="2526" y="122"/>
                  </a:lnTo>
                  <a:lnTo>
                    <a:pt x="2538" y="131"/>
                  </a:lnTo>
                  <a:lnTo>
                    <a:pt x="2548" y="143"/>
                  </a:lnTo>
                  <a:lnTo>
                    <a:pt x="2555" y="159"/>
                  </a:lnTo>
                  <a:lnTo>
                    <a:pt x="2559" y="177"/>
                  </a:lnTo>
                  <a:lnTo>
                    <a:pt x="2560" y="197"/>
                  </a:lnTo>
                  <a:lnTo>
                    <a:pt x="2560" y="210"/>
                  </a:lnTo>
                  <a:lnTo>
                    <a:pt x="2558" y="222"/>
                  </a:lnTo>
                  <a:lnTo>
                    <a:pt x="2556" y="234"/>
                  </a:lnTo>
                  <a:lnTo>
                    <a:pt x="2553" y="246"/>
                  </a:lnTo>
                  <a:lnTo>
                    <a:pt x="2548" y="258"/>
                  </a:lnTo>
                  <a:lnTo>
                    <a:pt x="2542" y="269"/>
                  </a:lnTo>
                  <a:lnTo>
                    <a:pt x="2535" y="279"/>
                  </a:lnTo>
                  <a:lnTo>
                    <a:pt x="2527" y="288"/>
                  </a:lnTo>
                  <a:lnTo>
                    <a:pt x="2520" y="297"/>
                  </a:lnTo>
                  <a:lnTo>
                    <a:pt x="2512" y="307"/>
                  </a:lnTo>
                  <a:lnTo>
                    <a:pt x="2503" y="313"/>
                  </a:lnTo>
                  <a:lnTo>
                    <a:pt x="2493" y="319"/>
                  </a:lnTo>
                  <a:lnTo>
                    <a:pt x="2482" y="323"/>
                  </a:lnTo>
                  <a:lnTo>
                    <a:pt x="2471" y="327"/>
                  </a:lnTo>
                  <a:lnTo>
                    <a:pt x="2459" y="329"/>
                  </a:lnTo>
                  <a:lnTo>
                    <a:pt x="2446" y="330"/>
                  </a:lnTo>
                  <a:lnTo>
                    <a:pt x="2436" y="330"/>
                  </a:lnTo>
                  <a:lnTo>
                    <a:pt x="2426" y="329"/>
                  </a:lnTo>
                  <a:lnTo>
                    <a:pt x="2417" y="327"/>
                  </a:lnTo>
                  <a:lnTo>
                    <a:pt x="2409" y="325"/>
                  </a:lnTo>
                  <a:lnTo>
                    <a:pt x="2402" y="322"/>
                  </a:lnTo>
                  <a:lnTo>
                    <a:pt x="2394" y="318"/>
                  </a:lnTo>
                  <a:lnTo>
                    <a:pt x="2388" y="314"/>
                  </a:lnTo>
                  <a:lnTo>
                    <a:pt x="2382" y="309"/>
                  </a:lnTo>
                  <a:lnTo>
                    <a:pt x="2377" y="302"/>
                  </a:lnTo>
                  <a:lnTo>
                    <a:pt x="2373" y="296"/>
                  </a:lnTo>
                  <a:lnTo>
                    <a:pt x="2369" y="289"/>
                  </a:lnTo>
                  <a:lnTo>
                    <a:pt x="2366" y="282"/>
                  </a:lnTo>
                  <a:lnTo>
                    <a:pt x="2364" y="274"/>
                  </a:lnTo>
                  <a:lnTo>
                    <a:pt x="2362" y="265"/>
                  </a:lnTo>
                  <a:lnTo>
                    <a:pt x="2361" y="256"/>
                  </a:lnTo>
                  <a:lnTo>
                    <a:pt x="2361" y="245"/>
                  </a:lnTo>
                  <a:close/>
                  <a:moveTo>
                    <a:pt x="2439" y="222"/>
                  </a:moveTo>
                  <a:lnTo>
                    <a:pt x="2439" y="224"/>
                  </a:lnTo>
                  <a:lnTo>
                    <a:pt x="2439" y="225"/>
                  </a:lnTo>
                  <a:lnTo>
                    <a:pt x="2439" y="228"/>
                  </a:lnTo>
                  <a:lnTo>
                    <a:pt x="2439" y="231"/>
                  </a:lnTo>
                  <a:lnTo>
                    <a:pt x="2438" y="233"/>
                  </a:lnTo>
                  <a:lnTo>
                    <a:pt x="2437" y="235"/>
                  </a:lnTo>
                  <a:lnTo>
                    <a:pt x="2437" y="238"/>
                  </a:lnTo>
                  <a:lnTo>
                    <a:pt x="2437" y="240"/>
                  </a:lnTo>
                  <a:lnTo>
                    <a:pt x="2438" y="252"/>
                  </a:lnTo>
                  <a:lnTo>
                    <a:pt x="2442" y="261"/>
                  </a:lnTo>
                  <a:lnTo>
                    <a:pt x="2447" y="266"/>
                  </a:lnTo>
                  <a:lnTo>
                    <a:pt x="2454" y="267"/>
                  </a:lnTo>
                  <a:lnTo>
                    <a:pt x="2459" y="266"/>
                  </a:lnTo>
                  <a:lnTo>
                    <a:pt x="2464" y="263"/>
                  </a:lnTo>
                  <a:lnTo>
                    <a:pt x="2468" y="259"/>
                  </a:lnTo>
                  <a:lnTo>
                    <a:pt x="2471" y="252"/>
                  </a:lnTo>
                  <a:lnTo>
                    <a:pt x="2475" y="244"/>
                  </a:lnTo>
                  <a:lnTo>
                    <a:pt x="2477" y="234"/>
                  </a:lnTo>
                  <a:lnTo>
                    <a:pt x="2480" y="223"/>
                  </a:lnTo>
                  <a:lnTo>
                    <a:pt x="2482" y="210"/>
                  </a:lnTo>
                  <a:lnTo>
                    <a:pt x="2482" y="208"/>
                  </a:lnTo>
                  <a:lnTo>
                    <a:pt x="2483" y="205"/>
                  </a:lnTo>
                  <a:lnTo>
                    <a:pt x="2484" y="204"/>
                  </a:lnTo>
                  <a:lnTo>
                    <a:pt x="2484" y="202"/>
                  </a:lnTo>
                  <a:lnTo>
                    <a:pt x="2484" y="200"/>
                  </a:lnTo>
                  <a:lnTo>
                    <a:pt x="2484" y="198"/>
                  </a:lnTo>
                  <a:lnTo>
                    <a:pt x="2484" y="197"/>
                  </a:lnTo>
                  <a:lnTo>
                    <a:pt x="2484" y="195"/>
                  </a:lnTo>
                  <a:lnTo>
                    <a:pt x="2484" y="188"/>
                  </a:lnTo>
                  <a:lnTo>
                    <a:pt x="2483" y="181"/>
                  </a:lnTo>
                  <a:lnTo>
                    <a:pt x="2481" y="176"/>
                  </a:lnTo>
                  <a:lnTo>
                    <a:pt x="2479" y="172"/>
                  </a:lnTo>
                  <a:lnTo>
                    <a:pt x="2477" y="169"/>
                  </a:lnTo>
                  <a:lnTo>
                    <a:pt x="2474" y="168"/>
                  </a:lnTo>
                  <a:lnTo>
                    <a:pt x="2471" y="167"/>
                  </a:lnTo>
                  <a:lnTo>
                    <a:pt x="2468" y="167"/>
                  </a:lnTo>
                  <a:lnTo>
                    <a:pt x="2463" y="169"/>
                  </a:lnTo>
                  <a:lnTo>
                    <a:pt x="2458" y="172"/>
                  </a:lnTo>
                  <a:lnTo>
                    <a:pt x="2454" y="176"/>
                  </a:lnTo>
                  <a:lnTo>
                    <a:pt x="2451" y="182"/>
                  </a:lnTo>
                  <a:lnTo>
                    <a:pt x="2446" y="190"/>
                  </a:lnTo>
                  <a:lnTo>
                    <a:pt x="2444" y="199"/>
                  </a:lnTo>
                  <a:lnTo>
                    <a:pt x="2441" y="210"/>
                  </a:lnTo>
                  <a:lnTo>
                    <a:pt x="2439" y="222"/>
                  </a:lnTo>
                  <a:close/>
                  <a:moveTo>
                    <a:pt x="2593" y="323"/>
                  </a:moveTo>
                  <a:lnTo>
                    <a:pt x="2615" y="176"/>
                  </a:lnTo>
                  <a:lnTo>
                    <a:pt x="2596" y="176"/>
                  </a:lnTo>
                  <a:lnTo>
                    <a:pt x="2603" y="112"/>
                  </a:lnTo>
                  <a:lnTo>
                    <a:pt x="2626" y="112"/>
                  </a:lnTo>
                  <a:lnTo>
                    <a:pt x="2636" y="48"/>
                  </a:lnTo>
                  <a:lnTo>
                    <a:pt x="2714" y="48"/>
                  </a:lnTo>
                  <a:lnTo>
                    <a:pt x="2703" y="112"/>
                  </a:lnTo>
                  <a:lnTo>
                    <a:pt x="2729" y="112"/>
                  </a:lnTo>
                  <a:lnTo>
                    <a:pt x="2721" y="176"/>
                  </a:lnTo>
                  <a:lnTo>
                    <a:pt x="2694" y="176"/>
                  </a:lnTo>
                  <a:lnTo>
                    <a:pt x="2670" y="323"/>
                  </a:lnTo>
                  <a:lnTo>
                    <a:pt x="2593" y="323"/>
                  </a:lnTo>
                  <a:close/>
                  <a:moveTo>
                    <a:pt x="2767" y="48"/>
                  </a:moveTo>
                  <a:lnTo>
                    <a:pt x="2767" y="44"/>
                  </a:lnTo>
                  <a:lnTo>
                    <a:pt x="2768" y="40"/>
                  </a:lnTo>
                  <a:lnTo>
                    <a:pt x="2769" y="36"/>
                  </a:lnTo>
                  <a:lnTo>
                    <a:pt x="2771" y="32"/>
                  </a:lnTo>
                  <a:lnTo>
                    <a:pt x="2773" y="28"/>
                  </a:lnTo>
                  <a:lnTo>
                    <a:pt x="2775" y="24"/>
                  </a:lnTo>
                  <a:lnTo>
                    <a:pt x="2778" y="20"/>
                  </a:lnTo>
                  <a:lnTo>
                    <a:pt x="2781" y="17"/>
                  </a:lnTo>
                  <a:lnTo>
                    <a:pt x="2786" y="13"/>
                  </a:lnTo>
                  <a:lnTo>
                    <a:pt x="2792" y="10"/>
                  </a:lnTo>
                  <a:lnTo>
                    <a:pt x="2796" y="6"/>
                  </a:lnTo>
                  <a:lnTo>
                    <a:pt x="2801" y="4"/>
                  </a:lnTo>
                  <a:lnTo>
                    <a:pt x="2805" y="2"/>
                  </a:lnTo>
                  <a:lnTo>
                    <a:pt x="2810" y="1"/>
                  </a:lnTo>
                  <a:lnTo>
                    <a:pt x="2814" y="0"/>
                  </a:lnTo>
                  <a:lnTo>
                    <a:pt x="2819" y="0"/>
                  </a:lnTo>
                  <a:lnTo>
                    <a:pt x="2827" y="1"/>
                  </a:lnTo>
                  <a:lnTo>
                    <a:pt x="2835" y="3"/>
                  </a:lnTo>
                  <a:lnTo>
                    <a:pt x="2842" y="7"/>
                  </a:lnTo>
                  <a:lnTo>
                    <a:pt x="2848" y="13"/>
                  </a:lnTo>
                  <a:lnTo>
                    <a:pt x="2854" y="19"/>
                  </a:lnTo>
                  <a:lnTo>
                    <a:pt x="2857" y="26"/>
                  </a:lnTo>
                  <a:lnTo>
                    <a:pt x="2859" y="33"/>
                  </a:lnTo>
                  <a:lnTo>
                    <a:pt x="2859" y="39"/>
                  </a:lnTo>
                  <a:lnTo>
                    <a:pt x="2859" y="44"/>
                  </a:lnTo>
                  <a:lnTo>
                    <a:pt x="2858" y="50"/>
                  </a:lnTo>
                  <a:lnTo>
                    <a:pt x="2857" y="55"/>
                  </a:lnTo>
                  <a:lnTo>
                    <a:pt x="2856" y="60"/>
                  </a:lnTo>
                  <a:lnTo>
                    <a:pt x="2854" y="65"/>
                  </a:lnTo>
                  <a:lnTo>
                    <a:pt x="2851" y="69"/>
                  </a:lnTo>
                  <a:lnTo>
                    <a:pt x="2848" y="72"/>
                  </a:lnTo>
                  <a:lnTo>
                    <a:pt x="2845" y="76"/>
                  </a:lnTo>
                  <a:lnTo>
                    <a:pt x="2841" y="79"/>
                  </a:lnTo>
                  <a:lnTo>
                    <a:pt x="2836" y="81"/>
                  </a:lnTo>
                  <a:lnTo>
                    <a:pt x="2831" y="84"/>
                  </a:lnTo>
                  <a:lnTo>
                    <a:pt x="2827" y="86"/>
                  </a:lnTo>
                  <a:lnTo>
                    <a:pt x="2822" y="87"/>
                  </a:lnTo>
                  <a:lnTo>
                    <a:pt x="2817" y="89"/>
                  </a:lnTo>
                  <a:lnTo>
                    <a:pt x="2812" y="90"/>
                  </a:lnTo>
                  <a:lnTo>
                    <a:pt x="2807" y="90"/>
                  </a:lnTo>
                  <a:lnTo>
                    <a:pt x="2799" y="89"/>
                  </a:lnTo>
                  <a:lnTo>
                    <a:pt x="2791" y="87"/>
                  </a:lnTo>
                  <a:lnTo>
                    <a:pt x="2784" y="84"/>
                  </a:lnTo>
                  <a:lnTo>
                    <a:pt x="2778" y="81"/>
                  </a:lnTo>
                  <a:lnTo>
                    <a:pt x="2776" y="78"/>
                  </a:lnTo>
                  <a:lnTo>
                    <a:pt x="2773" y="75"/>
                  </a:lnTo>
                  <a:lnTo>
                    <a:pt x="2771" y="71"/>
                  </a:lnTo>
                  <a:lnTo>
                    <a:pt x="2770" y="68"/>
                  </a:lnTo>
                  <a:lnTo>
                    <a:pt x="2769" y="63"/>
                  </a:lnTo>
                  <a:lnTo>
                    <a:pt x="2768" y="58"/>
                  </a:lnTo>
                  <a:lnTo>
                    <a:pt x="2767" y="53"/>
                  </a:lnTo>
                  <a:lnTo>
                    <a:pt x="2767" y="48"/>
                  </a:lnTo>
                  <a:lnTo>
                    <a:pt x="2767" y="48"/>
                  </a:lnTo>
                  <a:close/>
                  <a:moveTo>
                    <a:pt x="2729" y="323"/>
                  </a:moveTo>
                  <a:lnTo>
                    <a:pt x="2764" y="112"/>
                  </a:lnTo>
                  <a:lnTo>
                    <a:pt x="2843" y="112"/>
                  </a:lnTo>
                  <a:lnTo>
                    <a:pt x="2809" y="323"/>
                  </a:lnTo>
                  <a:lnTo>
                    <a:pt x="2729" y="323"/>
                  </a:lnTo>
                  <a:close/>
                  <a:moveTo>
                    <a:pt x="2963" y="295"/>
                  </a:moveTo>
                  <a:lnTo>
                    <a:pt x="2961" y="295"/>
                  </a:lnTo>
                  <a:lnTo>
                    <a:pt x="2956" y="302"/>
                  </a:lnTo>
                  <a:lnTo>
                    <a:pt x="2951" y="308"/>
                  </a:lnTo>
                  <a:lnTo>
                    <a:pt x="2946" y="312"/>
                  </a:lnTo>
                  <a:lnTo>
                    <a:pt x="2940" y="316"/>
                  </a:lnTo>
                  <a:lnTo>
                    <a:pt x="2935" y="318"/>
                  </a:lnTo>
                  <a:lnTo>
                    <a:pt x="2931" y="319"/>
                  </a:lnTo>
                  <a:lnTo>
                    <a:pt x="2927" y="320"/>
                  </a:lnTo>
                  <a:lnTo>
                    <a:pt x="2923" y="321"/>
                  </a:lnTo>
                  <a:lnTo>
                    <a:pt x="2919" y="322"/>
                  </a:lnTo>
                  <a:lnTo>
                    <a:pt x="2915" y="323"/>
                  </a:lnTo>
                  <a:lnTo>
                    <a:pt x="2911" y="323"/>
                  </a:lnTo>
                  <a:lnTo>
                    <a:pt x="2907" y="323"/>
                  </a:lnTo>
                  <a:lnTo>
                    <a:pt x="2902" y="323"/>
                  </a:lnTo>
                  <a:lnTo>
                    <a:pt x="2897" y="322"/>
                  </a:lnTo>
                  <a:lnTo>
                    <a:pt x="2892" y="320"/>
                  </a:lnTo>
                  <a:lnTo>
                    <a:pt x="2887" y="318"/>
                  </a:lnTo>
                  <a:lnTo>
                    <a:pt x="2882" y="315"/>
                  </a:lnTo>
                  <a:lnTo>
                    <a:pt x="2878" y="312"/>
                  </a:lnTo>
                  <a:lnTo>
                    <a:pt x="2875" y="308"/>
                  </a:lnTo>
                  <a:lnTo>
                    <a:pt x="2871" y="302"/>
                  </a:lnTo>
                  <a:lnTo>
                    <a:pt x="2867" y="298"/>
                  </a:lnTo>
                  <a:lnTo>
                    <a:pt x="2863" y="293"/>
                  </a:lnTo>
                  <a:lnTo>
                    <a:pt x="2861" y="287"/>
                  </a:lnTo>
                  <a:lnTo>
                    <a:pt x="2859" y="280"/>
                  </a:lnTo>
                  <a:lnTo>
                    <a:pt x="2857" y="273"/>
                  </a:lnTo>
                  <a:lnTo>
                    <a:pt x="2856" y="265"/>
                  </a:lnTo>
                  <a:lnTo>
                    <a:pt x="2855" y="256"/>
                  </a:lnTo>
                  <a:lnTo>
                    <a:pt x="2855" y="245"/>
                  </a:lnTo>
                  <a:lnTo>
                    <a:pt x="2855" y="243"/>
                  </a:lnTo>
                  <a:lnTo>
                    <a:pt x="2855" y="240"/>
                  </a:lnTo>
                  <a:lnTo>
                    <a:pt x="2856" y="236"/>
                  </a:lnTo>
                  <a:lnTo>
                    <a:pt x="2857" y="231"/>
                  </a:lnTo>
                  <a:lnTo>
                    <a:pt x="2857" y="227"/>
                  </a:lnTo>
                  <a:lnTo>
                    <a:pt x="2857" y="224"/>
                  </a:lnTo>
                  <a:lnTo>
                    <a:pt x="2857" y="221"/>
                  </a:lnTo>
                  <a:lnTo>
                    <a:pt x="2857" y="217"/>
                  </a:lnTo>
                  <a:lnTo>
                    <a:pt x="2859" y="204"/>
                  </a:lnTo>
                  <a:lnTo>
                    <a:pt x="2862" y="193"/>
                  </a:lnTo>
                  <a:lnTo>
                    <a:pt x="2865" y="183"/>
                  </a:lnTo>
                  <a:lnTo>
                    <a:pt x="2869" y="173"/>
                  </a:lnTo>
                  <a:lnTo>
                    <a:pt x="2873" y="164"/>
                  </a:lnTo>
                  <a:lnTo>
                    <a:pt x="2878" y="154"/>
                  </a:lnTo>
                  <a:lnTo>
                    <a:pt x="2884" y="146"/>
                  </a:lnTo>
                  <a:lnTo>
                    <a:pt x="2891" y="138"/>
                  </a:lnTo>
                  <a:lnTo>
                    <a:pt x="2897" y="131"/>
                  </a:lnTo>
                  <a:lnTo>
                    <a:pt x="2903" y="126"/>
                  </a:lnTo>
                  <a:lnTo>
                    <a:pt x="2910" y="121"/>
                  </a:lnTo>
                  <a:lnTo>
                    <a:pt x="2916" y="117"/>
                  </a:lnTo>
                  <a:lnTo>
                    <a:pt x="2922" y="114"/>
                  </a:lnTo>
                  <a:lnTo>
                    <a:pt x="2928" y="112"/>
                  </a:lnTo>
                  <a:lnTo>
                    <a:pt x="2934" y="110"/>
                  </a:lnTo>
                  <a:lnTo>
                    <a:pt x="2941" y="110"/>
                  </a:lnTo>
                  <a:lnTo>
                    <a:pt x="2948" y="110"/>
                  </a:lnTo>
                  <a:lnTo>
                    <a:pt x="2955" y="112"/>
                  </a:lnTo>
                  <a:lnTo>
                    <a:pt x="2961" y="114"/>
                  </a:lnTo>
                  <a:lnTo>
                    <a:pt x="2967" y="117"/>
                  </a:lnTo>
                  <a:lnTo>
                    <a:pt x="2972" y="122"/>
                  </a:lnTo>
                  <a:lnTo>
                    <a:pt x="2977" y="127"/>
                  </a:lnTo>
                  <a:lnTo>
                    <a:pt x="2981" y="133"/>
                  </a:lnTo>
                  <a:lnTo>
                    <a:pt x="2986" y="140"/>
                  </a:lnTo>
                  <a:lnTo>
                    <a:pt x="2986" y="140"/>
                  </a:lnTo>
                  <a:lnTo>
                    <a:pt x="2990" y="112"/>
                  </a:lnTo>
                  <a:lnTo>
                    <a:pt x="3070" y="112"/>
                  </a:lnTo>
                  <a:lnTo>
                    <a:pt x="3035" y="332"/>
                  </a:lnTo>
                  <a:lnTo>
                    <a:pt x="3032" y="340"/>
                  </a:lnTo>
                  <a:lnTo>
                    <a:pt x="3029" y="347"/>
                  </a:lnTo>
                  <a:lnTo>
                    <a:pt x="3027" y="355"/>
                  </a:lnTo>
                  <a:lnTo>
                    <a:pt x="3024" y="361"/>
                  </a:lnTo>
                  <a:lnTo>
                    <a:pt x="3022" y="367"/>
                  </a:lnTo>
                  <a:lnTo>
                    <a:pt x="3019" y="373"/>
                  </a:lnTo>
                  <a:lnTo>
                    <a:pt x="3016" y="378"/>
                  </a:lnTo>
                  <a:lnTo>
                    <a:pt x="3013" y="382"/>
                  </a:lnTo>
                  <a:lnTo>
                    <a:pt x="3008" y="387"/>
                  </a:lnTo>
                  <a:lnTo>
                    <a:pt x="3004" y="392"/>
                  </a:lnTo>
                  <a:lnTo>
                    <a:pt x="2999" y="397"/>
                  </a:lnTo>
                  <a:lnTo>
                    <a:pt x="2994" y="400"/>
                  </a:lnTo>
                  <a:lnTo>
                    <a:pt x="2989" y="405"/>
                  </a:lnTo>
                  <a:lnTo>
                    <a:pt x="2983" y="408"/>
                  </a:lnTo>
                  <a:lnTo>
                    <a:pt x="2977" y="411"/>
                  </a:lnTo>
                  <a:lnTo>
                    <a:pt x="2971" y="414"/>
                  </a:lnTo>
                  <a:lnTo>
                    <a:pt x="2965" y="416"/>
                  </a:lnTo>
                  <a:lnTo>
                    <a:pt x="2959" y="418"/>
                  </a:lnTo>
                  <a:lnTo>
                    <a:pt x="2953" y="419"/>
                  </a:lnTo>
                  <a:lnTo>
                    <a:pt x="2947" y="420"/>
                  </a:lnTo>
                  <a:lnTo>
                    <a:pt x="2941" y="420"/>
                  </a:lnTo>
                  <a:lnTo>
                    <a:pt x="2934" y="421"/>
                  </a:lnTo>
                  <a:lnTo>
                    <a:pt x="2928" y="421"/>
                  </a:lnTo>
                  <a:lnTo>
                    <a:pt x="2921" y="421"/>
                  </a:lnTo>
                  <a:lnTo>
                    <a:pt x="2911" y="421"/>
                  </a:lnTo>
                  <a:lnTo>
                    <a:pt x="2902" y="420"/>
                  </a:lnTo>
                  <a:lnTo>
                    <a:pt x="2893" y="418"/>
                  </a:lnTo>
                  <a:lnTo>
                    <a:pt x="2884" y="416"/>
                  </a:lnTo>
                  <a:lnTo>
                    <a:pt x="2877" y="413"/>
                  </a:lnTo>
                  <a:lnTo>
                    <a:pt x="2871" y="410"/>
                  </a:lnTo>
                  <a:lnTo>
                    <a:pt x="2864" y="406"/>
                  </a:lnTo>
                  <a:lnTo>
                    <a:pt x="2859" y="401"/>
                  </a:lnTo>
                  <a:lnTo>
                    <a:pt x="2855" y="397"/>
                  </a:lnTo>
                  <a:lnTo>
                    <a:pt x="2852" y="391"/>
                  </a:lnTo>
                  <a:lnTo>
                    <a:pt x="2848" y="385"/>
                  </a:lnTo>
                  <a:lnTo>
                    <a:pt x="2846" y="379"/>
                  </a:lnTo>
                  <a:lnTo>
                    <a:pt x="2844" y="371"/>
                  </a:lnTo>
                  <a:lnTo>
                    <a:pt x="2842" y="363"/>
                  </a:lnTo>
                  <a:lnTo>
                    <a:pt x="2841" y="353"/>
                  </a:lnTo>
                  <a:lnTo>
                    <a:pt x="2841" y="344"/>
                  </a:lnTo>
                  <a:lnTo>
                    <a:pt x="2921" y="344"/>
                  </a:lnTo>
                  <a:lnTo>
                    <a:pt x="2920" y="349"/>
                  </a:lnTo>
                  <a:lnTo>
                    <a:pt x="2921" y="353"/>
                  </a:lnTo>
                  <a:lnTo>
                    <a:pt x="2922" y="357"/>
                  </a:lnTo>
                  <a:lnTo>
                    <a:pt x="2925" y="359"/>
                  </a:lnTo>
                  <a:lnTo>
                    <a:pt x="2927" y="362"/>
                  </a:lnTo>
                  <a:lnTo>
                    <a:pt x="2929" y="363"/>
                  </a:lnTo>
                  <a:lnTo>
                    <a:pt x="2932" y="364"/>
                  </a:lnTo>
                  <a:lnTo>
                    <a:pt x="2935" y="364"/>
                  </a:lnTo>
                  <a:lnTo>
                    <a:pt x="2943" y="363"/>
                  </a:lnTo>
                  <a:lnTo>
                    <a:pt x="2948" y="359"/>
                  </a:lnTo>
                  <a:lnTo>
                    <a:pt x="2951" y="351"/>
                  </a:lnTo>
                  <a:lnTo>
                    <a:pt x="2954" y="342"/>
                  </a:lnTo>
                  <a:lnTo>
                    <a:pt x="2963" y="295"/>
                  </a:lnTo>
                  <a:close/>
                  <a:moveTo>
                    <a:pt x="2935" y="238"/>
                  </a:moveTo>
                  <a:lnTo>
                    <a:pt x="2936" y="243"/>
                  </a:lnTo>
                  <a:lnTo>
                    <a:pt x="2938" y="247"/>
                  </a:lnTo>
                  <a:lnTo>
                    <a:pt x="2940" y="251"/>
                  </a:lnTo>
                  <a:lnTo>
                    <a:pt x="2941" y="254"/>
                  </a:lnTo>
                  <a:lnTo>
                    <a:pt x="2943" y="259"/>
                  </a:lnTo>
                  <a:lnTo>
                    <a:pt x="2945" y="261"/>
                  </a:lnTo>
                  <a:lnTo>
                    <a:pt x="2948" y="263"/>
                  </a:lnTo>
                  <a:lnTo>
                    <a:pt x="2950" y="264"/>
                  </a:lnTo>
                  <a:lnTo>
                    <a:pt x="2954" y="261"/>
                  </a:lnTo>
                  <a:lnTo>
                    <a:pt x="2958" y="259"/>
                  </a:lnTo>
                  <a:lnTo>
                    <a:pt x="2961" y="258"/>
                  </a:lnTo>
                  <a:lnTo>
                    <a:pt x="2963" y="254"/>
                  </a:lnTo>
                  <a:lnTo>
                    <a:pt x="2966" y="250"/>
                  </a:lnTo>
                  <a:lnTo>
                    <a:pt x="2969" y="244"/>
                  </a:lnTo>
                  <a:lnTo>
                    <a:pt x="2970" y="237"/>
                  </a:lnTo>
                  <a:lnTo>
                    <a:pt x="2971" y="229"/>
                  </a:lnTo>
                  <a:lnTo>
                    <a:pt x="2972" y="225"/>
                  </a:lnTo>
                  <a:lnTo>
                    <a:pt x="2974" y="221"/>
                  </a:lnTo>
                  <a:lnTo>
                    <a:pt x="2975" y="217"/>
                  </a:lnTo>
                  <a:lnTo>
                    <a:pt x="2976" y="213"/>
                  </a:lnTo>
                  <a:lnTo>
                    <a:pt x="2976" y="209"/>
                  </a:lnTo>
                  <a:lnTo>
                    <a:pt x="2977" y="204"/>
                  </a:lnTo>
                  <a:lnTo>
                    <a:pt x="2977" y="199"/>
                  </a:lnTo>
                  <a:lnTo>
                    <a:pt x="2977" y="195"/>
                  </a:lnTo>
                  <a:lnTo>
                    <a:pt x="2977" y="186"/>
                  </a:lnTo>
                  <a:lnTo>
                    <a:pt x="2975" y="179"/>
                  </a:lnTo>
                  <a:lnTo>
                    <a:pt x="2971" y="175"/>
                  </a:lnTo>
                  <a:lnTo>
                    <a:pt x="2964" y="174"/>
                  </a:lnTo>
                  <a:lnTo>
                    <a:pt x="2961" y="174"/>
                  </a:lnTo>
                  <a:lnTo>
                    <a:pt x="2958" y="175"/>
                  </a:lnTo>
                  <a:lnTo>
                    <a:pt x="2956" y="176"/>
                  </a:lnTo>
                  <a:lnTo>
                    <a:pt x="2954" y="179"/>
                  </a:lnTo>
                  <a:lnTo>
                    <a:pt x="2950" y="181"/>
                  </a:lnTo>
                  <a:lnTo>
                    <a:pt x="2948" y="186"/>
                  </a:lnTo>
                  <a:lnTo>
                    <a:pt x="2946" y="192"/>
                  </a:lnTo>
                  <a:lnTo>
                    <a:pt x="2943" y="200"/>
                  </a:lnTo>
                  <a:lnTo>
                    <a:pt x="2942" y="204"/>
                  </a:lnTo>
                  <a:lnTo>
                    <a:pt x="2941" y="209"/>
                  </a:lnTo>
                  <a:lnTo>
                    <a:pt x="2941" y="213"/>
                  </a:lnTo>
                  <a:lnTo>
                    <a:pt x="2940" y="218"/>
                  </a:lnTo>
                  <a:lnTo>
                    <a:pt x="2939" y="223"/>
                  </a:lnTo>
                  <a:lnTo>
                    <a:pt x="2938" y="228"/>
                  </a:lnTo>
                  <a:lnTo>
                    <a:pt x="2936" y="233"/>
                  </a:lnTo>
                  <a:lnTo>
                    <a:pt x="2935" y="238"/>
                  </a:lnTo>
                  <a:close/>
                  <a:moveTo>
                    <a:pt x="3106" y="112"/>
                  </a:moveTo>
                  <a:lnTo>
                    <a:pt x="3187" y="112"/>
                  </a:lnTo>
                  <a:lnTo>
                    <a:pt x="3167" y="231"/>
                  </a:lnTo>
                  <a:lnTo>
                    <a:pt x="3166" y="236"/>
                  </a:lnTo>
                  <a:lnTo>
                    <a:pt x="3165" y="240"/>
                  </a:lnTo>
                  <a:lnTo>
                    <a:pt x="3164" y="244"/>
                  </a:lnTo>
                  <a:lnTo>
                    <a:pt x="3163" y="247"/>
                  </a:lnTo>
                  <a:lnTo>
                    <a:pt x="3164" y="254"/>
                  </a:lnTo>
                  <a:lnTo>
                    <a:pt x="3166" y="260"/>
                  </a:lnTo>
                  <a:lnTo>
                    <a:pt x="3170" y="263"/>
                  </a:lnTo>
                  <a:lnTo>
                    <a:pt x="3174" y="264"/>
                  </a:lnTo>
                  <a:lnTo>
                    <a:pt x="3179" y="263"/>
                  </a:lnTo>
                  <a:lnTo>
                    <a:pt x="3184" y="262"/>
                  </a:lnTo>
                  <a:lnTo>
                    <a:pt x="3187" y="260"/>
                  </a:lnTo>
                  <a:lnTo>
                    <a:pt x="3189" y="259"/>
                  </a:lnTo>
                  <a:lnTo>
                    <a:pt x="3192" y="254"/>
                  </a:lnTo>
                  <a:lnTo>
                    <a:pt x="3194" y="250"/>
                  </a:lnTo>
                  <a:lnTo>
                    <a:pt x="3196" y="244"/>
                  </a:lnTo>
                  <a:lnTo>
                    <a:pt x="3196" y="237"/>
                  </a:lnTo>
                  <a:lnTo>
                    <a:pt x="3217" y="112"/>
                  </a:lnTo>
                  <a:lnTo>
                    <a:pt x="3296" y="112"/>
                  </a:lnTo>
                  <a:lnTo>
                    <a:pt x="3274" y="231"/>
                  </a:lnTo>
                  <a:lnTo>
                    <a:pt x="3270" y="252"/>
                  </a:lnTo>
                  <a:lnTo>
                    <a:pt x="3263" y="271"/>
                  </a:lnTo>
                  <a:lnTo>
                    <a:pt x="3254" y="287"/>
                  </a:lnTo>
                  <a:lnTo>
                    <a:pt x="3244" y="300"/>
                  </a:lnTo>
                  <a:lnTo>
                    <a:pt x="3229" y="311"/>
                  </a:lnTo>
                  <a:lnTo>
                    <a:pt x="3214" y="318"/>
                  </a:lnTo>
                  <a:lnTo>
                    <a:pt x="3196" y="323"/>
                  </a:lnTo>
                  <a:lnTo>
                    <a:pt x="3175" y="325"/>
                  </a:lnTo>
                  <a:lnTo>
                    <a:pt x="3155" y="326"/>
                  </a:lnTo>
                  <a:lnTo>
                    <a:pt x="3137" y="323"/>
                  </a:lnTo>
                  <a:lnTo>
                    <a:pt x="3120" y="319"/>
                  </a:lnTo>
                  <a:lnTo>
                    <a:pt x="3108" y="311"/>
                  </a:lnTo>
                  <a:lnTo>
                    <a:pt x="3098" y="301"/>
                  </a:lnTo>
                  <a:lnTo>
                    <a:pt x="3091" y="288"/>
                  </a:lnTo>
                  <a:lnTo>
                    <a:pt x="3086" y="273"/>
                  </a:lnTo>
                  <a:lnTo>
                    <a:pt x="3085" y="254"/>
                  </a:lnTo>
                  <a:lnTo>
                    <a:pt x="3085" y="252"/>
                  </a:lnTo>
                  <a:lnTo>
                    <a:pt x="3085" y="249"/>
                  </a:lnTo>
                  <a:lnTo>
                    <a:pt x="3085" y="247"/>
                  </a:lnTo>
                  <a:lnTo>
                    <a:pt x="3085" y="245"/>
                  </a:lnTo>
                  <a:lnTo>
                    <a:pt x="3085" y="243"/>
                  </a:lnTo>
                  <a:lnTo>
                    <a:pt x="3087" y="240"/>
                  </a:lnTo>
                  <a:lnTo>
                    <a:pt x="3088" y="237"/>
                  </a:lnTo>
                  <a:lnTo>
                    <a:pt x="3088" y="233"/>
                  </a:lnTo>
                  <a:lnTo>
                    <a:pt x="3106" y="112"/>
                  </a:lnTo>
                  <a:close/>
                  <a:moveTo>
                    <a:pt x="3417" y="287"/>
                  </a:moveTo>
                  <a:lnTo>
                    <a:pt x="3411" y="296"/>
                  </a:lnTo>
                  <a:lnTo>
                    <a:pt x="3405" y="303"/>
                  </a:lnTo>
                  <a:lnTo>
                    <a:pt x="3397" y="311"/>
                  </a:lnTo>
                  <a:lnTo>
                    <a:pt x="3389" y="317"/>
                  </a:lnTo>
                  <a:lnTo>
                    <a:pt x="3385" y="320"/>
                  </a:lnTo>
                  <a:lnTo>
                    <a:pt x="3382" y="322"/>
                  </a:lnTo>
                  <a:lnTo>
                    <a:pt x="3378" y="325"/>
                  </a:lnTo>
                  <a:lnTo>
                    <a:pt x="3373" y="326"/>
                  </a:lnTo>
                  <a:lnTo>
                    <a:pt x="3369" y="328"/>
                  </a:lnTo>
                  <a:lnTo>
                    <a:pt x="3365" y="329"/>
                  </a:lnTo>
                  <a:lnTo>
                    <a:pt x="3361" y="330"/>
                  </a:lnTo>
                  <a:lnTo>
                    <a:pt x="3357" y="330"/>
                  </a:lnTo>
                  <a:lnTo>
                    <a:pt x="3352" y="330"/>
                  </a:lnTo>
                  <a:lnTo>
                    <a:pt x="3347" y="329"/>
                  </a:lnTo>
                  <a:lnTo>
                    <a:pt x="3342" y="327"/>
                  </a:lnTo>
                  <a:lnTo>
                    <a:pt x="3337" y="325"/>
                  </a:lnTo>
                  <a:lnTo>
                    <a:pt x="3333" y="322"/>
                  </a:lnTo>
                  <a:lnTo>
                    <a:pt x="3329" y="319"/>
                  </a:lnTo>
                  <a:lnTo>
                    <a:pt x="3325" y="315"/>
                  </a:lnTo>
                  <a:lnTo>
                    <a:pt x="3322" y="310"/>
                  </a:lnTo>
                  <a:lnTo>
                    <a:pt x="3319" y="306"/>
                  </a:lnTo>
                  <a:lnTo>
                    <a:pt x="3316" y="300"/>
                  </a:lnTo>
                  <a:lnTo>
                    <a:pt x="3314" y="294"/>
                  </a:lnTo>
                  <a:lnTo>
                    <a:pt x="3312" y="288"/>
                  </a:lnTo>
                  <a:lnTo>
                    <a:pt x="3310" y="280"/>
                  </a:lnTo>
                  <a:lnTo>
                    <a:pt x="3309" y="273"/>
                  </a:lnTo>
                  <a:lnTo>
                    <a:pt x="3308" y="264"/>
                  </a:lnTo>
                  <a:lnTo>
                    <a:pt x="3308" y="254"/>
                  </a:lnTo>
                  <a:lnTo>
                    <a:pt x="3308" y="251"/>
                  </a:lnTo>
                  <a:lnTo>
                    <a:pt x="3308" y="248"/>
                  </a:lnTo>
                  <a:lnTo>
                    <a:pt x="3308" y="244"/>
                  </a:lnTo>
                  <a:lnTo>
                    <a:pt x="3308" y="240"/>
                  </a:lnTo>
                  <a:lnTo>
                    <a:pt x="3308" y="235"/>
                  </a:lnTo>
                  <a:lnTo>
                    <a:pt x="3309" y="231"/>
                  </a:lnTo>
                  <a:lnTo>
                    <a:pt x="3310" y="228"/>
                  </a:lnTo>
                  <a:lnTo>
                    <a:pt x="3310" y="224"/>
                  </a:lnTo>
                  <a:lnTo>
                    <a:pt x="3311" y="214"/>
                  </a:lnTo>
                  <a:lnTo>
                    <a:pt x="3313" y="204"/>
                  </a:lnTo>
                  <a:lnTo>
                    <a:pt x="3315" y="196"/>
                  </a:lnTo>
                  <a:lnTo>
                    <a:pt x="3318" y="188"/>
                  </a:lnTo>
                  <a:lnTo>
                    <a:pt x="3320" y="180"/>
                  </a:lnTo>
                  <a:lnTo>
                    <a:pt x="3323" y="173"/>
                  </a:lnTo>
                  <a:lnTo>
                    <a:pt x="3325" y="166"/>
                  </a:lnTo>
                  <a:lnTo>
                    <a:pt x="3329" y="160"/>
                  </a:lnTo>
                  <a:lnTo>
                    <a:pt x="3332" y="153"/>
                  </a:lnTo>
                  <a:lnTo>
                    <a:pt x="3335" y="147"/>
                  </a:lnTo>
                  <a:lnTo>
                    <a:pt x="3339" y="141"/>
                  </a:lnTo>
                  <a:lnTo>
                    <a:pt x="3342" y="136"/>
                  </a:lnTo>
                  <a:lnTo>
                    <a:pt x="3346" y="131"/>
                  </a:lnTo>
                  <a:lnTo>
                    <a:pt x="3350" y="127"/>
                  </a:lnTo>
                  <a:lnTo>
                    <a:pt x="3354" y="123"/>
                  </a:lnTo>
                  <a:lnTo>
                    <a:pt x="3358" y="120"/>
                  </a:lnTo>
                  <a:lnTo>
                    <a:pt x="3362" y="118"/>
                  </a:lnTo>
                  <a:lnTo>
                    <a:pt x="3365" y="115"/>
                  </a:lnTo>
                  <a:lnTo>
                    <a:pt x="3369" y="114"/>
                  </a:lnTo>
                  <a:lnTo>
                    <a:pt x="3374" y="112"/>
                  </a:lnTo>
                  <a:lnTo>
                    <a:pt x="3379" y="111"/>
                  </a:lnTo>
                  <a:lnTo>
                    <a:pt x="3383" y="111"/>
                  </a:lnTo>
                  <a:lnTo>
                    <a:pt x="3388" y="110"/>
                  </a:lnTo>
                  <a:lnTo>
                    <a:pt x="3393" y="110"/>
                  </a:lnTo>
                  <a:lnTo>
                    <a:pt x="3400" y="111"/>
                  </a:lnTo>
                  <a:lnTo>
                    <a:pt x="3407" y="112"/>
                  </a:lnTo>
                  <a:lnTo>
                    <a:pt x="3415" y="115"/>
                  </a:lnTo>
                  <a:lnTo>
                    <a:pt x="3421" y="119"/>
                  </a:lnTo>
                  <a:lnTo>
                    <a:pt x="3427" y="125"/>
                  </a:lnTo>
                  <a:lnTo>
                    <a:pt x="3432" y="131"/>
                  </a:lnTo>
                  <a:lnTo>
                    <a:pt x="3436" y="138"/>
                  </a:lnTo>
                  <a:lnTo>
                    <a:pt x="3438" y="145"/>
                  </a:lnTo>
                  <a:lnTo>
                    <a:pt x="3438" y="145"/>
                  </a:lnTo>
                  <a:lnTo>
                    <a:pt x="3441" y="112"/>
                  </a:lnTo>
                  <a:lnTo>
                    <a:pt x="3521" y="112"/>
                  </a:lnTo>
                  <a:lnTo>
                    <a:pt x="3486" y="323"/>
                  </a:lnTo>
                  <a:lnTo>
                    <a:pt x="3409" y="323"/>
                  </a:lnTo>
                  <a:lnTo>
                    <a:pt x="3417" y="287"/>
                  </a:lnTo>
                  <a:lnTo>
                    <a:pt x="3417" y="287"/>
                  </a:lnTo>
                  <a:close/>
                  <a:moveTo>
                    <a:pt x="3387" y="237"/>
                  </a:moveTo>
                  <a:lnTo>
                    <a:pt x="3387" y="247"/>
                  </a:lnTo>
                  <a:lnTo>
                    <a:pt x="3389" y="254"/>
                  </a:lnTo>
                  <a:lnTo>
                    <a:pt x="3393" y="260"/>
                  </a:lnTo>
                  <a:lnTo>
                    <a:pt x="3400" y="264"/>
                  </a:lnTo>
                  <a:lnTo>
                    <a:pt x="3403" y="261"/>
                  </a:lnTo>
                  <a:lnTo>
                    <a:pt x="3406" y="259"/>
                  </a:lnTo>
                  <a:lnTo>
                    <a:pt x="3410" y="258"/>
                  </a:lnTo>
                  <a:lnTo>
                    <a:pt x="3414" y="254"/>
                  </a:lnTo>
                  <a:lnTo>
                    <a:pt x="3415" y="251"/>
                  </a:lnTo>
                  <a:lnTo>
                    <a:pt x="3417" y="247"/>
                  </a:lnTo>
                  <a:lnTo>
                    <a:pt x="3419" y="243"/>
                  </a:lnTo>
                  <a:lnTo>
                    <a:pt x="3421" y="238"/>
                  </a:lnTo>
                  <a:lnTo>
                    <a:pt x="3422" y="234"/>
                  </a:lnTo>
                  <a:lnTo>
                    <a:pt x="3423" y="229"/>
                  </a:lnTo>
                  <a:lnTo>
                    <a:pt x="3424" y="224"/>
                  </a:lnTo>
                  <a:lnTo>
                    <a:pt x="3427" y="219"/>
                  </a:lnTo>
                  <a:lnTo>
                    <a:pt x="3427" y="214"/>
                  </a:lnTo>
                  <a:lnTo>
                    <a:pt x="3428" y="209"/>
                  </a:lnTo>
                  <a:lnTo>
                    <a:pt x="3429" y="204"/>
                  </a:lnTo>
                  <a:lnTo>
                    <a:pt x="3429" y="202"/>
                  </a:lnTo>
                  <a:lnTo>
                    <a:pt x="3429" y="202"/>
                  </a:lnTo>
                  <a:lnTo>
                    <a:pt x="3429" y="201"/>
                  </a:lnTo>
                  <a:lnTo>
                    <a:pt x="3429" y="199"/>
                  </a:lnTo>
                  <a:lnTo>
                    <a:pt x="3429" y="197"/>
                  </a:lnTo>
                  <a:lnTo>
                    <a:pt x="3429" y="197"/>
                  </a:lnTo>
                  <a:lnTo>
                    <a:pt x="3429" y="196"/>
                  </a:lnTo>
                  <a:lnTo>
                    <a:pt x="3429" y="194"/>
                  </a:lnTo>
                  <a:lnTo>
                    <a:pt x="3429" y="193"/>
                  </a:lnTo>
                  <a:lnTo>
                    <a:pt x="3428" y="184"/>
                  </a:lnTo>
                  <a:lnTo>
                    <a:pt x="3426" y="178"/>
                  </a:lnTo>
                  <a:lnTo>
                    <a:pt x="3421" y="175"/>
                  </a:lnTo>
                  <a:lnTo>
                    <a:pt x="3416" y="174"/>
                  </a:lnTo>
                  <a:lnTo>
                    <a:pt x="3412" y="174"/>
                  </a:lnTo>
                  <a:lnTo>
                    <a:pt x="3409" y="175"/>
                  </a:lnTo>
                  <a:lnTo>
                    <a:pt x="3406" y="176"/>
                  </a:lnTo>
                  <a:lnTo>
                    <a:pt x="3403" y="179"/>
                  </a:lnTo>
                  <a:lnTo>
                    <a:pt x="3400" y="182"/>
                  </a:lnTo>
                  <a:lnTo>
                    <a:pt x="3398" y="186"/>
                  </a:lnTo>
                  <a:lnTo>
                    <a:pt x="3395" y="192"/>
                  </a:lnTo>
                  <a:lnTo>
                    <a:pt x="3393" y="198"/>
                  </a:lnTo>
                  <a:lnTo>
                    <a:pt x="3391" y="207"/>
                  </a:lnTo>
                  <a:lnTo>
                    <a:pt x="3389" y="216"/>
                  </a:lnTo>
                  <a:lnTo>
                    <a:pt x="3388" y="226"/>
                  </a:lnTo>
                  <a:lnTo>
                    <a:pt x="3387" y="237"/>
                  </a:lnTo>
                  <a:close/>
                  <a:moveTo>
                    <a:pt x="3529" y="323"/>
                  </a:moveTo>
                  <a:lnTo>
                    <a:pt x="3562" y="112"/>
                  </a:lnTo>
                  <a:lnTo>
                    <a:pt x="3642" y="112"/>
                  </a:lnTo>
                  <a:lnTo>
                    <a:pt x="3629" y="152"/>
                  </a:lnTo>
                  <a:lnTo>
                    <a:pt x="3629" y="154"/>
                  </a:lnTo>
                  <a:lnTo>
                    <a:pt x="3636" y="143"/>
                  </a:lnTo>
                  <a:lnTo>
                    <a:pt x="3643" y="134"/>
                  </a:lnTo>
                  <a:lnTo>
                    <a:pt x="3651" y="126"/>
                  </a:lnTo>
                  <a:lnTo>
                    <a:pt x="3659" y="119"/>
                  </a:lnTo>
                  <a:lnTo>
                    <a:pt x="3667" y="114"/>
                  </a:lnTo>
                  <a:lnTo>
                    <a:pt x="3676" y="111"/>
                  </a:lnTo>
                  <a:lnTo>
                    <a:pt x="3685" y="110"/>
                  </a:lnTo>
                  <a:lnTo>
                    <a:pt x="3695" y="110"/>
                  </a:lnTo>
                  <a:lnTo>
                    <a:pt x="3683" y="195"/>
                  </a:lnTo>
                  <a:lnTo>
                    <a:pt x="3675" y="192"/>
                  </a:lnTo>
                  <a:lnTo>
                    <a:pt x="3668" y="190"/>
                  </a:lnTo>
                  <a:lnTo>
                    <a:pt x="3662" y="188"/>
                  </a:lnTo>
                  <a:lnTo>
                    <a:pt x="3657" y="188"/>
                  </a:lnTo>
                  <a:lnTo>
                    <a:pt x="3651" y="189"/>
                  </a:lnTo>
                  <a:lnTo>
                    <a:pt x="3645" y="191"/>
                  </a:lnTo>
                  <a:lnTo>
                    <a:pt x="3639" y="195"/>
                  </a:lnTo>
                  <a:lnTo>
                    <a:pt x="3635" y="200"/>
                  </a:lnTo>
                  <a:lnTo>
                    <a:pt x="3632" y="204"/>
                  </a:lnTo>
                  <a:lnTo>
                    <a:pt x="3630" y="208"/>
                  </a:lnTo>
                  <a:lnTo>
                    <a:pt x="3628" y="212"/>
                  </a:lnTo>
                  <a:lnTo>
                    <a:pt x="3626" y="216"/>
                  </a:lnTo>
                  <a:lnTo>
                    <a:pt x="3624" y="220"/>
                  </a:lnTo>
                  <a:lnTo>
                    <a:pt x="3623" y="225"/>
                  </a:lnTo>
                  <a:lnTo>
                    <a:pt x="3622" y="229"/>
                  </a:lnTo>
                  <a:lnTo>
                    <a:pt x="3620" y="233"/>
                  </a:lnTo>
                  <a:lnTo>
                    <a:pt x="3607" y="323"/>
                  </a:lnTo>
                  <a:lnTo>
                    <a:pt x="3529" y="323"/>
                  </a:lnTo>
                  <a:close/>
                  <a:moveTo>
                    <a:pt x="3927" y="294"/>
                  </a:moveTo>
                  <a:lnTo>
                    <a:pt x="3922" y="302"/>
                  </a:lnTo>
                  <a:lnTo>
                    <a:pt x="3916" y="310"/>
                  </a:lnTo>
                  <a:lnTo>
                    <a:pt x="3909" y="316"/>
                  </a:lnTo>
                  <a:lnTo>
                    <a:pt x="3903" y="321"/>
                  </a:lnTo>
                  <a:lnTo>
                    <a:pt x="3899" y="323"/>
                  </a:lnTo>
                  <a:lnTo>
                    <a:pt x="3896" y="324"/>
                  </a:lnTo>
                  <a:lnTo>
                    <a:pt x="3892" y="326"/>
                  </a:lnTo>
                  <a:lnTo>
                    <a:pt x="3888" y="327"/>
                  </a:lnTo>
                  <a:lnTo>
                    <a:pt x="3884" y="328"/>
                  </a:lnTo>
                  <a:lnTo>
                    <a:pt x="3880" y="329"/>
                  </a:lnTo>
                  <a:lnTo>
                    <a:pt x="3877" y="330"/>
                  </a:lnTo>
                  <a:lnTo>
                    <a:pt x="3873" y="330"/>
                  </a:lnTo>
                  <a:lnTo>
                    <a:pt x="3868" y="330"/>
                  </a:lnTo>
                  <a:lnTo>
                    <a:pt x="3862" y="329"/>
                  </a:lnTo>
                  <a:lnTo>
                    <a:pt x="3857" y="327"/>
                  </a:lnTo>
                  <a:lnTo>
                    <a:pt x="3853" y="325"/>
                  </a:lnTo>
                  <a:lnTo>
                    <a:pt x="3848" y="322"/>
                  </a:lnTo>
                  <a:lnTo>
                    <a:pt x="3844" y="319"/>
                  </a:lnTo>
                  <a:lnTo>
                    <a:pt x="3841" y="315"/>
                  </a:lnTo>
                  <a:lnTo>
                    <a:pt x="3837" y="310"/>
                  </a:lnTo>
                  <a:lnTo>
                    <a:pt x="3833" y="306"/>
                  </a:lnTo>
                  <a:lnTo>
                    <a:pt x="3830" y="300"/>
                  </a:lnTo>
                  <a:lnTo>
                    <a:pt x="3828" y="294"/>
                  </a:lnTo>
                  <a:lnTo>
                    <a:pt x="3826" y="288"/>
                  </a:lnTo>
                  <a:lnTo>
                    <a:pt x="3825" y="280"/>
                  </a:lnTo>
                  <a:lnTo>
                    <a:pt x="3824" y="273"/>
                  </a:lnTo>
                  <a:lnTo>
                    <a:pt x="3823" y="264"/>
                  </a:lnTo>
                  <a:lnTo>
                    <a:pt x="3823" y="254"/>
                  </a:lnTo>
                  <a:lnTo>
                    <a:pt x="3823" y="243"/>
                  </a:lnTo>
                  <a:lnTo>
                    <a:pt x="3824" y="232"/>
                  </a:lnTo>
                  <a:lnTo>
                    <a:pt x="3824" y="222"/>
                  </a:lnTo>
                  <a:lnTo>
                    <a:pt x="3825" y="212"/>
                  </a:lnTo>
                  <a:lnTo>
                    <a:pt x="3827" y="202"/>
                  </a:lnTo>
                  <a:lnTo>
                    <a:pt x="3828" y="193"/>
                  </a:lnTo>
                  <a:lnTo>
                    <a:pt x="3831" y="184"/>
                  </a:lnTo>
                  <a:lnTo>
                    <a:pt x="3833" y="176"/>
                  </a:lnTo>
                  <a:lnTo>
                    <a:pt x="3836" y="168"/>
                  </a:lnTo>
                  <a:lnTo>
                    <a:pt x="3839" y="161"/>
                  </a:lnTo>
                  <a:lnTo>
                    <a:pt x="3842" y="153"/>
                  </a:lnTo>
                  <a:lnTo>
                    <a:pt x="3846" y="147"/>
                  </a:lnTo>
                  <a:lnTo>
                    <a:pt x="3851" y="141"/>
                  </a:lnTo>
                  <a:lnTo>
                    <a:pt x="3856" y="135"/>
                  </a:lnTo>
                  <a:lnTo>
                    <a:pt x="3861" y="129"/>
                  </a:lnTo>
                  <a:lnTo>
                    <a:pt x="3868" y="124"/>
                  </a:lnTo>
                  <a:lnTo>
                    <a:pt x="3873" y="120"/>
                  </a:lnTo>
                  <a:lnTo>
                    <a:pt x="3877" y="117"/>
                  </a:lnTo>
                  <a:lnTo>
                    <a:pt x="3882" y="115"/>
                  </a:lnTo>
                  <a:lnTo>
                    <a:pt x="3887" y="113"/>
                  </a:lnTo>
                  <a:lnTo>
                    <a:pt x="3892" y="112"/>
                  </a:lnTo>
                  <a:lnTo>
                    <a:pt x="3896" y="111"/>
                  </a:lnTo>
                  <a:lnTo>
                    <a:pt x="3901" y="110"/>
                  </a:lnTo>
                  <a:lnTo>
                    <a:pt x="3905" y="110"/>
                  </a:lnTo>
                  <a:lnTo>
                    <a:pt x="3909" y="110"/>
                  </a:lnTo>
                  <a:lnTo>
                    <a:pt x="3915" y="110"/>
                  </a:lnTo>
                  <a:lnTo>
                    <a:pt x="3918" y="111"/>
                  </a:lnTo>
                  <a:lnTo>
                    <a:pt x="3922" y="112"/>
                  </a:lnTo>
                  <a:lnTo>
                    <a:pt x="3926" y="113"/>
                  </a:lnTo>
                  <a:lnTo>
                    <a:pt x="3930" y="115"/>
                  </a:lnTo>
                  <a:lnTo>
                    <a:pt x="3933" y="117"/>
                  </a:lnTo>
                  <a:lnTo>
                    <a:pt x="3937" y="119"/>
                  </a:lnTo>
                  <a:lnTo>
                    <a:pt x="3942" y="124"/>
                  </a:lnTo>
                  <a:lnTo>
                    <a:pt x="3946" y="130"/>
                  </a:lnTo>
                  <a:lnTo>
                    <a:pt x="3949" y="136"/>
                  </a:lnTo>
                  <a:lnTo>
                    <a:pt x="3951" y="143"/>
                  </a:lnTo>
                  <a:lnTo>
                    <a:pt x="3951" y="143"/>
                  </a:lnTo>
                  <a:lnTo>
                    <a:pt x="3952" y="134"/>
                  </a:lnTo>
                  <a:lnTo>
                    <a:pt x="3953" y="126"/>
                  </a:lnTo>
                  <a:lnTo>
                    <a:pt x="3954" y="117"/>
                  </a:lnTo>
                  <a:lnTo>
                    <a:pt x="3956" y="109"/>
                  </a:lnTo>
                  <a:lnTo>
                    <a:pt x="3957" y="100"/>
                  </a:lnTo>
                  <a:lnTo>
                    <a:pt x="3958" y="92"/>
                  </a:lnTo>
                  <a:lnTo>
                    <a:pt x="3959" y="84"/>
                  </a:lnTo>
                  <a:lnTo>
                    <a:pt x="3960" y="76"/>
                  </a:lnTo>
                  <a:lnTo>
                    <a:pt x="3961" y="68"/>
                  </a:lnTo>
                  <a:lnTo>
                    <a:pt x="3964" y="60"/>
                  </a:lnTo>
                  <a:lnTo>
                    <a:pt x="3965" y="50"/>
                  </a:lnTo>
                  <a:lnTo>
                    <a:pt x="3967" y="42"/>
                  </a:lnTo>
                  <a:lnTo>
                    <a:pt x="3968" y="33"/>
                  </a:lnTo>
                  <a:lnTo>
                    <a:pt x="3970" y="24"/>
                  </a:lnTo>
                  <a:lnTo>
                    <a:pt x="3971" y="14"/>
                  </a:lnTo>
                  <a:lnTo>
                    <a:pt x="3973" y="3"/>
                  </a:lnTo>
                  <a:lnTo>
                    <a:pt x="4050" y="3"/>
                  </a:lnTo>
                  <a:lnTo>
                    <a:pt x="4000" y="323"/>
                  </a:lnTo>
                  <a:lnTo>
                    <a:pt x="3920" y="323"/>
                  </a:lnTo>
                  <a:lnTo>
                    <a:pt x="3927" y="294"/>
                  </a:lnTo>
                  <a:lnTo>
                    <a:pt x="3927" y="294"/>
                  </a:lnTo>
                  <a:close/>
                  <a:moveTo>
                    <a:pt x="3903" y="244"/>
                  </a:moveTo>
                  <a:lnTo>
                    <a:pt x="3904" y="250"/>
                  </a:lnTo>
                  <a:lnTo>
                    <a:pt x="3906" y="254"/>
                  </a:lnTo>
                  <a:lnTo>
                    <a:pt x="3910" y="258"/>
                  </a:lnTo>
                  <a:lnTo>
                    <a:pt x="3916" y="259"/>
                  </a:lnTo>
                  <a:lnTo>
                    <a:pt x="3922" y="258"/>
                  </a:lnTo>
                  <a:lnTo>
                    <a:pt x="3927" y="254"/>
                  </a:lnTo>
                  <a:lnTo>
                    <a:pt x="3931" y="250"/>
                  </a:lnTo>
                  <a:lnTo>
                    <a:pt x="3935" y="244"/>
                  </a:lnTo>
                  <a:lnTo>
                    <a:pt x="3936" y="239"/>
                  </a:lnTo>
                  <a:lnTo>
                    <a:pt x="3938" y="234"/>
                  </a:lnTo>
                  <a:lnTo>
                    <a:pt x="3939" y="229"/>
                  </a:lnTo>
                  <a:lnTo>
                    <a:pt x="3940" y="223"/>
                  </a:lnTo>
                  <a:lnTo>
                    <a:pt x="3941" y="217"/>
                  </a:lnTo>
                  <a:lnTo>
                    <a:pt x="3942" y="211"/>
                  </a:lnTo>
                  <a:lnTo>
                    <a:pt x="3943" y="203"/>
                  </a:lnTo>
                  <a:lnTo>
                    <a:pt x="3944" y="195"/>
                  </a:lnTo>
                  <a:lnTo>
                    <a:pt x="3943" y="186"/>
                  </a:lnTo>
                  <a:lnTo>
                    <a:pt x="3940" y="179"/>
                  </a:lnTo>
                  <a:lnTo>
                    <a:pt x="3936" y="175"/>
                  </a:lnTo>
                  <a:lnTo>
                    <a:pt x="3930" y="174"/>
                  </a:lnTo>
                  <a:lnTo>
                    <a:pt x="3928" y="174"/>
                  </a:lnTo>
                  <a:lnTo>
                    <a:pt x="3925" y="175"/>
                  </a:lnTo>
                  <a:lnTo>
                    <a:pt x="3922" y="176"/>
                  </a:lnTo>
                  <a:lnTo>
                    <a:pt x="3918" y="179"/>
                  </a:lnTo>
                  <a:lnTo>
                    <a:pt x="3916" y="181"/>
                  </a:lnTo>
                  <a:lnTo>
                    <a:pt x="3913" y="184"/>
                  </a:lnTo>
                  <a:lnTo>
                    <a:pt x="3911" y="187"/>
                  </a:lnTo>
                  <a:lnTo>
                    <a:pt x="3910" y="190"/>
                  </a:lnTo>
                  <a:lnTo>
                    <a:pt x="3908" y="197"/>
                  </a:lnTo>
                  <a:lnTo>
                    <a:pt x="3907" y="203"/>
                  </a:lnTo>
                  <a:lnTo>
                    <a:pt x="3906" y="210"/>
                  </a:lnTo>
                  <a:lnTo>
                    <a:pt x="3905" y="215"/>
                  </a:lnTo>
                  <a:lnTo>
                    <a:pt x="3904" y="220"/>
                  </a:lnTo>
                  <a:lnTo>
                    <a:pt x="3903" y="224"/>
                  </a:lnTo>
                  <a:lnTo>
                    <a:pt x="3903" y="228"/>
                  </a:lnTo>
                  <a:lnTo>
                    <a:pt x="3903" y="231"/>
                  </a:lnTo>
                  <a:lnTo>
                    <a:pt x="3903" y="233"/>
                  </a:lnTo>
                  <a:lnTo>
                    <a:pt x="3903" y="236"/>
                  </a:lnTo>
                  <a:lnTo>
                    <a:pt x="3903" y="240"/>
                  </a:lnTo>
                  <a:lnTo>
                    <a:pt x="3903" y="244"/>
                  </a:lnTo>
                  <a:lnTo>
                    <a:pt x="3903" y="244"/>
                  </a:lnTo>
                  <a:close/>
                  <a:moveTo>
                    <a:pt x="4134" y="188"/>
                  </a:moveTo>
                  <a:lnTo>
                    <a:pt x="4170" y="188"/>
                  </a:lnTo>
                  <a:lnTo>
                    <a:pt x="4170" y="183"/>
                  </a:lnTo>
                  <a:lnTo>
                    <a:pt x="4169" y="174"/>
                  </a:lnTo>
                  <a:lnTo>
                    <a:pt x="4166" y="169"/>
                  </a:lnTo>
                  <a:lnTo>
                    <a:pt x="4162" y="166"/>
                  </a:lnTo>
                  <a:lnTo>
                    <a:pt x="4155" y="165"/>
                  </a:lnTo>
                  <a:lnTo>
                    <a:pt x="4151" y="165"/>
                  </a:lnTo>
                  <a:lnTo>
                    <a:pt x="4148" y="166"/>
                  </a:lnTo>
                  <a:lnTo>
                    <a:pt x="4145" y="168"/>
                  </a:lnTo>
                  <a:lnTo>
                    <a:pt x="4143" y="169"/>
                  </a:lnTo>
                  <a:lnTo>
                    <a:pt x="4140" y="173"/>
                  </a:lnTo>
                  <a:lnTo>
                    <a:pt x="4137" y="178"/>
                  </a:lnTo>
                  <a:lnTo>
                    <a:pt x="4136" y="183"/>
                  </a:lnTo>
                  <a:lnTo>
                    <a:pt x="4134" y="188"/>
                  </a:lnTo>
                  <a:close/>
                  <a:moveTo>
                    <a:pt x="4127" y="233"/>
                  </a:moveTo>
                  <a:lnTo>
                    <a:pt x="4127" y="235"/>
                  </a:lnTo>
                  <a:lnTo>
                    <a:pt x="4126" y="237"/>
                  </a:lnTo>
                  <a:lnTo>
                    <a:pt x="4124" y="239"/>
                  </a:lnTo>
                  <a:lnTo>
                    <a:pt x="4124" y="240"/>
                  </a:lnTo>
                  <a:lnTo>
                    <a:pt x="4124" y="241"/>
                  </a:lnTo>
                  <a:lnTo>
                    <a:pt x="4124" y="243"/>
                  </a:lnTo>
                  <a:lnTo>
                    <a:pt x="4124" y="245"/>
                  </a:lnTo>
                  <a:lnTo>
                    <a:pt x="4124" y="247"/>
                  </a:lnTo>
                  <a:lnTo>
                    <a:pt x="4125" y="256"/>
                  </a:lnTo>
                  <a:lnTo>
                    <a:pt x="4128" y="262"/>
                  </a:lnTo>
                  <a:lnTo>
                    <a:pt x="4132" y="266"/>
                  </a:lnTo>
                  <a:lnTo>
                    <a:pt x="4138" y="267"/>
                  </a:lnTo>
                  <a:lnTo>
                    <a:pt x="4140" y="267"/>
                  </a:lnTo>
                  <a:lnTo>
                    <a:pt x="4143" y="266"/>
                  </a:lnTo>
                  <a:lnTo>
                    <a:pt x="4146" y="265"/>
                  </a:lnTo>
                  <a:lnTo>
                    <a:pt x="4150" y="264"/>
                  </a:lnTo>
                  <a:lnTo>
                    <a:pt x="4153" y="261"/>
                  </a:lnTo>
                  <a:lnTo>
                    <a:pt x="4155" y="258"/>
                  </a:lnTo>
                  <a:lnTo>
                    <a:pt x="4157" y="254"/>
                  </a:lnTo>
                  <a:lnTo>
                    <a:pt x="4157" y="252"/>
                  </a:lnTo>
                  <a:lnTo>
                    <a:pt x="4235" y="252"/>
                  </a:lnTo>
                  <a:lnTo>
                    <a:pt x="4232" y="261"/>
                  </a:lnTo>
                  <a:lnTo>
                    <a:pt x="4229" y="268"/>
                  </a:lnTo>
                  <a:lnTo>
                    <a:pt x="4224" y="276"/>
                  </a:lnTo>
                  <a:lnTo>
                    <a:pt x="4220" y="283"/>
                  </a:lnTo>
                  <a:lnTo>
                    <a:pt x="4214" y="290"/>
                  </a:lnTo>
                  <a:lnTo>
                    <a:pt x="4207" y="296"/>
                  </a:lnTo>
                  <a:lnTo>
                    <a:pt x="4201" y="302"/>
                  </a:lnTo>
                  <a:lnTo>
                    <a:pt x="4193" y="309"/>
                  </a:lnTo>
                  <a:lnTo>
                    <a:pt x="4186" y="314"/>
                  </a:lnTo>
                  <a:lnTo>
                    <a:pt x="4178" y="318"/>
                  </a:lnTo>
                  <a:lnTo>
                    <a:pt x="4170" y="322"/>
                  </a:lnTo>
                  <a:lnTo>
                    <a:pt x="4162" y="325"/>
                  </a:lnTo>
                  <a:lnTo>
                    <a:pt x="4153" y="327"/>
                  </a:lnTo>
                  <a:lnTo>
                    <a:pt x="4145" y="329"/>
                  </a:lnTo>
                  <a:lnTo>
                    <a:pt x="4137" y="330"/>
                  </a:lnTo>
                  <a:lnTo>
                    <a:pt x="4129" y="330"/>
                  </a:lnTo>
                  <a:lnTo>
                    <a:pt x="4123" y="330"/>
                  </a:lnTo>
                  <a:lnTo>
                    <a:pt x="4117" y="329"/>
                  </a:lnTo>
                  <a:lnTo>
                    <a:pt x="4112" y="328"/>
                  </a:lnTo>
                  <a:lnTo>
                    <a:pt x="4105" y="326"/>
                  </a:lnTo>
                  <a:lnTo>
                    <a:pt x="4100" y="325"/>
                  </a:lnTo>
                  <a:lnTo>
                    <a:pt x="4095" y="322"/>
                  </a:lnTo>
                  <a:lnTo>
                    <a:pt x="4089" y="320"/>
                  </a:lnTo>
                  <a:lnTo>
                    <a:pt x="4084" y="317"/>
                  </a:lnTo>
                  <a:lnTo>
                    <a:pt x="4080" y="314"/>
                  </a:lnTo>
                  <a:lnTo>
                    <a:pt x="4075" y="311"/>
                  </a:lnTo>
                  <a:lnTo>
                    <a:pt x="4071" y="308"/>
                  </a:lnTo>
                  <a:lnTo>
                    <a:pt x="4067" y="303"/>
                  </a:lnTo>
                  <a:lnTo>
                    <a:pt x="4063" y="299"/>
                  </a:lnTo>
                  <a:lnTo>
                    <a:pt x="4059" y="295"/>
                  </a:lnTo>
                  <a:lnTo>
                    <a:pt x="4056" y="290"/>
                  </a:lnTo>
                  <a:lnTo>
                    <a:pt x="4053" y="285"/>
                  </a:lnTo>
                  <a:lnTo>
                    <a:pt x="4051" y="278"/>
                  </a:lnTo>
                  <a:lnTo>
                    <a:pt x="4049" y="271"/>
                  </a:lnTo>
                  <a:lnTo>
                    <a:pt x="4047" y="264"/>
                  </a:lnTo>
                  <a:lnTo>
                    <a:pt x="4047" y="257"/>
                  </a:lnTo>
                  <a:lnTo>
                    <a:pt x="4046" y="249"/>
                  </a:lnTo>
                  <a:lnTo>
                    <a:pt x="4046" y="241"/>
                  </a:lnTo>
                  <a:lnTo>
                    <a:pt x="4046" y="234"/>
                  </a:lnTo>
                  <a:lnTo>
                    <a:pt x="4046" y="226"/>
                  </a:lnTo>
                  <a:lnTo>
                    <a:pt x="4048" y="218"/>
                  </a:lnTo>
                  <a:lnTo>
                    <a:pt x="4050" y="211"/>
                  </a:lnTo>
                  <a:lnTo>
                    <a:pt x="4052" y="203"/>
                  </a:lnTo>
                  <a:lnTo>
                    <a:pt x="4054" y="195"/>
                  </a:lnTo>
                  <a:lnTo>
                    <a:pt x="4057" y="189"/>
                  </a:lnTo>
                  <a:lnTo>
                    <a:pt x="4060" y="182"/>
                  </a:lnTo>
                  <a:lnTo>
                    <a:pt x="4064" y="175"/>
                  </a:lnTo>
                  <a:lnTo>
                    <a:pt x="4067" y="169"/>
                  </a:lnTo>
                  <a:lnTo>
                    <a:pt x="4072" y="162"/>
                  </a:lnTo>
                  <a:lnTo>
                    <a:pt x="4076" y="155"/>
                  </a:lnTo>
                  <a:lnTo>
                    <a:pt x="4081" y="149"/>
                  </a:lnTo>
                  <a:lnTo>
                    <a:pt x="4086" y="144"/>
                  </a:lnTo>
                  <a:lnTo>
                    <a:pt x="4090" y="139"/>
                  </a:lnTo>
                  <a:lnTo>
                    <a:pt x="4096" y="134"/>
                  </a:lnTo>
                  <a:lnTo>
                    <a:pt x="4101" y="130"/>
                  </a:lnTo>
                  <a:lnTo>
                    <a:pt x="4107" y="126"/>
                  </a:lnTo>
                  <a:lnTo>
                    <a:pt x="4114" y="123"/>
                  </a:lnTo>
                  <a:lnTo>
                    <a:pt x="4121" y="120"/>
                  </a:lnTo>
                  <a:lnTo>
                    <a:pt x="4127" y="117"/>
                  </a:lnTo>
                  <a:lnTo>
                    <a:pt x="4134" y="115"/>
                  </a:lnTo>
                  <a:lnTo>
                    <a:pt x="4141" y="113"/>
                  </a:lnTo>
                  <a:lnTo>
                    <a:pt x="4148" y="111"/>
                  </a:lnTo>
                  <a:lnTo>
                    <a:pt x="4155" y="110"/>
                  </a:lnTo>
                  <a:lnTo>
                    <a:pt x="4163" y="110"/>
                  </a:lnTo>
                  <a:lnTo>
                    <a:pt x="4172" y="110"/>
                  </a:lnTo>
                  <a:lnTo>
                    <a:pt x="4181" y="111"/>
                  </a:lnTo>
                  <a:lnTo>
                    <a:pt x="4189" y="113"/>
                  </a:lnTo>
                  <a:lnTo>
                    <a:pt x="4196" y="115"/>
                  </a:lnTo>
                  <a:lnTo>
                    <a:pt x="4203" y="118"/>
                  </a:lnTo>
                  <a:lnTo>
                    <a:pt x="4211" y="122"/>
                  </a:lnTo>
                  <a:lnTo>
                    <a:pt x="4217" y="126"/>
                  </a:lnTo>
                  <a:lnTo>
                    <a:pt x="4222" y="131"/>
                  </a:lnTo>
                  <a:lnTo>
                    <a:pt x="4227" y="137"/>
                  </a:lnTo>
                  <a:lnTo>
                    <a:pt x="4231" y="143"/>
                  </a:lnTo>
                  <a:lnTo>
                    <a:pt x="4235" y="150"/>
                  </a:lnTo>
                  <a:lnTo>
                    <a:pt x="4238" y="158"/>
                  </a:lnTo>
                  <a:lnTo>
                    <a:pt x="4240" y="166"/>
                  </a:lnTo>
                  <a:lnTo>
                    <a:pt x="4242" y="175"/>
                  </a:lnTo>
                  <a:lnTo>
                    <a:pt x="4243" y="185"/>
                  </a:lnTo>
                  <a:lnTo>
                    <a:pt x="4243" y="195"/>
                  </a:lnTo>
                  <a:lnTo>
                    <a:pt x="4243" y="199"/>
                  </a:lnTo>
                  <a:lnTo>
                    <a:pt x="4243" y="203"/>
                  </a:lnTo>
                  <a:lnTo>
                    <a:pt x="4243" y="208"/>
                  </a:lnTo>
                  <a:lnTo>
                    <a:pt x="4242" y="213"/>
                  </a:lnTo>
                  <a:lnTo>
                    <a:pt x="4242" y="218"/>
                  </a:lnTo>
                  <a:lnTo>
                    <a:pt x="4241" y="223"/>
                  </a:lnTo>
                  <a:lnTo>
                    <a:pt x="4241" y="228"/>
                  </a:lnTo>
                  <a:lnTo>
                    <a:pt x="4240" y="233"/>
                  </a:lnTo>
                  <a:lnTo>
                    <a:pt x="4127" y="233"/>
                  </a:lnTo>
                  <a:close/>
                  <a:moveTo>
                    <a:pt x="4532" y="212"/>
                  </a:moveTo>
                  <a:lnTo>
                    <a:pt x="4532" y="212"/>
                  </a:lnTo>
                  <a:lnTo>
                    <a:pt x="4502" y="212"/>
                  </a:lnTo>
                  <a:lnTo>
                    <a:pt x="4513" y="147"/>
                  </a:lnTo>
                  <a:lnTo>
                    <a:pt x="4625" y="147"/>
                  </a:lnTo>
                  <a:lnTo>
                    <a:pt x="4624" y="160"/>
                  </a:lnTo>
                  <a:lnTo>
                    <a:pt x="4622" y="172"/>
                  </a:lnTo>
                  <a:lnTo>
                    <a:pt x="4620" y="184"/>
                  </a:lnTo>
                  <a:lnTo>
                    <a:pt x="4618" y="195"/>
                  </a:lnTo>
                  <a:lnTo>
                    <a:pt x="4615" y="207"/>
                  </a:lnTo>
                  <a:lnTo>
                    <a:pt x="4612" y="217"/>
                  </a:lnTo>
                  <a:lnTo>
                    <a:pt x="4608" y="227"/>
                  </a:lnTo>
                  <a:lnTo>
                    <a:pt x="4604" y="237"/>
                  </a:lnTo>
                  <a:lnTo>
                    <a:pt x="4600" y="247"/>
                  </a:lnTo>
                  <a:lnTo>
                    <a:pt x="4595" y="257"/>
                  </a:lnTo>
                  <a:lnTo>
                    <a:pt x="4591" y="265"/>
                  </a:lnTo>
                  <a:lnTo>
                    <a:pt x="4586" y="273"/>
                  </a:lnTo>
                  <a:lnTo>
                    <a:pt x="4581" y="281"/>
                  </a:lnTo>
                  <a:lnTo>
                    <a:pt x="4575" y="288"/>
                  </a:lnTo>
                  <a:lnTo>
                    <a:pt x="4569" y="295"/>
                  </a:lnTo>
                  <a:lnTo>
                    <a:pt x="4563" y="301"/>
                  </a:lnTo>
                  <a:lnTo>
                    <a:pt x="4556" y="307"/>
                  </a:lnTo>
                  <a:lnTo>
                    <a:pt x="4548" y="312"/>
                  </a:lnTo>
                  <a:lnTo>
                    <a:pt x="4540" y="317"/>
                  </a:lnTo>
                  <a:lnTo>
                    <a:pt x="4533" y="321"/>
                  </a:lnTo>
                  <a:lnTo>
                    <a:pt x="4524" y="324"/>
                  </a:lnTo>
                  <a:lnTo>
                    <a:pt x="4516" y="327"/>
                  </a:lnTo>
                  <a:lnTo>
                    <a:pt x="4507" y="329"/>
                  </a:lnTo>
                  <a:lnTo>
                    <a:pt x="4496" y="330"/>
                  </a:lnTo>
                  <a:lnTo>
                    <a:pt x="4488" y="330"/>
                  </a:lnTo>
                  <a:lnTo>
                    <a:pt x="4481" y="329"/>
                  </a:lnTo>
                  <a:lnTo>
                    <a:pt x="4473" y="328"/>
                  </a:lnTo>
                  <a:lnTo>
                    <a:pt x="4466" y="326"/>
                  </a:lnTo>
                  <a:lnTo>
                    <a:pt x="4459" y="325"/>
                  </a:lnTo>
                  <a:lnTo>
                    <a:pt x="4453" y="322"/>
                  </a:lnTo>
                  <a:lnTo>
                    <a:pt x="4446" y="320"/>
                  </a:lnTo>
                  <a:lnTo>
                    <a:pt x="4440" y="317"/>
                  </a:lnTo>
                  <a:lnTo>
                    <a:pt x="4434" y="314"/>
                  </a:lnTo>
                  <a:lnTo>
                    <a:pt x="4429" y="311"/>
                  </a:lnTo>
                  <a:lnTo>
                    <a:pt x="4424" y="308"/>
                  </a:lnTo>
                  <a:lnTo>
                    <a:pt x="4420" y="303"/>
                  </a:lnTo>
                  <a:lnTo>
                    <a:pt x="4415" y="298"/>
                  </a:lnTo>
                  <a:lnTo>
                    <a:pt x="4411" y="293"/>
                  </a:lnTo>
                  <a:lnTo>
                    <a:pt x="4408" y="287"/>
                  </a:lnTo>
                  <a:lnTo>
                    <a:pt x="4405" y="281"/>
                  </a:lnTo>
                  <a:lnTo>
                    <a:pt x="4401" y="275"/>
                  </a:lnTo>
                  <a:lnTo>
                    <a:pt x="4399" y="269"/>
                  </a:lnTo>
                  <a:lnTo>
                    <a:pt x="4397" y="262"/>
                  </a:lnTo>
                  <a:lnTo>
                    <a:pt x="4395" y="254"/>
                  </a:lnTo>
                  <a:lnTo>
                    <a:pt x="4394" y="247"/>
                  </a:lnTo>
                  <a:lnTo>
                    <a:pt x="4393" y="239"/>
                  </a:lnTo>
                  <a:lnTo>
                    <a:pt x="4392" y="230"/>
                  </a:lnTo>
                  <a:lnTo>
                    <a:pt x="4392" y="222"/>
                  </a:lnTo>
                  <a:lnTo>
                    <a:pt x="4392" y="222"/>
                  </a:lnTo>
                  <a:lnTo>
                    <a:pt x="4392" y="220"/>
                  </a:lnTo>
                  <a:lnTo>
                    <a:pt x="4392" y="219"/>
                  </a:lnTo>
                  <a:lnTo>
                    <a:pt x="4392" y="219"/>
                  </a:lnTo>
                  <a:lnTo>
                    <a:pt x="4392" y="202"/>
                  </a:lnTo>
                  <a:lnTo>
                    <a:pt x="4393" y="187"/>
                  </a:lnTo>
                  <a:lnTo>
                    <a:pt x="4395" y="173"/>
                  </a:lnTo>
                  <a:lnTo>
                    <a:pt x="4397" y="159"/>
                  </a:lnTo>
                  <a:lnTo>
                    <a:pt x="4400" y="145"/>
                  </a:lnTo>
                  <a:lnTo>
                    <a:pt x="4405" y="133"/>
                  </a:lnTo>
                  <a:lnTo>
                    <a:pt x="4409" y="121"/>
                  </a:lnTo>
                  <a:lnTo>
                    <a:pt x="4414" y="110"/>
                  </a:lnTo>
                  <a:lnTo>
                    <a:pt x="4419" y="97"/>
                  </a:lnTo>
                  <a:lnTo>
                    <a:pt x="4425" y="87"/>
                  </a:lnTo>
                  <a:lnTo>
                    <a:pt x="4431" y="77"/>
                  </a:lnTo>
                  <a:lnTo>
                    <a:pt x="4438" y="68"/>
                  </a:lnTo>
                  <a:lnTo>
                    <a:pt x="4445" y="60"/>
                  </a:lnTo>
                  <a:lnTo>
                    <a:pt x="4453" y="52"/>
                  </a:lnTo>
                  <a:lnTo>
                    <a:pt x="4460" y="45"/>
                  </a:lnTo>
                  <a:lnTo>
                    <a:pt x="4468" y="39"/>
                  </a:lnTo>
                  <a:lnTo>
                    <a:pt x="4476" y="34"/>
                  </a:lnTo>
                  <a:lnTo>
                    <a:pt x="4484" y="30"/>
                  </a:lnTo>
                  <a:lnTo>
                    <a:pt x="4492" y="26"/>
                  </a:lnTo>
                  <a:lnTo>
                    <a:pt x="4502" y="23"/>
                  </a:lnTo>
                  <a:lnTo>
                    <a:pt x="4510" y="21"/>
                  </a:lnTo>
                  <a:lnTo>
                    <a:pt x="4518" y="19"/>
                  </a:lnTo>
                  <a:lnTo>
                    <a:pt x="4526" y="18"/>
                  </a:lnTo>
                  <a:lnTo>
                    <a:pt x="4534" y="18"/>
                  </a:lnTo>
                  <a:lnTo>
                    <a:pt x="4542" y="18"/>
                  </a:lnTo>
                  <a:lnTo>
                    <a:pt x="4551" y="19"/>
                  </a:lnTo>
                  <a:lnTo>
                    <a:pt x="4559" y="21"/>
                  </a:lnTo>
                  <a:lnTo>
                    <a:pt x="4567" y="23"/>
                  </a:lnTo>
                  <a:lnTo>
                    <a:pt x="4574" y="26"/>
                  </a:lnTo>
                  <a:lnTo>
                    <a:pt x="4581" y="29"/>
                  </a:lnTo>
                  <a:lnTo>
                    <a:pt x="4588" y="33"/>
                  </a:lnTo>
                  <a:lnTo>
                    <a:pt x="4594" y="38"/>
                  </a:lnTo>
                  <a:lnTo>
                    <a:pt x="4601" y="42"/>
                  </a:lnTo>
                  <a:lnTo>
                    <a:pt x="4606" y="47"/>
                  </a:lnTo>
                  <a:lnTo>
                    <a:pt x="4611" y="53"/>
                  </a:lnTo>
                  <a:lnTo>
                    <a:pt x="4616" y="60"/>
                  </a:lnTo>
                  <a:lnTo>
                    <a:pt x="4620" y="68"/>
                  </a:lnTo>
                  <a:lnTo>
                    <a:pt x="4623" y="75"/>
                  </a:lnTo>
                  <a:lnTo>
                    <a:pt x="4626" y="83"/>
                  </a:lnTo>
                  <a:lnTo>
                    <a:pt x="4629" y="91"/>
                  </a:lnTo>
                  <a:lnTo>
                    <a:pt x="4544" y="120"/>
                  </a:lnTo>
                  <a:lnTo>
                    <a:pt x="4545" y="114"/>
                  </a:lnTo>
                  <a:lnTo>
                    <a:pt x="4544" y="109"/>
                  </a:lnTo>
                  <a:lnTo>
                    <a:pt x="4542" y="103"/>
                  </a:lnTo>
                  <a:lnTo>
                    <a:pt x="4539" y="98"/>
                  </a:lnTo>
                  <a:lnTo>
                    <a:pt x="4537" y="94"/>
                  </a:lnTo>
                  <a:lnTo>
                    <a:pt x="4533" y="91"/>
                  </a:lnTo>
                  <a:lnTo>
                    <a:pt x="4529" y="90"/>
                  </a:lnTo>
                  <a:lnTo>
                    <a:pt x="4525" y="90"/>
                  </a:lnTo>
                  <a:lnTo>
                    <a:pt x="4519" y="91"/>
                  </a:lnTo>
                  <a:lnTo>
                    <a:pt x="4512" y="95"/>
                  </a:lnTo>
                  <a:lnTo>
                    <a:pt x="4506" y="101"/>
                  </a:lnTo>
                  <a:lnTo>
                    <a:pt x="4498" y="110"/>
                  </a:lnTo>
                  <a:lnTo>
                    <a:pt x="4496" y="114"/>
                  </a:lnTo>
                  <a:lnTo>
                    <a:pt x="4493" y="118"/>
                  </a:lnTo>
                  <a:lnTo>
                    <a:pt x="4491" y="122"/>
                  </a:lnTo>
                  <a:lnTo>
                    <a:pt x="4489" y="127"/>
                  </a:lnTo>
                  <a:lnTo>
                    <a:pt x="4487" y="133"/>
                  </a:lnTo>
                  <a:lnTo>
                    <a:pt x="4486" y="140"/>
                  </a:lnTo>
                  <a:lnTo>
                    <a:pt x="4484" y="146"/>
                  </a:lnTo>
                  <a:lnTo>
                    <a:pt x="4482" y="154"/>
                  </a:lnTo>
                  <a:lnTo>
                    <a:pt x="4480" y="163"/>
                  </a:lnTo>
                  <a:lnTo>
                    <a:pt x="4478" y="170"/>
                  </a:lnTo>
                  <a:lnTo>
                    <a:pt x="4477" y="178"/>
                  </a:lnTo>
                  <a:lnTo>
                    <a:pt x="4476" y="185"/>
                  </a:lnTo>
                  <a:lnTo>
                    <a:pt x="4476" y="193"/>
                  </a:lnTo>
                  <a:lnTo>
                    <a:pt x="4475" y="200"/>
                  </a:lnTo>
                  <a:lnTo>
                    <a:pt x="4475" y="208"/>
                  </a:lnTo>
                  <a:lnTo>
                    <a:pt x="4475" y="215"/>
                  </a:lnTo>
                  <a:lnTo>
                    <a:pt x="4475" y="224"/>
                  </a:lnTo>
                  <a:lnTo>
                    <a:pt x="4476" y="232"/>
                  </a:lnTo>
                  <a:lnTo>
                    <a:pt x="4478" y="238"/>
                  </a:lnTo>
                  <a:lnTo>
                    <a:pt x="4480" y="244"/>
                  </a:lnTo>
                  <a:lnTo>
                    <a:pt x="4483" y="248"/>
                  </a:lnTo>
                  <a:lnTo>
                    <a:pt x="4487" y="251"/>
                  </a:lnTo>
                  <a:lnTo>
                    <a:pt x="4491" y="253"/>
                  </a:lnTo>
                  <a:lnTo>
                    <a:pt x="4496" y="254"/>
                  </a:lnTo>
                  <a:lnTo>
                    <a:pt x="4503" y="253"/>
                  </a:lnTo>
                  <a:lnTo>
                    <a:pt x="4509" y="252"/>
                  </a:lnTo>
                  <a:lnTo>
                    <a:pt x="4515" y="249"/>
                  </a:lnTo>
                  <a:lnTo>
                    <a:pt x="4520" y="244"/>
                  </a:lnTo>
                  <a:lnTo>
                    <a:pt x="4522" y="240"/>
                  </a:lnTo>
                  <a:lnTo>
                    <a:pt x="4525" y="236"/>
                  </a:lnTo>
                  <a:lnTo>
                    <a:pt x="4526" y="232"/>
                  </a:lnTo>
                  <a:lnTo>
                    <a:pt x="4528" y="228"/>
                  </a:lnTo>
                  <a:lnTo>
                    <a:pt x="4529" y="224"/>
                  </a:lnTo>
                  <a:lnTo>
                    <a:pt x="4530" y="221"/>
                  </a:lnTo>
                  <a:lnTo>
                    <a:pt x="4531" y="216"/>
                  </a:lnTo>
                  <a:lnTo>
                    <a:pt x="4532" y="212"/>
                  </a:lnTo>
                  <a:lnTo>
                    <a:pt x="4532" y="212"/>
                  </a:lnTo>
                  <a:close/>
                  <a:moveTo>
                    <a:pt x="4746" y="287"/>
                  </a:moveTo>
                  <a:lnTo>
                    <a:pt x="4739" y="296"/>
                  </a:lnTo>
                  <a:lnTo>
                    <a:pt x="4733" y="303"/>
                  </a:lnTo>
                  <a:lnTo>
                    <a:pt x="4725" y="311"/>
                  </a:lnTo>
                  <a:lnTo>
                    <a:pt x="4717" y="317"/>
                  </a:lnTo>
                  <a:lnTo>
                    <a:pt x="4713" y="320"/>
                  </a:lnTo>
                  <a:lnTo>
                    <a:pt x="4710" y="322"/>
                  </a:lnTo>
                  <a:lnTo>
                    <a:pt x="4706" y="325"/>
                  </a:lnTo>
                  <a:lnTo>
                    <a:pt x="4702" y="326"/>
                  </a:lnTo>
                  <a:lnTo>
                    <a:pt x="4696" y="328"/>
                  </a:lnTo>
                  <a:lnTo>
                    <a:pt x="4692" y="329"/>
                  </a:lnTo>
                  <a:lnTo>
                    <a:pt x="4687" y="330"/>
                  </a:lnTo>
                  <a:lnTo>
                    <a:pt x="4682" y="330"/>
                  </a:lnTo>
                  <a:lnTo>
                    <a:pt x="4677" y="330"/>
                  </a:lnTo>
                  <a:lnTo>
                    <a:pt x="4672" y="329"/>
                  </a:lnTo>
                  <a:lnTo>
                    <a:pt x="4668" y="327"/>
                  </a:lnTo>
                  <a:lnTo>
                    <a:pt x="4664" y="325"/>
                  </a:lnTo>
                  <a:lnTo>
                    <a:pt x="4660" y="322"/>
                  </a:lnTo>
                  <a:lnTo>
                    <a:pt x="4657" y="319"/>
                  </a:lnTo>
                  <a:lnTo>
                    <a:pt x="4654" y="315"/>
                  </a:lnTo>
                  <a:lnTo>
                    <a:pt x="4651" y="310"/>
                  </a:lnTo>
                  <a:lnTo>
                    <a:pt x="4646" y="306"/>
                  </a:lnTo>
                  <a:lnTo>
                    <a:pt x="4643" y="300"/>
                  </a:lnTo>
                  <a:lnTo>
                    <a:pt x="4641" y="294"/>
                  </a:lnTo>
                  <a:lnTo>
                    <a:pt x="4639" y="288"/>
                  </a:lnTo>
                  <a:lnTo>
                    <a:pt x="4638" y="280"/>
                  </a:lnTo>
                  <a:lnTo>
                    <a:pt x="4637" y="273"/>
                  </a:lnTo>
                  <a:lnTo>
                    <a:pt x="4636" y="264"/>
                  </a:lnTo>
                  <a:lnTo>
                    <a:pt x="4636" y="254"/>
                  </a:lnTo>
                  <a:lnTo>
                    <a:pt x="4636" y="251"/>
                  </a:lnTo>
                  <a:lnTo>
                    <a:pt x="4636" y="248"/>
                  </a:lnTo>
                  <a:lnTo>
                    <a:pt x="4636" y="244"/>
                  </a:lnTo>
                  <a:lnTo>
                    <a:pt x="4636" y="240"/>
                  </a:lnTo>
                  <a:lnTo>
                    <a:pt x="4636" y="235"/>
                  </a:lnTo>
                  <a:lnTo>
                    <a:pt x="4637" y="231"/>
                  </a:lnTo>
                  <a:lnTo>
                    <a:pt x="4637" y="228"/>
                  </a:lnTo>
                  <a:lnTo>
                    <a:pt x="4637" y="224"/>
                  </a:lnTo>
                  <a:lnTo>
                    <a:pt x="4638" y="214"/>
                  </a:lnTo>
                  <a:lnTo>
                    <a:pt x="4639" y="204"/>
                  </a:lnTo>
                  <a:lnTo>
                    <a:pt x="4641" y="196"/>
                  </a:lnTo>
                  <a:lnTo>
                    <a:pt x="4643" y="188"/>
                  </a:lnTo>
                  <a:lnTo>
                    <a:pt x="4645" y="180"/>
                  </a:lnTo>
                  <a:lnTo>
                    <a:pt x="4649" y="173"/>
                  </a:lnTo>
                  <a:lnTo>
                    <a:pt x="4651" y="166"/>
                  </a:lnTo>
                  <a:lnTo>
                    <a:pt x="4654" y="160"/>
                  </a:lnTo>
                  <a:lnTo>
                    <a:pt x="4658" y="153"/>
                  </a:lnTo>
                  <a:lnTo>
                    <a:pt x="4662" y="147"/>
                  </a:lnTo>
                  <a:lnTo>
                    <a:pt x="4666" y="141"/>
                  </a:lnTo>
                  <a:lnTo>
                    <a:pt x="4670" y="136"/>
                  </a:lnTo>
                  <a:lnTo>
                    <a:pt x="4674" y="131"/>
                  </a:lnTo>
                  <a:lnTo>
                    <a:pt x="4677" y="127"/>
                  </a:lnTo>
                  <a:lnTo>
                    <a:pt x="4682" y="123"/>
                  </a:lnTo>
                  <a:lnTo>
                    <a:pt x="4686" y="120"/>
                  </a:lnTo>
                  <a:lnTo>
                    <a:pt x="4690" y="118"/>
                  </a:lnTo>
                  <a:lnTo>
                    <a:pt x="4693" y="115"/>
                  </a:lnTo>
                  <a:lnTo>
                    <a:pt x="4698" y="114"/>
                  </a:lnTo>
                  <a:lnTo>
                    <a:pt x="4702" y="112"/>
                  </a:lnTo>
                  <a:lnTo>
                    <a:pt x="4707" y="111"/>
                  </a:lnTo>
                  <a:lnTo>
                    <a:pt x="4711" y="111"/>
                  </a:lnTo>
                  <a:lnTo>
                    <a:pt x="4716" y="110"/>
                  </a:lnTo>
                  <a:lnTo>
                    <a:pt x="4720" y="110"/>
                  </a:lnTo>
                  <a:lnTo>
                    <a:pt x="4727" y="111"/>
                  </a:lnTo>
                  <a:lnTo>
                    <a:pt x="4735" y="112"/>
                  </a:lnTo>
                  <a:lnTo>
                    <a:pt x="4742" y="115"/>
                  </a:lnTo>
                  <a:lnTo>
                    <a:pt x="4749" y="119"/>
                  </a:lnTo>
                  <a:lnTo>
                    <a:pt x="4754" y="125"/>
                  </a:lnTo>
                  <a:lnTo>
                    <a:pt x="4759" y="131"/>
                  </a:lnTo>
                  <a:lnTo>
                    <a:pt x="4763" y="138"/>
                  </a:lnTo>
                  <a:lnTo>
                    <a:pt x="4765" y="145"/>
                  </a:lnTo>
                  <a:lnTo>
                    <a:pt x="4765" y="145"/>
                  </a:lnTo>
                  <a:lnTo>
                    <a:pt x="4767" y="112"/>
                  </a:lnTo>
                  <a:lnTo>
                    <a:pt x="4850" y="112"/>
                  </a:lnTo>
                  <a:lnTo>
                    <a:pt x="4813" y="323"/>
                  </a:lnTo>
                  <a:lnTo>
                    <a:pt x="4736" y="323"/>
                  </a:lnTo>
                  <a:lnTo>
                    <a:pt x="4746" y="287"/>
                  </a:lnTo>
                  <a:lnTo>
                    <a:pt x="4746" y="287"/>
                  </a:lnTo>
                  <a:close/>
                  <a:moveTo>
                    <a:pt x="4715" y="237"/>
                  </a:moveTo>
                  <a:lnTo>
                    <a:pt x="4715" y="247"/>
                  </a:lnTo>
                  <a:lnTo>
                    <a:pt x="4717" y="254"/>
                  </a:lnTo>
                  <a:lnTo>
                    <a:pt x="4721" y="260"/>
                  </a:lnTo>
                  <a:lnTo>
                    <a:pt x="4727" y="264"/>
                  </a:lnTo>
                  <a:lnTo>
                    <a:pt x="4730" y="261"/>
                  </a:lnTo>
                  <a:lnTo>
                    <a:pt x="4734" y="259"/>
                  </a:lnTo>
                  <a:lnTo>
                    <a:pt x="4737" y="258"/>
                  </a:lnTo>
                  <a:lnTo>
                    <a:pt x="4741" y="254"/>
                  </a:lnTo>
                  <a:lnTo>
                    <a:pt x="4743" y="251"/>
                  </a:lnTo>
                  <a:lnTo>
                    <a:pt x="4744" y="247"/>
                  </a:lnTo>
                  <a:lnTo>
                    <a:pt x="4747" y="243"/>
                  </a:lnTo>
                  <a:lnTo>
                    <a:pt x="4749" y="238"/>
                  </a:lnTo>
                  <a:lnTo>
                    <a:pt x="4750" y="234"/>
                  </a:lnTo>
                  <a:lnTo>
                    <a:pt x="4751" y="229"/>
                  </a:lnTo>
                  <a:lnTo>
                    <a:pt x="4752" y="224"/>
                  </a:lnTo>
                  <a:lnTo>
                    <a:pt x="4753" y="219"/>
                  </a:lnTo>
                  <a:lnTo>
                    <a:pt x="4753" y="214"/>
                  </a:lnTo>
                  <a:lnTo>
                    <a:pt x="4755" y="209"/>
                  </a:lnTo>
                  <a:lnTo>
                    <a:pt x="4756" y="204"/>
                  </a:lnTo>
                  <a:lnTo>
                    <a:pt x="4756" y="202"/>
                  </a:lnTo>
                  <a:lnTo>
                    <a:pt x="4756" y="202"/>
                  </a:lnTo>
                  <a:lnTo>
                    <a:pt x="4756" y="201"/>
                  </a:lnTo>
                  <a:lnTo>
                    <a:pt x="4756" y="199"/>
                  </a:lnTo>
                  <a:lnTo>
                    <a:pt x="4756" y="197"/>
                  </a:lnTo>
                  <a:lnTo>
                    <a:pt x="4756" y="197"/>
                  </a:lnTo>
                  <a:lnTo>
                    <a:pt x="4756" y="196"/>
                  </a:lnTo>
                  <a:lnTo>
                    <a:pt x="4756" y="194"/>
                  </a:lnTo>
                  <a:lnTo>
                    <a:pt x="4756" y="193"/>
                  </a:lnTo>
                  <a:lnTo>
                    <a:pt x="4755" y="184"/>
                  </a:lnTo>
                  <a:lnTo>
                    <a:pt x="4753" y="178"/>
                  </a:lnTo>
                  <a:lnTo>
                    <a:pt x="4749" y="175"/>
                  </a:lnTo>
                  <a:lnTo>
                    <a:pt x="4743" y="174"/>
                  </a:lnTo>
                  <a:lnTo>
                    <a:pt x="4739" y="174"/>
                  </a:lnTo>
                  <a:lnTo>
                    <a:pt x="4736" y="175"/>
                  </a:lnTo>
                  <a:lnTo>
                    <a:pt x="4733" y="176"/>
                  </a:lnTo>
                  <a:lnTo>
                    <a:pt x="4731" y="179"/>
                  </a:lnTo>
                  <a:lnTo>
                    <a:pt x="4728" y="182"/>
                  </a:lnTo>
                  <a:lnTo>
                    <a:pt x="4726" y="186"/>
                  </a:lnTo>
                  <a:lnTo>
                    <a:pt x="4723" y="192"/>
                  </a:lnTo>
                  <a:lnTo>
                    <a:pt x="4721" y="198"/>
                  </a:lnTo>
                  <a:lnTo>
                    <a:pt x="4719" y="207"/>
                  </a:lnTo>
                  <a:lnTo>
                    <a:pt x="4717" y="216"/>
                  </a:lnTo>
                  <a:lnTo>
                    <a:pt x="4716" y="226"/>
                  </a:lnTo>
                  <a:lnTo>
                    <a:pt x="4715" y="237"/>
                  </a:lnTo>
                  <a:close/>
                  <a:moveTo>
                    <a:pt x="4724" y="83"/>
                  </a:moveTo>
                  <a:lnTo>
                    <a:pt x="4756" y="18"/>
                  </a:lnTo>
                  <a:lnTo>
                    <a:pt x="4817" y="18"/>
                  </a:lnTo>
                  <a:lnTo>
                    <a:pt x="4767" y="83"/>
                  </a:lnTo>
                  <a:lnTo>
                    <a:pt x="4724" y="83"/>
                  </a:lnTo>
                  <a:close/>
                  <a:moveTo>
                    <a:pt x="4886" y="245"/>
                  </a:moveTo>
                  <a:lnTo>
                    <a:pt x="4890" y="250"/>
                  </a:lnTo>
                  <a:lnTo>
                    <a:pt x="4895" y="254"/>
                  </a:lnTo>
                  <a:lnTo>
                    <a:pt x="4899" y="259"/>
                  </a:lnTo>
                  <a:lnTo>
                    <a:pt x="4903" y="262"/>
                  </a:lnTo>
                  <a:lnTo>
                    <a:pt x="4908" y="264"/>
                  </a:lnTo>
                  <a:lnTo>
                    <a:pt x="4912" y="266"/>
                  </a:lnTo>
                  <a:lnTo>
                    <a:pt x="4917" y="267"/>
                  </a:lnTo>
                  <a:lnTo>
                    <a:pt x="4922" y="267"/>
                  </a:lnTo>
                  <a:lnTo>
                    <a:pt x="4929" y="266"/>
                  </a:lnTo>
                  <a:lnTo>
                    <a:pt x="4935" y="265"/>
                  </a:lnTo>
                  <a:lnTo>
                    <a:pt x="4939" y="262"/>
                  </a:lnTo>
                  <a:lnTo>
                    <a:pt x="4940" y="259"/>
                  </a:lnTo>
                  <a:lnTo>
                    <a:pt x="4939" y="253"/>
                  </a:lnTo>
                  <a:lnTo>
                    <a:pt x="4935" y="249"/>
                  </a:lnTo>
                  <a:lnTo>
                    <a:pt x="4929" y="244"/>
                  </a:lnTo>
                  <a:lnTo>
                    <a:pt x="4921" y="240"/>
                  </a:lnTo>
                  <a:lnTo>
                    <a:pt x="4916" y="239"/>
                  </a:lnTo>
                  <a:lnTo>
                    <a:pt x="4911" y="237"/>
                  </a:lnTo>
                  <a:lnTo>
                    <a:pt x="4907" y="235"/>
                  </a:lnTo>
                  <a:lnTo>
                    <a:pt x="4903" y="233"/>
                  </a:lnTo>
                  <a:lnTo>
                    <a:pt x="4899" y="230"/>
                  </a:lnTo>
                  <a:lnTo>
                    <a:pt x="4895" y="228"/>
                  </a:lnTo>
                  <a:lnTo>
                    <a:pt x="4890" y="226"/>
                  </a:lnTo>
                  <a:lnTo>
                    <a:pt x="4886" y="224"/>
                  </a:lnTo>
                  <a:lnTo>
                    <a:pt x="4884" y="221"/>
                  </a:lnTo>
                  <a:lnTo>
                    <a:pt x="4881" y="218"/>
                  </a:lnTo>
                  <a:lnTo>
                    <a:pt x="4880" y="214"/>
                  </a:lnTo>
                  <a:lnTo>
                    <a:pt x="4878" y="210"/>
                  </a:lnTo>
                  <a:lnTo>
                    <a:pt x="4877" y="204"/>
                  </a:lnTo>
                  <a:lnTo>
                    <a:pt x="4877" y="199"/>
                  </a:lnTo>
                  <a:lnTo>
                    <a:pt x="4876" y="194"/>
                  </a:lnTo>
                  <a:lnTo>
                    <a:pt x="4876" y="188"/>
                  </a:lnTo>
                  <a:lnTo>
                    <a:pt x="4876" y="180"/>
                  </a:lnTo>
                  <a:lnTo>
                    <a:pt x="4878" y="173"/>
                  </a:lnTo>
                  <a:lnTo>
                    <a:pt x="4880" y="165"/>
                  </a:lnTo>
                  <a:lnTo>
                    <a:pt x="4883" y="158"/>
                  </a:lnTo>
                  <a:lnTo>
                    <a:pt x="4887" y="151"/>
                  </a:lnTo>
                  <a:lnTo>
                    <a:pt x="4893" y="144"/>
                  </a:lnTo>
                  <a:lnTo>
                    <a:pt x="4898" y="138"/>
                  </a:lnTo>
                  <a:lnTo>
                    <a:pt x="4905" y="133"/>
                  </a:lnTo>
                  <a:lnTo>
                    <a:pt x="4911" y="127"/>
                  </a:lnTo>
                  <a:lnTo>
                    <a:pt x="4918" y="123"/>
                  </a:lnTo>
                  <a:lnTo>
                    <a:pt x="4926" y="119"/>
                  </a:lnTo>
                  <a:lnTo>
                    <a:pt x="4934" y="115"/>
                  </a:lnTo>
                  <a:lnTo>
                    <a:pt x="4943" y="113"/>
                  </a:lnTo>
                  <a:lnTo>
                    <a:pt x="4952" y="111"/>
                  </a:lnTo>
                  <a:lnTo>
                    <a:pt x="4961" y="110"/>
                  </a:lnTo>
                  <a:lnTo>
                    <a:pt x="4971" y="110"/>
                  </a:lnTo>
                  <a:lnTo>
                    <a:pt x="4979" y="110"/>
                  </a:lnTo>
                  <a:lnTo>
                    <a:pt x="4987" y="111"/>
                  </a:lnTo>
                  <a:lnTo>
                    <a:pt x="4996" y="113"/>
                  </a:lnTo>
                  <a:lnTo>
                    <a:pt x="5004" y="115"/>
                  </a:lnTo>
                  <a:lnTo>
                    <a:pt x="5011" y="117"/>
                  </a:lnTo>
                  <a:lnTo>
                    <a:pt x="5019" y="120"/>
                  </a:lnTo>
                  <a:lnTo>
                    <a:pt x="5027" y="123"/>
                  </a:lnTo>
                  <a:lnTo>
                    <a:pt x="5035" y="127"/>
                  </a:lnTo>
                  <a:lnTo>
                    <a:pt x="5000" y="186"/>
                  </a:lnTo>
                  <a:lnTo>
                    <a:pt x="4996" y="182"/>
                  </a:lnTo>
                  <a:lnTo>
                    <a:pt x="4992" y="178"/>
                  </a:lnTo>
                  <a:lnTo>
                    <a:pt x="4987" y="175"/>
                  </a:lnTo>
                  <a:lnTo>
                    <a:pt x="4983" y="172"/>
                  </a:lnTo>
                  <a:lnTo>
                    <a:pt x="4980" y="170"/>
                  </a:lnTo>
                  <a:lnTo>
                    <a:pt x="4976" y="168"/>
                  </a:lnTo>
                  <a:lnTo>
                    <a:pt x="4972" y="167"/>
                  </a:lnTo>
                  <a:lnTo>
                    <a:pt x="4969" y="167"/>
                  </a:lnTo>
                  <a:lnTo>
                    <a:pt x="4964" y="167"/>
                  </a:lnTo>
                  <a:lnTo>
                    <a:pt x="4960" y="169"/>
                  </a:lnTo>
                  <a:lnTo>
                    <a:pt x="4957" y="172"/>
                  </a:lnTo>
                  <a:lnTo>
                    <a:pt x="4955" y="176"/>
                  </a:lnTo>
                  <a:lnTo>
                    <a:pt x="4956" y="180"/>
                  </a:lnTo>
                  <a:lnTo>
                    <a:pt x="4960" y="185"/>
                  </a:lnTo>
                  <a:lnTo>
                    <a:pt x="4967" y="190"/>
                  </a:lnTo>
                  <a:lnTo>
                    <a:pt x="4976" y="195"/>
                  </a:lnTo>
                  <a:lnTo>
                    <a:pt x="4981" y="198"/>
                  </a:lnTo>
                  <a:lnTo>
                    <a:pt x="4986" y="200"/>
                  </a:lnTo>
                  <a:lnTo>
                    <a:pt x="4991" y="203"/>
                  </a:lnTo>
                  <a:lnTo>
                    <a:pt x="4995" y="205"/>
                  </a:lnTo>
                  <a:lnTo>
                    <a:pt x="4998" y="209"/>
                  </a:lnTo>
                  <a:lnTo>
                    <a:pt x="5001" y="211"/>
                  </a:lnTo>
                  <a:lnTo>
                    <a:pt x="5004" y="213"/>
                  </a:lnTo>
                  <a:lnTo>
                    <a:pt x="5007" y="215"/>
                  </a:lnTo>
                  <a:lnTo>
                    <a:pt x="5010" y="218"/>
                  </a:lnTo>
                  <a:lnTo>
                    <a:pt x="5012" y="221"/>
                  </a:lnTo>
                  <a:lnTo>
                    <a:pt x="5014" y="224"/>
                  </a:lnTo>
                  <a:lnTo>
                    <a:pt x="5016" y="227"/>
                  </a:lnTo>
                  <a:lnTo>
                    <a:pt x="5017" y="231"/>
                  </a:lnTo>
                  <a:lnTo>
                    <a:pt x="5018" y="235"/>
                  </a:lnTo>
                  <a:lnTo>
                    <a:pt x="5019" y="240"/>
                  </a:lnTo>
                  <a:lnTo>
                    <a:pt x="5019" y="245"/>
                  </a:lnTo>
                  <a:lnTo>
                    <a:pt x="5019" y="254"/>
                  </a:lnTo>
                  <a:lnTo>
                    <a:pt x="5017" y="263"/>
                  </a:lnTo>
                  <a:lnTo>
                    <a:pt x="5015" y="271"/>
                  </a:lnTo>
                  <a:lnTo>
                    <a:pt x="5012" y="278"/>
                  </a:lnTo>
                  <a:lnTo>
                    <a:pt x="5008" y="285"/>
                  </a:lnTo>
                  <a:lnTo>
                    <a:pt x="5003" y="291"/>
                  </a:lnTo>
                  <a:lnTo>
                    <a:pt x="4996" y="297"/>
                  </a:lnTo>
                  <a:lnTo>
                    <a:pt x="4988" y="302"/>
                  </a:lnTo>
                  <a:lnTo>
                    <a:pt x="4981" y="308"/>
                  </a:lnTo>
                  <a:lnTo>
                    <a:pt x="4973" y="312"/>
                  </a:lnTo>
                  <a:lnTo>
                    <a:pt x="4965" y="316"/>
                  </a:lnTo>
                  <a:lnTo>
                    <a:pt x="4957" y="319"/>
                  </a:lnTo>
                  <a:lnTo>
                    <a:pt x="4948" y="322"/>
                  </a:lnTo>
                  <a:lnTo>
                    <a:pt x="4938" y="324"/>
                  </a:lnTo>
                  <a:lnTo>
                    <a:pt x="4930" y="325"/>
                  </a:lnTo>
                  <a:lnTo>
                    <a:pt x="4921" y="325"/>
                  </a:lnTo>
                  <a:lnTo>
                    <a:pt x="4912" y="325"/>
                  </a:lnTo>
                  <a:lnTo>
                    <a:pt x="4903" y="324"/>
                  </a:lnTo>
                  <a:lnTo>
                    <a:pt x="4895" y="322"/>
                  </a:lnTo>
                  <a:lnTo>
                    <a:pt x="4885" y="319"/>
                  </a:lnTo>
                  <a:lnTo>
                    <a:pt x="4876" y="316"/>
                  </a:lnTo>
                  <a:lnTo>
                    <a:pt x="4867" y="312"/>
                  </a:lnTo>
                  <a:lnTo>
                    <a:pt x="4858" y="308"/>
                  </a:lnTo>
                  <a:lnTo>
                    <a:pt x="4850" y="302"/>
                  </a:lnTo>
                  <a:lnTo>
                    <a:pt x="4886" y="245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0" y="0"/>
            <a:ext cx="771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SzPct val="90000"/>
              <a:buFont typeface="Symbol" charset="2"/>
              <a:buChar char="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SzPct val="90000"/>
              <a:buFont typeface="Arial"/>
              <a:buChar char="o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892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Perspectiva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par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o Gás Natural no Brasil e no R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553920" y="3508200"/>
            <a:ext cx="156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bril 2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736640" y="5332320"/>
            <a:ext cx="4897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osé Geraldo Pinto – Diretor Técnico e Comer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geraldo@potigás.com.b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662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ma estimativa aponta o teto potencial para  substituição para o gás natural de 2 milhões m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/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juste de eficiência de conversão considerando diferentes rendimentos para biomassa e eletricidad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clusão de “mercados sem vocação para o gás”, como agropecuária e segmentos de transpor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clusão de consumo localizado em cidades afastadas da rede no interio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gregação do consumo de eletricidade para uso térmic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4673520" y="3776760"/>
            <a:ext cx="4079880" cy="27493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563400" y="3797280"/>
            <a:ext cx="4069080" cy="27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393840" y="2476440"/>
            <a:ext cx="1434960" cy="95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662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O consumo de gás não depende apenas da distribuidora, mas também de terceiros e é afetado pelos concorrentes e tendência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011400" y="2587680"/>
            <a:ext cx="1758960" cy="2546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quipam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832040" y="2671920"/>
            <a:ext cx="1084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148040" y="248616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Gá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833480" y="3232080"/>
            <a:ext cx="1084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25400" y="3060720"/>
            <a:ext cx="10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nex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833480" y="3706920"/>
            <a:ext cx="1084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44160" y="3535200"/>
            <a:ext cx="149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ede Inter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832040" y="4187880"/>
            <a:ext cx="1084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947160" y="401652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Varej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832040" y="4594320"/>
            <a:ext cx="1084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18480" y="4422600"/>
            <a:ext cx="11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per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833480" y="5070600"/>
            <a:ext cx="1084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90600" y="4898880"/>
            <a:ext cx="14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anuten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884840" y="3843360"/>
            <a:ext cx="6490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645880" y="3672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Benefí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6823080" y="3841920"/>
            <a:ext cx="6494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484040" y="3670200"/>
            <a:ext cx="123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inalid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559480" y="4086360"/>
            <a:ext cx="1630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Calor, vapor, água quente, et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315200" y="4084560"/>
            <a:ext cx="1630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Cocção, conforto, processo produtivo, et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627520" y="4869000"/>
            <a:ext cx="1209960" cy="7030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410080" y="5683320"/>
            <a:ext cx="15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ncorre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397640" y="4863960"/>
            <a:ext cx="1209960" cy="70344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253280" y="5678640"/>
            <a:ext cx="147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fetado por tendênci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7360" y="5565600"/>
            <a:ext cx="3263760" cy="733320"/>
          </a:xfrm>
          <a:prstGeom prst="rect">
            <a:avLst/>
          </a:prstGeom>
          <a:solidFill>
            <a:srgbClr val="eaeaea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000000"/>
                </a:solidFill>
                <a:latin typeface="Arial Narrow"/>
              </a:rPr>
              <a:t>A distribuidora de gás tradicionalmente opera em uma faixa restrita e depende de terceiros para que o mercado seja atendid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84320" y="1395360"/>
            <a:ext cx="48304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 Narrow"/>
              </a:rPr>
              <a:t>O consumo de gás depende da existência de uma cadeia de suprimentos capaz de prover equipamentos instalados e em condições de funcionamento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014800" y="2184480"/>
            <a:ext cx="3889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 Narrow"/>
              </a:rPr>
              <a:t>O gás é consumido para gerar um benefício para o cliente que pode ser obtido de outras forma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6" name=""/>
          <p:cNvCxnSpPr>
            <a:stCxn id="158" idx="1"/>
            <a:endCxn id="183" idx="1"/>
          </p:cNvCxnSpPr>
          <p:nvPr/>
        </p:nvCxnSpPr>
        <p:spPr>
          <a:xfrm flipH="1" flipV="1" rot="10800000">
            <a:off x="393480" y="2953800"/>
            <a:ext cx="264240" cy="2982240"/>
          </a:xfrm>
          <a:prstGeom prst="curvedConnector5">
            <a:avLst>
              <a:gd name="adj1" fmla="val -86630"/>
              <a:gd name="adj2" fmla="val 49993"/>
              <a:gd name="adj3" fmla="val -86630"/>
            </a:avLst>
          </a:prstGeom>
          <a:ln w="38160">
            <a:solidFill>
              <a:srgbClr val="000000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662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Quadro-resumo: concorrent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484200" y="1347840"/>
          <a:ext cx="8337600" cy="4952880"/>
        </p:xfrm>
        <a:graphic>
          <a:graphicData uri="http://schemas.openxmlformats.org/drawingml/2006/table">
            <a:tbl>
              <a:tblPr/>
              <a:tblGrid>
                <a:gridCol w="1117440"/>
                <a:gridCol w="917640"/>
                <a:gridCol w="1243080"/>
                <a:gridCol w="2284560"/>
                <a:gridCol w="1255680"/>
                <a:gridCol w="1519200"/>
              </a:tblGrid>
              <a:tr h="663840">
                <a:tc>
                  <a:txBody>
                    <a:bodyPr lIns="38160" rIns="19080" tIns="38160" bIns="381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cad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ergéti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1908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1908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sum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l tep </a:t>
                      </a:r>
                      <a:br>
                        <a:rPr sz="900"/>
                      </a:br>
                      <a:r>
                        <a:rPr b="1" lang="pt-BR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milm</a:t>
                      </a:r>
                      <a:r>
                        <a:rPr b="1" lang="pt-BR" sz="9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r>
                        <a:rPr b="1" lang="pt-BR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d GNE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19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38160" rIns="1908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ncipais Consumido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19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38160" rIns="1908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riv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19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38160" rIns="1908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ncipais Empres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19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38160" rIns="1908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licaçõ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1908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3366ff"/>
                    </a:solidFill>
                  </a:tcPr>
                </a:tc>
              </a:tr>
              <a:tr h="850680">
                <a:tc>
                  <a:txBody>
                    <a:bodyPr lIns="38160" rIns="19080" tIns="38160" bIns="19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omassa </a:t>
                      </a:r>
                      <a:r>
                        <a:rPr b="1" lang="pt-BR" sz="1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gaço de cana, lenha, etc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1908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19080" tIns="3816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9 (1.80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19080" tIns="38160" bIns="19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ustrial, residenci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19080" tIns="38160" bIns="19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erta de bagaço em função da produção de álcool/açúcar, custo do frete inviabiliza longas distância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o de lenha nativa é proibido,mas pouco fiscalizado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19080" tIns="38160" bIns="19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gaço é ofertado por usinas de álcool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erta de lenha é pulverizada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19080" tIns="38160" bIns="19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blema de desertificação e aperto na fiscalização podem reduzir a oferta de lenha.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1908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2640">
                <a:tc>
                  <a:txBody>
                    <a:bodyPr lIns="38160" rIns="19080" tIns="38160" bIns="19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Óleo Combustív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1908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38160" rIns="19080" tIns="3816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(4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38160" rIns="19080" tIns="38160" bIns="19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ústri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38160" rIns="19080" tIns="38160" bIns="19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ável apenas se a rede de gás não chega ou como back-up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38160" rIns="19080" tIns="38160" bIns="19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38160" rIns="19080" tIns="38160" bIns="19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tém apenas mercado marginal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1908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</a:tr>
              <a:tr h="362160">
                <a:tc>
                  <a:txBody>
                    <a:bodyPr lIns="38160" rIns="19080" tIns="38160" bIns="19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q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1908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19080" tIns="3816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.D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19080" tIns="38160" bIns="19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ústria cimenteir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19080" tIns="38160" bIns="19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erta mundial abundante, preço muito baix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19080" tIns="38160" bIns="19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19080" tIns="38160" bIns="19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corre em nichos por preç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1908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0120">
                <a:tc>
                  <a:txBody>
                    <a:bodyPr lIns="38160" rIns="19080" tIns="38160" bIns="19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A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1908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38160" rIns="19080" tIns="3816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 (196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38160" rIns="19080" tIns="38160" bIns="19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porte Aére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38160" rIns="19080" tIns="38160" bIns="19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o específic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38160" rIns="19080" tIns="38160" bIns="19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38160" rIns="19080" tIns="38160" bIns="19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N não se apl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1908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</a:tr>
              <a:tr h="514440">
                <a:tc>
                  <a:txBody>
                    <a:bodyPr lIns="38160" rIns="19080" tIns="38160" bIns="19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Óleo Dies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1908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19080" tIns="3816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8 (959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19080" tIns="38160" bIns="19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porte rodoviário (ônibus e caminhõe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19080" tIns="38160" bIns="19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e instalada, alto rendimento, preço relativamente baix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19080" tIns="38160" bIns="19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, AleSat, Ipirang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19080" tIns="38160" bIns="19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sibilidade de GN substituir no transporte coletivo urbano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1908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2160">
                <a:tc>
                  <a:txBody>
                    <a:bodyPr lIns="38160" rIns="19080" tIns="38160" bIns="19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solina </a:t>
                      </a:r>
                      <a:r>
                        <a:rPr b="1" lang="pt-BR" sz="1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1908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38160" rIns="19080" tIns="3816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9 (464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38160" rIns="19080" tIns="38160" bIns="19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ículos lev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38160" rIns="19080" tIns="38160" bIns="19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e instalada de consumidore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38160" rIns="19080" tIns="38160" bIns="19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, AleSat, Ipirang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38160" rIns="19080" tIns="38160" bIns="19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ferido por motoristas com baixo consumo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1908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</a:tr>
              <a:tr h="514440">
                <a:tc>
                  <a:txBody>
                    <a:bodyPr lIns="38160" rIns="19080" tIns="38160" bIns="19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Álcool </a:t>
                      </a:r>
                      <a:r>
                        <a:rPr b="1" lang="pt-BR" sz="1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1908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19080" tIns="3816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 (149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19080" tIns="38160" bIns="19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ículos lev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19080" tIns="38160" bIns="19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ículos adaptados para o consumo – oferta de carros flex aumentou demanda; preço baixo, mas volát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19080" tIns="38160" bIns="19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, AleSat, Ipirang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19080" tIns="38160" bIns="19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eda no preço do álcool pode dificultar novas conversõ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1908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4440">
                <a:tc>
                  <a:txBody>
                    <a:bodyPr lIns="38160" rIns="19080" tIns="38160" bIns="19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1908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38160" rIns="19080" tIns="3816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6 (329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38160" rIns="19080" tIns="38160" bIns="19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idencial, comerci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38160" rIns="19080" tIns="38160" bIns="19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e instalada de consumidores, praticidade no transporte; hábito do consumidor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38160" rIns="19080" tIns="38160" bIns="19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cional, Liquigás, Minasgás/SHV, Bahiana/Ultr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38160" rIns="19080" tIns="38160" bIns="19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etidor do GN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1908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</a:tr>
              <a:tr h="507960">
                <a:tc>
                  <a:txBody>
                    <a:bodyPr lIns="38160" rIns="19080" tIns="38160" bIns="19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tricida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1908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19080" tIns="3816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2 (846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19080" tIns="38160" bIns="19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dos, especial/e Industrial, residenci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19080" tIns="38160" bIns="19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aticidade no uso, base instalada, distribuição ampl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19080" tIns="38160" bIns="19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er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19080" tIns="38160" bIns="19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etidor do GN para usos térmic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1908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9" name=""/>
          <p:cNvSpPr/>
          <p:nvPr/>
        </p:nvSpPr>
        <p:spPr>
          <a:xfrm>
            <a:off x="462960" y="6643800"/>
            <a:ext cx="2515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% GN: Parcela do gás natural no consumo do se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03800" y="6404040"/>
            <a:ext cx="7139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Obs: (1) Rendimento menor da biomassa distorce</a:t>
            </a:r>
            <a:r>
              <a:rPr b="1" lang="pt-BR" sz="800" spc="-1" strike="noStrike">
                <a:solidFill>
                  <a:srgbClr val="000000"/>
                </a:solidFill>
                <a:latin typeface="Arial"/>
              </a:rPr>
              <a:t> os dados (2) </a:t>
            </a: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Gasolina: não inclui álcool anidro adicionado (3) Álcool: inclui parcela contida na gasolin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662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Há espaço para a Potigás obter uma margem de contribuição elevada na competição com o GLP e a eletricidad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4092120"/>
            <a:ext cx="4038480" cy="215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 comparação da formação de preços do gás natural, GLP e eletricidade mostra a vantagem do gás natural no custo de aquisição do energético distribuíd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Gás Natural: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R$0,35/m</a:t>
            </a:r>
            <a:r>
              <a:rPr b="0" lang="pt-BR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Eletricidade: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R$ 0,70/ m</a:t>
            </a:r>
            <a:r>
              <a:rPr b="0" lang="pt-BR" sz="1400" spc="-1" strike="noStrike" baseline="30000">
                <a:solidFill>
                  <a:srgbClr val="000000"/>
                </a:solidFill>
                <a:latin typeface="Arial"/>
              </a:rPr>
              <a:t>3 </a:t>
            </a:r>
            <a:r>
              <a:rPr b="0" lang="pt-BR" sz="900" spc="-1" strike="noStrike" baseline="-25000">
                <a:solidFill>
                  <a:srgbClr val="000000"/>
                </a:solidFill>
                <a:latin typeface="Arial"/>
              </a:rPr>
              <a:t>GNE</a:t>
            </a:r>
            <a:r>
              <a:rPr b="0" lang="pt-BR" sz="1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GLP: R$ 0,81/ m</a:t>
            </a:r>
            <a:r>
              <a:rPr b="0" lang="pt-BR" sz="1400" spc="-1" strike="noStrike" baseline="30000">
                <a:solidFill>
                  <a:srgbClr val="000000"/>
                </a:solidFill>
                <a:latin typeface="Arial"/>
              </a:rPr>
              <a:t>3 </a:t>
            </a:r>
            <a:r>
              <a:rPr b="0" lang="pt-BR" sz="900" spc="-1" strike="noStrike" baseline="-25000">
                <a:solidFill>
                  <a:srgbClr val="000000"/>
                </a:solidFill>
                <a:latin typeface="Arial"/>
              </a:rPr>
              <a:t>G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48320" y="4092120"/>
            <a:ext cx="4038480" cy="215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letricidade trabalha com uma larga margem bruta (lucro + custos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 distribuição no varejo do GLP inclui um revendedor – com sua marg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Gás natural apresenta margem menor por estar voltada a consumidores de maior porte e não contemplar atuação no varejo (residências e pequeno comércio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rcRect l="1750" t="0" r="1377" b="0"/>
          <a:stretch/>
        </p:blipFill>
        <p:spPr>
          <a:xfrm>
            <a:off x="3052800" y="1501920"/>
            <a:ext cx="2898720" cy="227952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pic>
        <p:nvPicPr>
          <p:cNvPr id="195" name="" descr=""/>
          <p:cNvPicPr/>
          <p:nvPr/>
        </p:nvPicPr>
        <p:blipFill>
          <a:blip r:embed="rId2"/>
          <a:srcRect l="0" t="7959" r="2568" b="2603"/>
          <a:stretch/>
        </p:blipFill>
        <p:spPr>
          <a:xfrm>
            <a:off x="6027840" y="1501920"/>
            <a:ext cx="3014640" cy="228888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pic>
        <p:nvPicPr>
          <p:cNvPr id="196" name="" descr=""/>
          <p:cNvPicPr/>
          <p:nvPr/>
        </p:nvPicPr>
        <p:blipFill>
          <a:blip r:embed="rId3"/>
          <a:srcRect l="0" t="0" r="1833" b="0"/>
          <a:stretch/>
        </p:blipFill>
        <p:spPr>
          <a:xfrm>
            <a:off x="87480" y="1514520"/>
            <a:ext cx="2889000" cy="227160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sp>
        <p:nvSpPr>
          <p:cNvPr id="197" name=""/>
          <p:cNvSpPr/>
          <p:nvPr/>
        </p:nvSpPr>
        <p:spPr>
          <a:xfrm>
            <a:off x="1021680" y="1579680"/>
            <a:ext cx="88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 Narrow"/>
              </a:rPr>
              <a:t>Gás Natu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282920" y="153180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 Narrow"/>
              </a:rPr>
              <a:t>GL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097400" y="1506600"/>
            <a:ext cx="89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 Narrow"/>
              </a:rPr>
              <a:t>Eletricid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438200" y="1230480"/>
            <a:ext cx="555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 Narrow"/>
              </a:rPr>
              <a:t>Break-down dos Preços Praticados no Rio Grande do Norte (2006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616960" y="2293920"/>
            <a:ext cx="539640" cy="5202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700" spc="-1" strike="noStrike">
                <a:solidFill>
                  <a:srgbClr val="000000"/>
                </a:solidFill>
                <a:latin typeface="Arial Narrow"/>
              </a:rPr>
              <a:t>Range de preços por categoria de consumido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13040" y="3787920"/>
            <a:ext cx="3227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800" spc="-1" strike="noStrike">
                <a:solidFill>
                  <a:srgbClr val="000000"/>
                </a:solidFill>
                <a:latin typeface="Arial Narrow"/>
              </a:rPr>
              <a:t>Fonte: estimativas FGV Projetos a partir dos balanços das empresas e ANP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154400" y="3459240"/>
            <a:ext cx="549360" cy="3920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01680" y="5106960"/>
            <a:ext cx="1492200" cy="4338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Cogeraçã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857240" y="4707000"/>
            <a:ext cx="1297080" cy="2872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091040" y="2292480"/>
            <a:ext cx="1069920" cy="5112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105440" y="1746360"/>
            <a:ext cx="1044360" cy="5475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160880" y="2857680"/>
            <a:ext cx="549360" cy="3920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662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Fronteiras de atuação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3981600" y="1547640"/>
            <a:ext cx="0" cy="3137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994200" y="4681440"/>
            <a:ext cx="3713040" cy="1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1771560" y="4654440"/>
            <a:ext cx="2208240" cy="1365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863800" y="1517760"/>
            <a:ext cx="100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scop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243080" y="6045120"/>
            <a:ext cx="141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egmen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9520" y="48322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Ár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854520" y="4233960"/>
            <a:ext cx="239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79720" y="1996920"/>
            <a:ext cx="239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878280" y="2532240"/>
            <a:ext cx="239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863880" y="3021120"/>
            <a:ext cx="239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863880" y="3654360"/>
            <a:ext cx="239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668760" y="4638600"/>
            <a:ext cx="198360" cy="30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733840" y="5195880"/>
            <a:ext cx="198360" cy="30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449440" y="5388120"/>
            <a:ext cx="198360" cy="309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341520" y="4791240"/>
            <a:ext cx="198720" cy="309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19320" y="5665680"/>
            <a:ext cx="198360" cy="30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62440" y="4538520"/>
            <a:ext cx="1800" cy="28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761080" y="4564080"/>
            <a:ext cx="1440" cy="280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759720" y="4548240"/>
            <a:ext cx="1440" cy="280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311720" y="4808520"/>
            <a:ext cx="895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Grande Nat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327640" y="4818240"/>
            <a:ext cx="89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Mossoró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343560" y="4830840"/>
            <a:ext cx="89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Interi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786040" y="4322880"/>
            <a:ext cx="99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Industr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538360" y="4576680"/>
            <a:ext cx="89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GN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738440" y="4916520"/>
            <a:ext cx="110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Comer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968480" y="4694400"/>
            <a:ext cx="111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Residen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46280" y="5330880"/>
            <a:ext cx="131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Geração Eletricida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052880" y="3971880"/>
            <a:ext cx="1557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Gás Natural (canalizado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135320" y="3506760"/>
            <a:ext cx="155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GN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149720" y="2886120"/>
            <a:ext cx="155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Gá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32440" y="2292480"/>
            <a:ext cx="1557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Serviços agrega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114800" y="1739880"/>
            <a:ext cx="1557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Serviços energétic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059280" y="4978440"/>
            <a:ext cx="198360" cy="30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33280" y="4748040"/>
            <a:ext cx="1030320" cy="58068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 Narrow"/>
              </a:rPr>
              <a:t>Novos segmen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662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expansão da rede da Potigás será calcada no aproveitamento da capacidade existente e na interiorização seletiva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área definida para a atuação da Potigás foi o Estado do Rio Grande do Norte</a:t>
            </a:r>
            <a:r>
              <a:rPr b="0" lang="pt-BR" sz="1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, com ênfase nas seguintes regiõ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Grande Na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iorização do atendimento de clientes situados ao longo da malha existente, para aproveitar capacidade ociosa, minimizar custos de investimento, propiciar rápida geração de caix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Mossor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Interiorização seleti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Ao longo dos gasodutos existentes (com o uso de válvulas para city-gates customizado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Extensão de redes de distribuição exist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Eixo Assu-Seridó, em função da expectativa da construção de um gasoduto que corte a regiã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Atendimento via GNC para antecipar consum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s critérios para a escolha fora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xistência de re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oncentração do consumo potenci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68280" y="6280200"/>
            <a:ext cx="850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A possibilidade de expandir sua atuação para outros estados (como estados vizinhos com a distribuição por meio de GNC ou estados que venham a permitir competição para grandes clientes) foi desconsiderada em função do compromisso da empresa como estado e a priorização da área de concessão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1676520" y="304920"/>
            <a:ext cx="7315200" cy="549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100080" y="1828800"/>
          <a:ext cx="7634160" cy="3606840"/>
        </p:xfrm>
        <a:graphic>
          <a:graphicData uri="http://schemas.openxmlformats.org/drawingml/2006/table">
            <a:tbl>
              <a:tblPr/>
              <a:tblGrid>
                <a:gridCol w="1604880"/>
                <a:gridCol w="6029280"/>
              </a:tblGrid>
              <a:tr h="158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7 Municípios atendidos: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tos: 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GNC: 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tal, Parnamirim, São Gonçalo, Macaíba, Ielmo Marinho, Mossoró, Goianinha, Gov. Dix-Sept Rosado, Ceará - Mirim, Areia Branca*, Assu*, Currais Novos*, Caicó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2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nicípios atendidos: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ão Câmara, Macau, Grossos, Jucurutu, São José do Seridó, Cruzeta, Acari, Parelhas, Jandaíra, Monte Alegre, São José do Mipibu, Alto do Rodrigues, Pendências, Nova Cruz, Canguaretama, Caraúbas, Pau-dos Ferros, Apodi, Santa Cruz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0" y="3906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 Gás Natural atenderá 31 municípios em 2010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66360" y="304920"/>
            <a:ext cx="662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Em Natal, a malha permite atingir consumidores residenciais e comerciais localizados no seu entorn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352440" y="1285920"/>
          <a:ext cx="7248600" cy="507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2440" y="1285920"/>
                    <a:ext cx="7248600" cy="507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3" name=""/>
          <p:cNvSpPr/>
          <p:nvPr/>
        </p:nvSpPr>
        <p:spPr>
          <a:xfrm>
            <a:off x="361800" y="5084640"/>
            <a:ext cx="2210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-19080" y="4495680"/>
            <a:ext cx="168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idade Ver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1276200" y="5486400"/>
            <a:ext cx="20574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31760" y="5410080"/>
            <a:ext cx="15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onta Neg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1809720" y="5791320"/>
            <a:ext cx="20574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08080" y="6019920"/>
            <a:ext cx="15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ia Costei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4933440" y="4800600"/>
            <a:ext cx="22100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5772240" y="5029200"/>
            <a:ext cx="1676160" cy="244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067880" y="4648320"/>
            <a:ext cx="100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ibei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5192640" y="1989000"/>
            <a:ext cx="2774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310720" y="1519200"/>
            <a:ext cx="255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eroporto S. Gonça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638520" y="4038480"/>
            <a:ext cx="0" cy="1113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876040" y="3581280"/>
            <a:ext cx="139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ndelá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4438800" y="5733720"/>
            <a:ext cx="431640" cy="431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503520" y="6165720"/>
            <a:ext cx="134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ãe Luí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4222800" y="3573360"/>
            <a:ext cx="216000" cy="752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646440" y="3068640"/>
            <a:ext cx="126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.Camar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519280" y="1224000"/>
            <a:ext cx="361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 Narrow"/>
              </a:rPr>
              <a:t>Malha atual e prevista - Na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-697320" y="6630840"/>
            <a:ext cx="723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Fonte: Potigá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4984920" y="3522600"/>
            <a:ext cx="3848040" cy="2895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555480" y="3638520"/>
            <a:ext cx="5262840" cy="300204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488520" y="6461280"/>
            <a:ext cx="723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Fonte: Potigá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4840200" y="3813120"/>
            <a:ext cx="2926440" cy="976680"/>
            <a:chOff x="4840200" y="3813120"/>
            <a:chExt cx="2926440" cy="976680"/>
          </a:xfrm>
        </p:grpSpPr>
        <p:sp>
          <p:nvSpPr>
            <p:cNvPr id="276" name=""/>
            <p:cNvSpPr/>
            <p:nvPr/>
          </p:nvSpPr>
          <p:spPr>
            <a:xfrm>
              <a:off x="6915240" y="3990960"/>
              <a:ext cx="77760" cy="15732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597720" y="4129200"/>
              <a:ext cx="77760" cy="15696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80080" y="3813120"/>
              <a:ext cx="77760" cy="15732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284880" y="3830760"/>
              <a:ext cx="77760" cy="15696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807160" y="3924360"/>
              <a:ext cx="376200" cy="2617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Narrow"/>
                </a:rPr>
                <a:t>UPG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903280" y="4543560"/>
              <a:ext cx="1863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Narrow"/>
                </a:rPr>
                <a:t>Campos de gás (não-aproveitado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2" name=""/>
            <p:cNvCxnSpPr>
              <a:stCxn id="276" idx="2"/>
              <a:endCxn id="280" idx="3"/>
            </p:cNvCxnSpPr>
            <p:nvPr/>
          </p:nvCxnSpPr>
          <p:spPr>
            <a:xfrm flipH="1" flipV="1">
              <a:off x="6182640" y="4055760"/>
              <a:ext cx="732600" cy="15120"/>
            </a:xfrm>
            <a:prstGeom prst="straightConnector1">
              <a:avLst/>
            </a:prstGeom>
            <a:ln w="28440">
              <a:solidFill>
                <a:srgbClr val="00cc99"/>
              </a:solidFill>
              <a:miter/>
            </a:ln>
          </p:spPr>
        </p:cxnSp>
        <p:cxnSp>
          <p:nvCxnSpPr>
            <p:cNvPr id="283" name=""/>
            <p:cNvCxnSpPr>
              <a:stCxn id="280" idx="1"/>
              <a:endCxn id="284" idx="3"/>
            </p:cNvCxnSpPr>
            <p:nvPr/>
          </p:nvCxnSpPr>
          <p:spPr>
            <a:xfrm flipH="1">
              <a:off x="4850640" y="4055760"/>
              <a:ext cx="956520" cy="11880"/>
            </a:xfrm>
            <a:prstGeom prst="straightConnector1">
              <a:avLst/>
            </a:prstGeom>
            <a:ln w="28440">
              <a:solidFill>
                <a:srgbClr val="00cc99"/>
              </a:solidFill>
              <a:miter/>
            </a:ln>
          </p:spPr>
        </p:cxnSp>
        <p:sp>
          <p:nvSpPr>
            <p:cNvPr id="284" name=""/>
            <p:cNvSpPr/>
            <p:nvPr/>
          </p:nvSpPr>
          <p:spPr>
            <a:xfrm>
              <a:off x="4840200" y="3978360"/>
              <a:ext cx="79560" cy="104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stCxn id="277" idx="1"/>
              <a:endCxn id="279" idx="2"/>
            </p:cNvCxnSpPr>
            <p:nvPr/>
          </p:nvCxnSpPr>
          <p:spPr>
            <a:xfrm flipH="1" flipV="1">
              <a:off x="6284520" y="3909600"/>
              <a:ext cx="324720" cy="241920"/>
            </a:xfrm>
            <a:prstGeom prst="straightConnector1">
              <a:avLst/>
            </a:prstGeom>
            <a:ln w="28440">
              <a:solidFill>
                <a:srgbClr val="00cc99"/>
              </a:solidFill>
              <a:miter/>
            </a:ln>
          </p:spPr>
        </p:cxnSp>
        <p:cxnSp>
          <p:nvCxnSpPr>
            <p:cNvPr id="286" name=""/>
            <p:cNvCxnSpPr>
              <a:stCxn id="277" idx="1"/>
              <a:endCxn id="278" idx="3"/>
            </p:cNvCxnSpPr>
            <p:nvPr/>
          </p:nvCxnSpPr>
          <p:spPr>
            <a:xfrm flipH="1" flipV="1">
              <a:off x="6590520" y="3947760"/>
              <a:ext cx="18360" cy="203760"/>
            </a:xfrm>
            <a:prstGeom prst="straightConnector1">
              <a:avLst/>
            </a:prstGeom>
            <a:ln w="28440">
              <a:solidFill>
                <a:srgbClr val="00cc99"/>
              </a:solidFill>
              <a:miter/>
            </a:ln>
          </p:spPr>
        </p:cxnSp>
      </p:grp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662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 atendimento do pólo salineiro em Mossoró é possível por diferentes modo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fornecimento de gás para as salineir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a rede (com expansão prevista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a GN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sibilidade de futuro atendimento em Areia Branca com o gás produzido em Ponta do M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tencial estimado de produção em campos na região: cerca de 100 mil m3/d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cessidade de construção de uma UPGN (capacidade de 100 mil m3/dia) e rede de gasodutos para interligação dos poços produtores e consumo (cerca de 25 k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ordenação entre os agen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1139760" y="1419120"/>
            <a:ext cx="6939000" cy="52261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291" name="" descr=""/>
          <p:cNvPicPr/>
          <p:nvPr/>
        </p:nvPicPr>
        <p:blipFill>
          <a:blip r:embed="rId2"/>
          <a:stretch/>
        </p:blipFill>
        <p:spPr>
          <a:xfrm>
            <a:off x="1219320" y="6172200"/>
            <a:ext cx="6908760" cy="50328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3"/>
          <a:stretch/>
        </p:blipFill>
        <p:spPr>
          <a:xfrm>
            <a:off x="6916680" y="1486080"/>
            <a:ext cx="1093680" cy="863280"/>
          </a:xfrm>
          <a:prstGeom prst="rect">
            <a:avLst/>
          </a:prstGeom>
          <a:ln w="0">
            <a:noFill/>
          </a:ln>
        </p:spPr>
      </p:pic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662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expansão no eixo Assu-Seridó depende da construção, ainda não definida, do gasoduto Nordestão II por parte da Petrobra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 rot="5400000">
            <a:off x="396720" y="-133200"/>
            <a:ext cx="1490760" cy="22845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365040" y="2011320"/>
            <a:ext cx="6745320" cy="13017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225440" y="2033640"/>
            <a:ext cx="5637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O MERCADO DE GÁS NATURAL NO BRAS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666800" y="3792600"/>
          <a:ext cx="4762440" cy="2469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66800" y="3792600"/>
                    <a:ext cx="4762440" cy="24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677880" y="1395360"/>
            <a:ext cx="7804080" cy="533736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662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mercado automotivo, a maior parte do benefício fica com o consumidor, restando para a Potigás uma margem inferior ao dos demais agentes da cadeia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316160" y="4319640"/>
            <a:ext cx="1176120" cy="390600"/>
          </a:xfrm>
          <a:prstGeom prst="ellipse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Arial Narrow"/>
              </a:rPr>
              <a:t>Álc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46320" y="1692360"/>
            <a:ext cx="1176120" cy="390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Gasol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786120" y="3487680"/>
            <a:ext cx="719280" cy="4032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G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961240" y="3475080"/>
            <a:ext cx="105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Margem da Potigá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145200" y="4019400"/>
            <a:ext cx="677880" cy="874800"/>
          </a:xfrm>
          <a:prstGeom prst="downArrow">
            <a:avLst>
              <a:gd name="adj1" fmla="val 50000"/>
              <a:gd name="adj2" fmla="val 32262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289560" y="1933560"/>
            <a:ext cx="1803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Preços em R$/m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 Narro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 de G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consideran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1 l de gasolina = 1 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 Narrow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G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1,2 l de álcool = 1 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 Narrow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G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78600" y="6564240"/>
            <a:ext cx="3221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Fonte: ANP (Pesquisa de Preços de Combustíveis em Natal 22/05/2007), Potigá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662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á possibilidades da Potigás expandir suas atividades, ao longo da cadeia do gás, com serviços correlatos ou diversificando sua atuaçã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705120" y="3195720"/>
            <a:ext cx="1995480" cy="13320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Distribuição de Gá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292400" y="4149720"/>
            <a:ext cx="7111800" cy="338040"/>
          </a:xfrm>
          <a:custGeom>
            <a:avLst/>
            <a:gdLst>
              <a:gd name="textAreaLeft" fmla="*/ 0 w 7111800"/>
              <a:gd name="textAreaRight" fmla="*/ 7112160 w 7111800"/>
              <a:gd name="textAreaTop" fmla="*/ 0 h 338040"/>
              <a:gd name="textAreaBottom" fmla="*/ 338400 h 33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22" y="0"/>
                </a:lnTo>
                <a:lnTo>
                  <a:pt x="21600" y="10800"/>
                </a:lnTo>
                <a:lnTo>
                  <a:pt x="2032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adeia do Gá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95360" y="3510000"/>
            <a:ext cx="1227240" cy="574560"/>
          </a:xfrm>
          <a:prstGeom prst="leftArrow">
            <a:avLst>
              <a:gd name="adj1" fmla="val 50000"/>
              <a:gd name="adj2" fmla="val 533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784160" y="3147840"/>
            <a:ext cx="183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Integração Up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H="1">
            <a:off x="5812560" y="3309840"/>
            <a:ext cx="1227240" cy="574920"/>
          </a:xfrm>
          <a:prstGeom prst="leftArrow">
            <a:avLst>
              <a:gd name="adj1" fmla="val 50000"/>
              <a:gd name="adj2" fmla="val 533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602320" y="2909880"/>
            <a:ext cx="206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Integração Down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rot="5400000">
            <a:off x="4105800" y="2197800"/>
            <a:ext cx="1227240" cy="574560"/>
          </a:xfrm>
          <a:prstGeom prst="leftArrow">
            <a:avLst>
              <a:gd name="adj1" fmla="val 50000"/>
              <a:gd name="adj2" fmla="val 533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826440" y="1538280"/>
            <a:ext cx="179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Serviços Agrega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rot="16200000">
            <a:off x="4118760" y="4962960"/>
            <a:ext cx="1227240" cy="574920"/>
          </a:xfrm>
          <a:prstGeom prst="leftArrow">
            <a:avLst>
              <a:gd name="adj1" fmla="val 50000"/>
              <a:gd name="adj2" fmla="val 533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013280" y="5830920"/>
            <a:ext cx="1463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Diversificação de Energétic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500840" y="4167360"/>
            <a:ext cx="180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Produção 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Transpor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972040" y="4175280"/>
            <a:ext cx="155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Serviços Energétic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3054240" y="3575160"/>
            <a:ext cx="1460520" cy="17222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106800" y="2514600"/>
            <a:ext cx="1434960" cy="9558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662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A distribuidora, além de oferecer serviços agregados aos clientes, deve fomentar a oferta de fornecedores para incentivar/viabilizar o uso do gá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724360" y="2625840"/>
            <a:ext cx="1758960" cy="2546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quipamento (Clien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545000" y="2709720"/>
            <a:ext cx="1084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861000" y="252396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Gá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546440" y="3270240"/>
            <a:ext cx="1084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438360" y="3098880"/>
            <a:ext cx="10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nex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546440" y="3745080"/>
            <a:ext cx="1084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057120" y="3573360"/>
            <a:ext cx="149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ede Inter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545000" y="4226040"/>
            <a:ext cx="1084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660120" y="405432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Varej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545000" y="4632480"/>
            <a:ext cx="1084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331800" y="4460760"/>
            <a:ext cx="11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per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546440" y="5108400"/>
            <a:ext cx="1084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103560" y="4937040"/>
            <a:ext cx="14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anuten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049400" y="2610000"/>
            <a:ext cx="1911240" cy="733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Atuação sob responsabilidade direta da distribuido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949480" y="5345280"/>
            <a:ext cx="1781280" cy="9464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Fomentar a oferta de fornecedores de equipamentos /serviç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752560" y="3470400"/>
            <a:ext cx="2114640" cy="587160"/>
          </a:xfrm>
          <a:prstGeom prst="ellipse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867040" y="4862520"/>
            <a:ext cx="1839960" cy="482760"/>
          </a:xfrm>
          <a:prstGeom prst="ellipse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06520" y="3909960"/>
            <a:ext cx="2465280" cy="795240"/>
          </a:xfrm>
          <a:prstGeom prst="ellipse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Oferecer serviço aos clientes; contratação de forneced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662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expansão da produção e processamento de gás pode contribuir para a interiorização do atendimento e o aproveitamento dos recursos locais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4005360" y="3537000"/>
            <a:ext cx="5113080" cy="3151080"/>
          </a:xfrm>
          <a:prstGeom prst="rect">
            <a:avLst/>
          </a:prstGeom>
          <a:ln w="0">
            <a:noFill/>
          </a:ln>
        </p:spPr>
      </p:pic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ólo de Calcinaç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EDE: Governador Dix-Sept Rosado (40 Km de Mossoró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RODUÇÃO: cal hidratado, cal virgem, cerâmica, indústria de refratários e gesso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NERGIA: Gás Natural dos campos da área Sul de Mossoró (reserva de 300 milhões de m³), contrastando com lenha hoje utilizada e GLP utilizado no pólo de Minas Gerai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MPRESA ÂNCORA:  KICAL, 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na RN 117, com a produção de 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10.000 ton/mês (contrato assinado com a Potigás). A demanda prevista para todo o pólo é de 30 mil m³, ou seja, mantido esse consumo há gás na região por 27 ano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SITUAÇÃO ATUAL: 8.000 ton/mês, 60 calcinadoras, 500 empregos diretos e 1000 indiretos (maioria informal); baixa qualidade e baixa produtividade; produção artesanal e desordenad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Com a modernização das empresas e o uso do Gás-Natural a produção poderá atingir 40.000 ton/mês, com alta qualidade e alto valor agregado, dobrando o número de empreg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5610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Visão e Missão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0" y="1209600"/>
            <a:ext cx="75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ão da Potigás para o futur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zer do gás natural um indutor do desenvolvimento sustentável do Rio Grande do Nor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ssão da Potigá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Oferecer soluções energéticas que atendam às necessidades da nossa sociedade, bem como fornecer aos seus clientes produtos de qualidade e que respeitem o meio ambiente, além de permitir que os acionistas obtenham crescente rentabilidade e que os empregados desenvolvam, com satisfação, suas atividades profissionais.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662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Análise do Merca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114560" y="2371680"/>
            <a:ext cx="6029280" cy="2629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603440" y="3073320"/>
            <a:ext cx="5308560" cy="14353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3233520" y="2627280"/>
            <a:ext cx="173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Macro-ambi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815000" y="3086280"/>
            <a:ext cx="2057400" cy="1128600"/>
          </a:xfrm>
          <a:custGeom>
            <a:avLst/>
            <a:gdLst>
              <a:gd name="textAreaLeft" fmla="*/ 0 w 2057400"/>
              <a:gd name="textAreaRight" fmla="*/ 2057400 w 2057400"/>
              <a:gd name="textAreaTop" fmla="*/ 0 h 1128600"/>
              <a:gd name="textAreaBottom" fmla="*/ 1128960 h 11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rcRect l="13233" t="13010" r="17576" b="9530"/>
          <a:stretch/>
        </p:blipFill>
        <p:spPr>
          <a:xfrm>
            <a:off x="184320" y="3664080"/>
            <a:ext cx="3635280" cy="27432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662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 Rio Grande do Norte é um estado movido a derivados de petróleo e biomassa..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9760" y="1533240"/>
            <a:ext cx="397008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O consumo de energia no RN em 2005 foi de 1,6 milhão de tep (5,6 MM de m</a:t>
            </a:r>
            <a:r>
              <a:rPr b="0" lang="pt-BR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/d de GNE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Os principais derivados de petróleo consumidos são para transporte (diesel e gasolina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esença expressiva da biomassa (lenha) se deve em parte ao baixo rendimento observad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rcRect l="10781" t="0" r="10341" b="0"/>
          <a:stretch/>
        </p:blipFill>
        <p:spPr>
          <a:xfrm>
            <a:off x="4422600" y="1339920"/>
            <a:ext cx="4553280" cy="38908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406440" y="6438960"/>
            <a:ext cx="253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Fonte: Balanço Energético RN, elaboração FGV Projet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476520" y="5181480"/>
            <a:ext cx="4062600" cy="14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Obs.: os dados apresentados neste trabalho foram retirados do Balanço Energético Estadual 2005 do Rio Grande do Norte, com as seguintes limitações decorrente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287280" indent="-9216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inconsistências identificados, como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2" marL="757080" indent="-18252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a falta de consumo de gás natural pelo setor energético (que consome parte da produção nos campos de petróleo e gás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2" marL="757080" indent="-18252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Limitação de dados de energia elétrica vendida pela Cosern, sem considerar consumidores livres que compram de outros fornecedores (fato que consta no Relatório da Cosern)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287280" indent="-9216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Defasagem dos dados em função da dinâmica acelerada do Estad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Apesar destas ressalvas acreditamos que os dados são um indicador útil do mercado de energia potiguar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76080" y="304920"/>
            <a:ext cx="662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cujo crescimento recente do consumo de energia se deu nos setores de transporte e comércio, com o gás natural ampliando a sua participação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3894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Participação do gás natural dobrou ao longo da década e corresponde a 7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rescimento do consumo de energia na década teve o impacto do racionamento de eletricidade em 200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O maior incremento absoluto do consumo foi no setor de transportes, seguido pelo setor comercial (inclui serviços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O setor agropecuário apresentou o maior crescimento percentual, mas sua participação no volume agregado é pequen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O desempenho pífio dos setores residencial e industrial decorre do racionamento de energia, que alterou o patamar de consumo no início da década, e da substituição da lenha por outros energéticos com maior eficiência na queim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rcRect l="2708" t="0" r="15010" b="0"/>
          <a:stretch/>
        </p:blipFill>
        <p:spPr>
          <a:xfrm>
            <a:off x="4856040" y="2290680"/>
            <a:ext cx="3984840" cy="32641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5310360" y="5626080"/>
            <a:ext cx="1707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Fonte: Balanço Energético 2005  R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326200" y="1863720"/>
            <a:ext cx="3049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 Narrow"/>
              </a:rPr>
              <a:t>Crescimento do Consumo de Energia no RN por Se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550800" y="4119480"/>
            <a:ext cx="3968640" cy="26751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571680" y="3843360"/>
            <a:ext cx="397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 Narrow"/>
              </a:rPr>
              <a:t>Consumo de Energia no RN e Participação do Gá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662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s setores em que está presente, o gás natural ocupa uma posição de destaque, mas está ausente de dois segmentos com potencial de crescimento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6320" y="1600200"/>
            <a:ext cx="40384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ust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N é o segundo energético, superado pela biomassa. Potencial de substituição de derivados de petróleo é mínim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por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N ocupa 1/4 do mercado automotivo leve (parcela ainda maior nas cidades com GNV); diesel é o principal combustív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idencial/comercia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cial de substituir parte do consumo de GLP e eletricida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772080" y="1600200"/>
            <a:ext cx="40384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ros set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gropecuária: consumo reduzido de energia e pulverizado pelo interio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ergético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203720" y="3324240"/>
            <a:ext cx="4400640" cy="29653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417920" y="2982960"/>
            <a:ext cx="3975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Arial Narrow"/>
              </a:rPr>
              <a:t>Consumo de Energia no RN em 2005</a:t>
            </a:r>
            <a:br>
              <a:rPr sz="1000"/>
            </a:br>
            <a:r>
              <a:rPr b="1" lang="pt-BR" sz="1000" spc="-1" strike="noStrike">
                <a:solidFill>
                  <a:srgbClr val="000000"/>
                </a:solidFill>
                <a:latin typeface="Arial Narrow"/>
              </a:rPr>
              <a:t>em mil te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196240" y="6273720"/>
            <a:ext cx="1681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Fonte: Balanço Energético 2005 R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93400" y="304920"/>
            <a:ext cx="662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Quadro-resumo: setores do mercado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442800" y="1405080"/>
          <a:ext cx="8467920" cy="4879800"/>
        </p:xfrm>
        <a:graphic>
          <a:graphicData uri="http://schemas.openxmlformats.org/drawingml/2006/table">
            <a:tbl>
              <a:tblPr/>
              <a:tblGrid>
                <a:gridCol w="1096920"/>
                <a:gridCol w="900360"/>
                <a:gridCol w="395280"/>
                <a:gridCol w="1433520"/>
                <a:gridCol w="2208240"/>
                <a:gridCol w="1241280"/>
                <a:gridCol w="1192320"/>
              </a:tblGrid>
              <a:tr h="563400">
                <a:tc>
                  <a:txBody>
                    <a:bodyPr lIns="38160" rIns="19080" tIns="38160" bIns="381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cad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t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1908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1908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sum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l tep </a:t>
                      </a:r>
                      <a:br>
                        <a:rPr sz="900"/>
                      </a:br>
                      <a:r>
                        <a:rPr b="1" lang="pt-BR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milm</a:t>
                      </a:r>
                      <a:r>
                        <a:rPr b="1" lang="pt-BR" sz="9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r>
                        <a:rPr b="1" lang="pt-BR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d GNE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19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38160" rIns="1908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 GN </a:t>
                      </a:r>
                      <a:r>
                        <a:rPr b="1" lang="pt-B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1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19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38160" rIns="1908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sumido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19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38160" rIns="1908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riv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19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38160" rIns="1908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ncipais Concorrent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19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38160" rIns="1908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licaçõ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1908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3366ff"/>
                    </a:solidFill>
                  </a:tcPr>
                </a:tc>
              </a:tr>
              <a:tr h="880560">
                <a:tc>
                  <a:txBody>
                    <a:bodyPr lIns="38160" rIns="19080" tIns="38160" bIns="19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ustri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1908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19080" tIns="3816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1 (1.029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19080" tIns="3816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19080" tIns="38160" bIns="19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imentos &amp; bebidas, têxtil, cerâmica, mineraçã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19080" tIns="38160" bIns="19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ço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é fator crucial, especialmente para os maiores consumido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lidade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é importante em algumas atividade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19080" tIns="38160" bIns="19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omassa (lenha e bagaço de cana), eletricidade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19080" tIns="38160" bIns="19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Disputa com preço X biomassa não é factível; buscar segmentos que valorizem qualidades do gá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1908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09000">
                <a:tc>
                  <a:txBody>
                    <a:bodyPr lIns="38160" rIns="19080" tIns="38160" bIns="19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port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1908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38160" rIns="19080" tIns="3816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7 (1.828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38160" rIns="19080" tIns="3816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38160" rIns="19080" tIns="38160" bIns="19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doviário: ônibus e caminhões movidos a diesel, veículos leves a gasolina, álcool e GNV; Aéreo (QAV); outr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38160" rIns="19080" tIns="38160" bIns="19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colha basicamente feita na aquisição do veículo; possibilidade de conversão veículos rodoviários em função do investimento e diferença de preço de combustíveis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38160" rIns="19080" tIns="38160" bIns="19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ículos leves: gasolina e álcoo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ículos pesados: óleo diesel. Demais segmentos: GNV não se aplic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38160" rIns="19080" tIns="38160" bIns="19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GN voltado para um segmento (veículos leves); potencial em transporte coletivo urbano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1908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</a:tr>
              <a:tr h="819000">
                <a:tc>
                  <a:txBody>
                    <a:bodyPr lIns="38160" rIns="19080" tIns="38160" bIns="19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idenci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1908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19080" tIns="3816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2 (1.345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19080" tIns="3816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19080" tIns="38160" bIns="19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das as classes sociai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19080" tIns="38160" bIns="19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finido na escolha do equipamento. Conveniência/ conforto – importante para rendas mais altas. Preço é fator relevante para as camadas mais pob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19080" tIns="38160" bIns="19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nha e GLP para cocção, Eletricidade (aquecimento água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19080" tIns="38160" bIns="19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Custo elevado de mudança de equipamento e de conversão em imóveis usad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1908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19000">
                <a:tc>
                  <a:txBody>
                    <a:bodyPr lIns="38160" rIns="19080" tIns="38160" bIns="19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erci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1908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38160" rIns="19080" tIns="3816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1 (470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38160" rIns="19080" tIns="3816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38160" rIns="19080" tIns="38160" bIns="19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spitais, hotéis, serviço público, restaurantes, etc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38160" rIns="19080" tIns="38160" bIns="19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ço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é importante para os maiores consumidores.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lidade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é relevante em poucas atividades. Conveniência/ conforto pesam para consumos menore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38160" rIns="19080" tIns="38160" bIns="19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nha, GLP e Eletricida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38160" rIns="19080" tIns="38160" bIns="19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Segmentos com necessidades distintas e específic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1908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</a:tr>
              <a:tr h="362160">
                <a:tc>
                  <a:txBody>
                    <a:bodyPr lIns="38160" rIns="19080" tIns="38160" bIns="19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ropecuár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1908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19080" tIns="3816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 (12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19080" tIns="3816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19080" tIns="38160" bIns="19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zendas, chácaras, imóveis rura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19080" tIns="38160" bIns="19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ponibilidade; preç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19080" tIns="38160" bIns="19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tricidad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19080" tIns="38160" bIns="19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Setor pequeno e disperso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1908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6600">
                <a:tc>
                  <a:txBody>
                    <a:bodyPr lIns="38160" rIns="19080" tIns="38160" bIns="19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ergético </a:t>
                      </a:r>
                      <a:r>
                        <a:rPr b="1" lang="pt-BR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(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1908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38160" rIns="19080" tIns="3816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 (299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38160" rIns="19080" tIns="3816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38160" rIns="19080" tIns="38160" bIns="19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tores de álcool, petróleo, distribuidores de energ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38160" rIns="19080" tIns="38160" bIns="19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ponibilidade, preç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38160" rIns="19080" tIns="38160" bIns="19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tricidade, biomass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38160" rIns="19080" tIns="38160" bIns="19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Setor que dispõe de fontes própria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1908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</a:tbl>
          </a:graphicData>
        </a:graphic>
      </p:graphicFrame>
      <p:sp>
        <p:nvSpPr>
          <p:cNvPr id="145" name=""/>
          <p:cNvSpPr/>
          <p:nvPr/>
        </p:nvSpPr>
        <p:spPr>
          <a:xfrm>
            <a:off x="584280" y="6453360"/>
            <a:ext cx="6805440" cy="36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Obs.:  (1) % GN: Parcela do gás natural no consumo do setor</a:t>
            </a: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(2) consumo de GN pelos produtores não aparece no balanço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GNE: gás natural equivalente</a:t>
            </a: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tep – tonelada equivalente de petróle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678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O crescimento das vendas de gás oculta uma possível saturação dos mercados atuai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etor indust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O gás natural ocupou praticamente todo o espaço ocupado pelo óleo combustível até o início da décad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rescimento do consumo de gás nos últimos anos relacionado a novas indústrias e/ou expansão do parque fabri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etor de transportes 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(veículos lev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 maior parte do crescimento do consumo neste segmento foi ocupada pelo GNV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pós uma rápida penetração, os últimos anos mostram a manutenção em uma fatia do mercado, com o crescimento das vendas decorrente da expansão do seconsumo do segment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746280" y="1630440"/>
            <a:ext cx="3504960" cy="247788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719280" y="4367160"/>
            <a:ext cx="3306600" cy="218916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768960" y="6416640"/>
            <a:ext cx="176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Fonte: ANP, elaboração FGV Projet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22360" y="1319040"/>
            <a:ext cx="3975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 Narrow"/>
              </a:rPr>
              <a:t>Consumo Industrial de Gás Natural e Óleo Combustível e Participação Relativa do Gás Natu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88880" y="4054320"/>
            <a:ext cx="3764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 Narrow"/>
              </a:rPr>
              <a:t>Consumo de Combustíveis de Veículos Leves e Participação Relativa do Gás Natu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2T14:04:00Z</dcterms:created>
  <dc:creator>Geraldo Pinto</dc:creator>
  <dc:description/>
  <dc:language>en-US</dc:language>
  <cp:lastModifiedBy>geraldo</cp:lastModifiedBy>
  <dcterms:modified xsi:type="dcterms:W3CDTF">2008-04-18T20:07:53Z</dcterms:modified>
  <cp:revision>129</cp:revision>
  <dc:subject/>
  <dc:title>Slide 1</dc:title>
</cp:coreProperties>
</file>