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4080" y="312840"/>
            <a:ext cx="846360" cy="6544080"/>
            <a:chOff x="154080" y="312840"/>
            <a:chExt cx="846360" cy="6544080"/>
          </a:xfrm>
        </p:grpSpPr>
        <p:sp>
          <p:nvSpPr>
            <p:cNvPr id="2" name=""/>
            <p:cNvSpPr/>
            <p:nvPr/>
          </p:nvSpPr>
          <p:spPr>
            <a:xfrm>
              <a:off x="155520" y="31399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2488"/>
                  </a:moveTo>
                  <a:lnTo>
                    <a:pt x="704" y="2488"/>
                  </a:lnTo>
                  <a:lnTo>
                    <a:pt x="0" y="0"/>
                  </a:lnTo>
                  <a:lnTo>
                    <a:pt x="1643" y="0"/>
                  </a:lnTo>
                  <a:lnTo>
                    <a:pt x="2347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5520" y="40831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2488"/>
                  </a:moveTo>
                  <a:lnTo>
                    <a:pt x="704" y="2488"/>
                  </a:lnTo>
                  <a:lnTo>
                    <a:pt x="0" y="0"/>
                  </a:lnTo>
                  <a:lnTo>
                    <a:pt x="1643" y="0"/>
                  </a:lnTo>
                  <a:lnTo>
                    <a:pt x="2347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0245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2488"/>
                  </a:moveTo>
                  <a:lnTo>
                    <a:pt x="704" y="2488"/>
                  </a:lnTo>
                  <a:lnTo>
                    <a:pt x="0" y="0"/>
                  </a:lnTo>
                  <a:lnTo>
                    <a:pt x="1643" y="0"/>
                  </a:lnTo>
                  <a:lnTo>
                    <a:pt x="2347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4080" y="5970600"/>
              <a:ext cx="844920" cy="886320"/>
            </a:xfrm>
            <a:custGeom>
              <a:avLst/>
              <a:gdLst/>
              <a:ahLst/>
              <a:rect l="0" t="0" r="r" b="b"/>
              <a:pathLst>
                <a:path w="2347" h="2462">
                  <a:moveTo>
                    <a:pt x="2347" y="2462"/>
                  </a:moveTo>
                  <a:lnTo>
                    <a:pt x="704" y="2462"/>
                  </a:lnTo>
                  <a:lnTo>
                    <a:pt x="0" y="0"/>
                  </a:lnTo>
                  <a:lnTo>
                    <a:pt x="1643" y="0"/>
                  </a:lnTo>
                  <a:lnTo>
                    <a:pt x="2347" y="2462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5520" y="3128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2488"/>
                  </a:moveTo>
                  <a:lnTo>
                    <a:pt x="704" y="2488"/>
                  </a:lnTo>
                  <a:lnTo>
                    <a:pt x="0" y="0"/>
                  </a:lnTo>
                  <a:lnTo>
                    <a:pt x="1643" y="0"/>
                  </a:lnTo>
                  <a:lnTo>
                    <a:pt x="2347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124920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2488"/>
                  </a:moveTo>
                  <a:lnTo>
                    <a:pt x="704" y="2488"/>
                  </a:lnTo>
                  <a:lnTo>
                    <a:pt x="0" y="0"/>
                  </a:lnTo>
                  <a:lnTo>
                    <a:pt x="1643" y="0"/>
                  </a:lnTo>
                  <a:lnTo>
                    <a:pt x="2347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080" y="21956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2488"/>
                  </a:moveTo>
                  <a:lnTo>
                    <a:pt x="704" y="2488"/>
                  </a:lnTo>
                  <a:lnTo>
                    <a:pt x="0" y="0"/>
                  </a:lnTo>
                  <a:lnTo>
                    <a:pt x="1643" y="0"/>
                  </a:lnTo>
                  <a:lnTo>
                    <a:pt x="2347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150840" y="0"/>
            <a:ext cx="851040" cy="6859800"/>
            <a:chOff x="150840" y="0"/>
            <a:chExt cx="851040" cy="6859800"/>
          </a:xfrm>
        </p:grpSpPr>
        <p:sp>
          <p:nvSpPr>
            <p:cNvPr id="12" name=""/>
            <p:cNvSpPr/>
            <p:nvPr/>
          </p:nvSpPr>
          <p:spPr>
            <a:xfrm>
              <a:off x="155520" y="36115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2488"/>
                  </a:moveTo>
                  <a:lnTo>
                    <a:pt x="1643" y="2488"/>
                  </a:lnTo>
                  <a:lnTo>
                    <a:pt x="2347" y="0"/>
                  </a:lnTo>
                  <a:lnTo>
                    <a:pt x="704" y="0"/>
                  </a:lnTo>
                  <a:lnTo>
                    <a:pt x="0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4080" y="455616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2488"/>
                  </a:moveTo>
                  <a:lnTo>
                    <a:pt x="1643" y="2488"/>
                  </a:lnTo>
                  <a:lnTo>
                    <a:pt x="2347" y="0"/>
                  </a:lnTo>
                  <a:lnTo>
                    <a:pt x="704" y="0"/>
                  </a:lnTo>
                  <a:lnTo>
                    <a:pt x="0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54080" y="549756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2488"/>
                  </a:moveTo>
                  <a:lnTo>
                    <a:pt x="1643" y="2488"/>
                  </a:lnTo>
                  <a:lnTo>
                    <a:pt x="2347" y="0"/>
                  </a:lnTo>
                  <a:lnTo>
                    <a:pt x="704" y="0"/>
                  </a:lnTo>
                  <a:lnTo>
                    <a:pt x="0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54080" y="78120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2488"/>
                  </a:moveTo>
                  <a:lnTo>
                    <a:pt x="1643" y="2488"/>
                  </a:lnTo>
                  <a:lnTo>
                    <a:pt x="2347" y="0"/>
                  </a:lnTo>
                  <a:lnTo>
                    <a:pt x="704" y="0"/>
                  </a:lnTo>
                  <a:lnTo>
                    <a:pt x="0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172260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2488"/>
                  </a:moveTo>
                  <a:lnTo>
                    <a:pt x="1643" y="2488"/>
                  </a:lnTo>
                  <a:lnTo>
                    <a:pt x="2347" y="0"/>
                  </a:lnTo>
                  <a:lnTo>
                    <a:pt x="704" y="0"/>
                  </a:lnTo>
                  <a:lnTo>
                    <a:pt x="0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266868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2488"/>
                  </a:moveTo>
                  <a:lnTo>
                    <a:pt x="1643" y="2488"/>
                  </a:lnTo>
                  <a:lnTo>
                    <a:pt x="2347" y="0"/>
                  </a:lnTo>
                  <a:lnTo>
                    <a:pt x="704" y="0"/>
                  </a:lnTo>
                  <a:lnTo>
                    <a:pt x="0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5520" y="0"/>
              <a:ext cx="846360" cy="740160"/>
            </a:xfrm>
            <a:custGeom>
              <a:avLst/>
              <a:gdLst/>
              <a:ahLst/>
              <a:rect l="0" t="0" r="r" b="b"/>
              <a:pathLst>
                <a:path w="2351" h="2056">
                  <a:moveTo>
                    <a:pt x="4" y="0"/>
                  </a:moveTo>
                  <a:lnTo>
                    <a:pt x="0" y="734"/>
                  </a:lnTo>
                  <a:lnTo>
                    <a:pt x="2351" y="2056"/>
                  </a:lnTo>
                  <a:lnTo>
                    <a:pt x="2351" y="889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0840" y="6445080"/>
              <a:ext cx="727560" cy="414720"/>
            </a:xfrm>
            <a:custGeom>
              <a:avLst/>
              <a:gdLst/>
              <a:ahLst/>
              <a:rect l="0" t="0" r="r" b="b"/>
              <a:pathLst>
                <a:path w="2021" h="1152">
                  <a:moveTo>
                    <a:pt x="2021" y="1135"/>
                  </a:moveTo>
                  <a:lnTo>
                    <a:pt x="4" y="0"/>
                  </a:lnTo>
                  <a:lnTo>
                    <a:pt x="0" y="1152"/>
                  </a:lnTo>
                  <a:lnTo>
                    <a:pt x="2021" y="1135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54080" y="312840"/>
            <a:ext cx="846360" cy="6544080"/>
            <a:chOff x="154080" y="312840"/>
            <a:chExt cx="846360" cy="6544080"/>
          </a:xfrm>
        </p:grpSpPr>
        <p:sp>
          <p:nvSpPr>
            <p:cNvPr id="60" name=""/>
            <p:cNvSpPr/>
            <p:nvPr/>
          </p:nvSpPr>
          <p:spPr>
            <a:xfrm>
              <a:off x="155520" y="31399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2488"/>
                  </a:moveTo>
                  <a:lnTo>
                    <a:pt x="704" y="2488"/>
                  </a:lnTo>
                  <a:lnTo>
                    <a:pt x="0" y="0"/>
                  </a:lnTo>
                  <a:lnTo>
                    <a:pt x="1643" y="0"/>
                  </a:lnTo>
                  <a:lnTo>
                    <a:pt x="2347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5520" y="40831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2488"/>
                  </a:moveTo>
                  <a:lnTo>
                    <a:pt x="704" y="2488"/>
                  </a:lnTo>
                  <a:lnTo>
                    <a:pt x="0" y="0"/>
                  </a:lnTo>
                  <a:lnTo>
                    <a:pt x="1643" y="0"/>
                  </a:lnTo>
                  <a:lnTo>
                    <a:pt x="2347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4080" y="50245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2488"/>
                  </a:moveTo>
                  <a:lnTo>
                    <a:pt x="704" y="2488"/>
                  </a:lnTo>
                  <a:lnTo>
                    <a:pt x="0" y="0"/>
                  </a:lnTo>
                  <a:lnTo>
                    <a:pt x="1643" y="0"/>
                  </a:lnTo>
                  <a:lnTo>
                    <a:pt x="2347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4080" y="5970600"/>
              <a:ext cx="844920" cy="886320"/>
            </a:xfrm>
            <a:custGeom>
              <a:avLst/>
              <a:gdLst/>
              <a:ahLst/>
              <a:rect l="0" t="0" r="r" b="b"/>
              <a:pathLst>
                <a:path w="2347" h="2462">
                  <a:moveTo>
                    <a:pt x="2347" y="2462"/>
                  </a:moveTo>
                  <a:lnTo>
                    <a:pt x="704" y="2462"/>
                  </a:lnTo>
                  <a:lnTo>
                    <a:pt x="0" y="0"/>
                  </a:lnTo>
                  <a:lnTo>
                    <a:pt x="1643" y="0"/>
                  </a:lnTo>
                  <a:lnTo>
                    <a:pt x="2347" y="2462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5520" y="3128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2488"/>
                  </a:moveTo>
                  <a:lnTo>
                    <a:pt x="704" y="2488"/>
                  </a:lnTo>
                  <a:lnTo>
                    <a:pt x="0" y="0"/>
                  </a:lnTo>
                  <a:lnTo>
                    <a:pt x="1643" y="0"/>
                  </a:lnTo>
                  <a:lnTo>
                    <a:pt x="2347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4080" y="124920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2488"/>
                  </a:moveTo>
                  <a:lnTo>
                    <a:pt x="704" y="2488"/>
                  </a:lnTo>
                  <a:lnTo>
                    <a:pt x="0" y="0"/>
                  </a:lnTo>
                  <a:lnTo>
                    <a:pt x="1643" y="0"/>
                  </a:lnTo>
                  <a:lnTo>
                    <a:pt x="2347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4080" y="21956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2488"/>
                  </a:moveTo>
                  <a:lnTo>
                    <a:pt x="704" y="2488"/>
                  </a:lnTo>
                  <a:lnTo>
                    <a:pt x="0" y="0"/>
                  </a:lnTo>
                  <a:lnTo>
                    <a:pt x="1643" y="0"/>
                  </a:lnTo>
                  <a:lnTo>
                    <a:pt x="2347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0840" y="0"/>
            <a:ext cx="851040" cy="6859800"/>
            <a:chOff x="150840" y="0"/>
            <a:chExt cx="851040" cy="6859800"/>
          </a:xfrm>
        </p:grpSpPr>
        <p:sp>
          <p:nvSpPr>
            <p:cNvPr id="69" name=""/>
            <p:cNvSpPr/>
            <p:nvPr/>
          </p:nvSpPr>
          <p:spPr>
            <a:xfrm>
              <a:off x="155520" y="36115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2488"/>
                  </a:moveTo>
                  <a:lnTo>
                    <a:pt x="1643" y="2488"/>
                  </a:lnTo>
                  <a:lnTo>
                    <a:pt x="2347" y="0"/>
                  </a:lnTo>
                  <a:lnTo>
                    <a:pt x="704" y="0"/>
                  </a:lnTo>
                  <a:lnTo>
                    <a:pt x="0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4080" y="455616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2488"/>
                  </a:moveTo>
                  <a:lnTo>
                    <a:pt x="1643" y="2488"/>
                  </a:lnTo>
                  <a:lnTo>
                    <a:pt x="2347" y="0"/>
                  </a:lnTo>
                  <a:lnTo>
                    <a:pt x="704" y="0"/>
                  </a:lnTo>
                  <a:lnTo>
                    <a:pt x="0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4080" y="549756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2488"/>
                  </a:moveTo>
                  <a:lnTo>
                    <a:pt x="1643" y="2488"/>
                  </a:lnTo>
                  <a:lnTo>
                    <a:pt x="2347" y="0"/>
                  </a:lnTo>
                  <a:lnTo>
                    <a:pt x="704" y="0"/>
                  </a:lnTo>
                  <a:lnTo>
                    <a:pt x="0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4080" y="78120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2488"/>
                  </a:moveTo>
                  <a:lnTo>
                    <a:pt x="1643" y="2488"/>
                  </a:lnTo>
                  <a:lnTo>
                    <a:pt x="2347" y="0"/>
                  </a:lnTo>
                  <a:lnTo>
                    <a:pt x="704" y="0"/>
                  </a:lnTo>
                  <a:lnTo>
                    <a:pt x="0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4080" y="172260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2488"/>
                  </a:moveTo>
                  <a:lnTo>
                    <a:pt x="1643" y="2488"/>
                  </a:lnTo>
                  <a:lnTo>
                    <a:pt x="2347" y="0"/>
                  </a:lnTo>
                  <a:lnTo>
                    <a:pt x="704" y="0"/>
                  </a:lnTo>
                  <a:lnTo>
                    <a:pt x="0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080" y="266868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2488"/>
                  </a:moveTo>
                  <a:lnTo>
                    <a:pt x="1643" y="2488"/>
                  </a:lnTo>
                  <a:lnTo>
                    <a:pt x="2347" y="0"/>
                  </a:lnTo>
                  <a:lnTo>
                    <a:pt x="704" y="0"/>
                  </a:lnTo>
                  <a:lnTo>
                    <a:pt x="0" y="2488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5520" y="0"/>
              <a:ext cx="846360" cy="740160"/>
            </a:xfrm>
            <a:custGeom>
              <a:avLst/>
              <a:gdLst/>
              <a:ahLst/>
              <a:rect l="0" t="0" r="r" b="b"/>
              <a:pathLst>
                <a:path w="2351" h="2056">
                  <a:moveTo>
                    <a:pt x="4" y="0"/>
                  </a:moveTo>
                  <a:lnTo>
                    <a:pt x="0" y="734"/>
                  </a:lnTo>
                  <a:lnTo>
                    <a:pt x="2351" y="2056"/>
                  </a:lnTo>
                  <a:lnTo>
                    <a:pt x="2351" y="889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0840" y="6445080"/>
              <a:ext cx="727560" cy="414720"/>
            </a:xfrm>
            <a:custGeom>
              <a:avLst/>
              <a:gdLst/>
              <a:ahLst/>
              <a:rect l="0" t="0" r="r" b="b"/>
              <a:pathLst>
                <a:path w="2021" h="1152">
                  <a:moveTo>
                    <a:pt x="2021" y="1135"/>
                  </a:moveTo>
                  <a:lnTo>
                    <a:pt x="4" y="0"/>
                  </a:lnTo>
                  <a:lnTo>
                    <a:pt x="0" y="1152"/>
                  </a:lnTo>
                  <a:lnTo>
                    <a:pt x="2021" y="1135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66680" y="0"/>
            <a:ext cx="7126200" cy="62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SÍNTESE DE SISTEMAS D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SEPA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8.1 Sistemas de Sepa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8.2 O Problema de Sínt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8.2.1 Enun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8.2.2 Problema Ilust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8.2.3 S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8.2.4 Representação por Listas Orde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8.2.5 Natureza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8.3 Representação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8.3.1 Árvore de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8.3.2 Super-estru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8.4 Resolução por Método Heur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8.5 Resolução por Método Evolu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8.6 Resolução por Busca Orde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2070000"/>
            <a:ext cx="2103480" cy="2730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295280" y="1779480"/>
            <a:ext cx="76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486400" y="2070000"/>
            <a:ext cx="2806560" cy="2793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5105520" y="1779480"/>
            <a:ext cx="76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71600" y="380880"/>
            <a:ext cx="7238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luxogramas Alternativos para a Separação Completa de 4 Compo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143000" y="5303880"/>
            <a:ext cx="3645000" cy="627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029200" y="5322960"/>
            <a:ext cx="39495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371600" y="304920"/>
            <a:ext cx="7238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solução pelo Método Heurí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1968480" cy="1655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3645000" cy="2800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066680" y="30481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ad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90920" y="48769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ad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447920" y="0"/>
            <a:ext cx="7238880" cy="66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ALIMENTAÇÃO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CASO 1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CASO 2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 baseline="-25000">
                <a:solidFill>
                  <a:srgbClr val="001932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10 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 baseline="-25000">
                <a:solidFill>
                  <a:srgbClr val="001932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 baseline="-25000">
                <a:solidFill>
                  <a:srgbClr val="001932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 baseline="-25000">
                <a:solidFill>
                  <a:srgbClr val="001932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Tabela 8.4 Alimentações com Composições Diferentes e Dificuldade Semelhante de Sepa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FLUXOGRAMA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CASO 1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CASO 2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(a)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18 (D/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9 (D/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(b)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18 (D/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9 (D/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(c)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26 (D/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8 (D/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(d)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36 (D/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9 (D/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(e)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27 (D/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9 (D/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Tabela 8.5 Carga de Separação dos Fluxogramas da Fig.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66680" y="304920"/>
            <a:ext cx="5943600" cy="55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=  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  <a:ea typeface="Times New Roman"/>
              </a:rPr>
              <a:t>34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  <a:ea typeface="Times New Roman"/>
              </a:rPr>
              <a:t>23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=  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 /10 (mais difíc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 = D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 = D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 = D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 =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ESQUEMA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"CUSTO"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(a)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36 (D/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(b)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27 (D/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(c)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44 (D/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(d)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36 (D/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(e)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27 (D/</a:t>
            </a: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Tabela 8.6 "Custos" de Separação para Quantidades Iguais e um Corte Mais Difí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371600" y="304920"/>
            <a:ext cx="7238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solução pelo Método Heurí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343400" y="129528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ad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828800" y="5562720"/>
            <a:ext cx="236232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ad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f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3720960" cy="3035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62520" y="3505320"/>
            <a:ext cx="509256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371600" y="457200"/>
            <a:ext cx="7238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olução do Problema Proposto 8.1 pelo Método Heurístico com Heurísticas Difu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40672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371600" y="318960"/>
            <a:ext cx="7238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izinhança Estrutural dos Fluxogra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19320" y="1252440"/>
            <a:ext cx="79120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371600" y="776160"/>
            <a:ext cx="7238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lustração da Estratégia Evolu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562608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371600" y="380880"/>
            <a:ext cx="7238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luxograma Base para o Método Evolutivo, Obtido pelo Método Heuristic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38280" y="1563840"/>
            <a:ext cx="5321160" cy="2995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2971800" y="4635360"/>
            <a:ext cx="3841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LUNA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CUSTO ($/a)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77,4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32,8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985,5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OTAL     1095,7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791320" y="1447920"/>
            <a:ext cx="3352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2181b7"/>
                </a:solidFill>
                <a:latin typeface="Times New Roman"/>
                <a:ea typeface="Times New Roman"/>
              </a:rPr>
              <a:t>Fluxograma 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371600" y="304920"/>
            <a:ext cx="7238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luxograma Vizinho do Fluxograma 1 pela Inversão dos Cortes das Colunas 1 e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47920" y="4635360"/>
            <a:ext cx="3841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LUNA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CUSTO ($/a)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33,8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76,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985,5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OTAL     1095,5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0" y="1469880"/>
            <a:ext cx="5626080" cy="3165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172200" y="5334120"/>
            <a:ext cx="2502000" cy="977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5943600" y="48006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v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91320" y="1447920"/>
            <a:ext cx="3352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2181b7"/>
                </a:solidFill>
                <a:latin typeface="Times New Roman"/>
                <a:ea typeface="Times New Roman"/>
              </a:rPr>
              <a:t>Fluxograma 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4080" y="4343400"/>
            <a:ext cx="33526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Componente </a:t>
            </a: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Simb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Propano   </a:t>
            </a: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   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Buteno-1</a:t>
            </a: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   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n-Butano</a:t>
            </a: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 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t-Buteno-2 </a:t>
            </a: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   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c-Buteno-2 </a:t>
            </a: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    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n-Pentano </a:t>
            </a: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Arial"/>
              </a:rPr>
              <a:t>    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828800" y="380880"/>
            <a:ext cx="59436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arefa do Sistema de Separaçã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oblema Ilu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2355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371600" y="196920"/>
            <a:ext cx="7238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luxograma Vizinho do Fluxograma 2 p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roca do Processo 2 pel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19320" y="4343400"/>
            <a:ext cx="38419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LUNA     CUSTO ($/a)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33,8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76,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246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52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OTAL            878,0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867280" y="45720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v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616800" cy="2941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486400" y="5410080"/>
            <a:ext cx="3645000" cy="851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5791320" y="1447920"/>
            <a:ext cx="3352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2181b7"/>
                </a:solidFill>
                <a:latin typeface="Times New Roman"/>
                <a:ea typeface="Times New Roman"/>
              </a:rPr>
              <a:t>Fluxograma 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295280" y="380880"/>
            <a:ext cx="7238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luxograma Vizinho do Fluxograma 3 pela Inversão dos Cortes das Colunas 1 e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92400" y="4343400"/>
            <a:ext cx="38419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LUNA     CUSTO ($/a)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77,4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32,8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246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52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OTAL            878,2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05120" y="1584360"/>
            <a:ext cx="6159600" cy="2670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5791320" y="1447920"/>
            <a:ext cx="3352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2181b7"/>
                </a:solidFill>
                <a:latin typeface="Times New Roman"/>
                <a:ea typeface="Times New Roman"/>
              </a:rPr>
              <a:t>Fluxograma 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295280" y="304920"/>
            <a:ext cx="7238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luxograma Vizinho do Fluxograma 3 pela Inversão dos Cortes das Colunas 9 e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87280" y="4343400"/>
            <a:ext cx="38419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LUNA     CUSTO ($/a)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33,8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249,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4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68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52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OTAL            872,4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791320" y="1447920"/>
            <a:ext cx="3352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2181b7"/>
                </a:solidFill>
                <a:latin typeface="Times New Roman"/>
                <a:ea typeface="Times New Roman"/>
              </a:rPr>
              <a:t>Fluxograma 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5931000" cy="2639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724280" y="4637160"/>
            <a:ext cx="4330800" cy="2131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5486400" y="44197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v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95280" y="304920"/>
            <a:ext cx="7238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luxograma Vizinho do Fluxograma 5 pela Inversão dos Cortes das Colunas 1 e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997520" y="1371600"/>
            <a:ext cx="38419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LUNA     CUSTO ($/a)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256,3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8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14,5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4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68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52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OTAL            860,4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62120" y="4433760"/>
            <a:ext cx="3352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2181b7"/>
                </a:solidFill>
                <a:latin typeface="Times New Roman"/>
                <a:ea typeface="Times New Roman"/>
              </a:rPr>
              <a:t>Fluxograma 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114800" y="44197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v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3111480" cy="2963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58546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295280" y="349200"/>
            <a:ext cx="7238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luxograma Vizinho do Fluxograma 6 pela Inversão dos Cortes das Colunas 2 e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105520" y="1527120"/>
            <a:ext cx="38419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LUNA     CUSTO ($/a)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77,4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254,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8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1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52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OTAL            867,4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62120" y="3809880"/>
            <a:ext cx="3352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2181b7"/>
                </a:solidFill>
                <a:latin typeface="Times New Roman"/>
                <a:ea typeface="Times New Roman"/>
              </a:rPr>
              <a:t>Fluxograma 7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19320" y="47242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ado final da res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219320" y="1601640"/>
            <a:ext cx="3645000" cy="2424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828800" y="4648320"/>
            <a:ext cx="7074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295280" y="730080"/>
            <a:ext cx="7238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ado Final da Resolução do Problema pelo Método Evolutivo com a Tolerância de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31920" y="2631960"/>
            <a:ext cx="76582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120760" y="1511280"/>
            <a:ext cx="5778360" cy="5165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295280" y="349200"/>
            <a:ext cx="7238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olução Ótima do Problema Ilustrativo Obtida pelo Método de Busca Orde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600200" y="700200"/>
            <a:ext cx="6629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Solução Ótima do Problema Ilu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509256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295280" y="700200"/>
            <a:ext cx="7467480" cy="12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presentação de uma Operação de Sepa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a) Fluxograma. (b) Lista Orde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33720" y="2874960"/>
            <a:ext cx="54738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683480" cy="4940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219320" y="228600"/>
            <a:ext cx="72388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luxogramas Alternativos para a Separação Completa de 3 Componentes por 2 Processos de Separação Plausí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371600" y="914400"/>
            <a:ext cx="7238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Árvores de Estados de um Problema com 4 Componentes e 1 Processo de Sepa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78357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371600" y="914400"/>
            <a:ext cx="7238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Árvore de Estados de um Problema com 3 Componentes e 2 Processos de Sepa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791208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371600" y="380880"/>
            <a:ext cx="7238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presentação  por  Super-Estru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912080" cy="2208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7759800" cy="2176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343400" y="914400"/>
            <a:ext cx="76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343400" y="3824280"/>
            <a:ext cx="76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371600" y="380880"/>
            <a:ext cx="7238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luxogramas Alternativos para a Separação Completa de 4 Compo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06560"/>
            <a:ext cx="76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76920" y="1906560"/>
            <a:ext cx="76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28800" y="1982880"/>
            <a:ext cx="2593800" cy="2806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257800" y="2058840"/>
            <a:ext cx="3340080" cy="280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43000" y="5334120"/>
            <a:ext cx="364500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105520" y="5322960"/>
            <a:ext cx="387360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Q-UFRJ</dc:creator>
  <dc:description/>
  <dc:language>en-US</dc:language>
  <cp:lastModifiedBy>Engenharia Quimica</cp:lastModifiedBy>
  <cp:revision>0</cp:revision>
  <dc:subject/>
  <dc:title>Slide sem título </dc:title>
</cp:coreProperties>
</file>