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FE7-D4CC-4E79-87DC-EE9500C3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2F5-E6C9-48D2-AFF0-7C2E08FA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976-C496-4A3A-A770-1469BD3A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E54-CB7B-497F-B335-0BE7C7EB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F2B-FE0D-4434-870A-E53B323B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D3AA-DD2F-416C-AC90-10DD8E84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7893-59CA-417D-B3C9-F8B0A166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0982-FB39-4B6A-AD27-2F4B077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2633-5E50-4AAB-886C-652537A4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88A8-1BB2-4D9D-85A1-3AD01E41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1CDB-27FE-4406-9F0C-4C86D11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8BF-ACA9-488A-8C72-A0CD4236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556E-5DEB-4C9A-B354-8D75EF1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157D-C36C-48B9-90A5-67E7705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3275-1A66-41F7-A9C9-F0041CF0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54F4-89A0-4BC9-B659-B5F505E2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B133-2D31-4F83-BFB1-9A6FFADB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EE4-B0A2-466B-8C83-FF7921E9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A6D-5269-4F67-B631-32ED433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C8E-8CBC-4781-8AF3-F24A87F4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043-BCA7-4A6A-9652-40B736DA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E06-315F-4C2F-BF91-1521E2B2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B70-8D2E-4D6A-A538-9809CBBD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8F0-2F2D-465B-8739-3D0D296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7640" y="3585240"/>
              <a:ext cx="62172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624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624908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C86D-0F8B-4FD1-821C-DC9D6DDF53DC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7640" y="3585240"/>
              <a:ext cx="62172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624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624908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B4AE-7B0D-4C84-8C9F-752DEFCE76D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54200" y="117360"/>
            <a:ext cx="46944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Times New Roman"/>
              </a:rPr>
              <a:t>1.INTRODUÇÃO GERA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1 Engenharia de Process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1.1 O Contex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1.2 Breve Históric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2 Sistem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2.1 Concei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2.2 Estrutur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2.3 Proje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2.4 Sínte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2.5 Análi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2.6 Otimizaçã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3 Inteligência Artifici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4 O Projeto de Process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5 Organização do Texto/Disciplin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6 Computaçã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7 BIBLIOGRAFI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19840" y="-34920"/>
            <a:ext cx="64458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2.6 OTIMIZAÇÃ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ultiplicidade de Soluções 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Solução Óti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JETO: Problemas complexo de otimizaçã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mplexidade: problema interativo em dois níveis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íntese: otimização em nível estrutur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terminar a estrutura óti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nálise: otimização em nível paramétric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terminar as dimensões ótim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mo conduzir com eficiência 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70320" y="193680"/>
            <a:ext cx="6692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3 INTELIGÊNCIA ARTIFICI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studa a forma como o homem utiliza intuitivament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ELIGÊNCIA E RACIOCÍNI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na solução de problemas complexos, e a respectiv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mplementação em máquinas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stratégias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decomposição de problemas em sub-problemas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representação 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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resoluçã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Uma forma de representação: Árvore de Estados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692360" y="907920"/>
          <a:ext cx="715176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07920"/>
                    <a:ext cx="715176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349640" y="41400"/>
            <a:ext cx="474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4 O PROJETO DE PROCESS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presentação em Árvore de Estad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596960" y="1484280"/>
          <a:ext cx="754704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484280"/>
                    <a:ext cx="754704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039760" y="519120"/>
            <a:ext cx="621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luxograma da Execução da Busca em Árvor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o Problema de Proje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531800" y="838080"/>
          <a:ext cx="7624800" cy="26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838080"/>
                    <a:ext cx="762480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362960" y="117360"/>
            <a:ext cx="623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1.5 ORGANIZAÇÃO DO TEXTO/DISCIPLIN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11280" y="4689360"/>
            <a:ext cx="277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6 COMPUTAÇÃ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34240" y="5451480"/>
            <a:ext cx="233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IBLIOGRAFI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32200" y="247680"/>
            <a:ext cx="676260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Times New Roman"/>
              </a:rPr>
              <a:t>1.1 ENGENHARIA DE PROCESSO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Times New Roman"/>
              </a:rPr>
              <a:t>1.1.1 CONTEXT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ENGENHARIA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Artefatos, Engenhos, Dispositivos, Instalaçõ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Fenômenos Naturais sob Condições Controlad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ENGENHARIA QUÍMICA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Instalações: Matérias Primas </a:t>
            </a:r>
            <a:r>
              <a:rPr b="0" lang="pt-BR" sz="24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Produ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Sequência de etapas: Process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- Equipamentos: sede de fenômenos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reação química, absorção, evaporação, condensação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80"/>
                </a:solidFill>
                <a:latin typeface="Times New Roman"/>
              </a:rPr>
              <a:t>compressão, expansão, aquecimento, etc..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849320" y="1430280"/>
          <a:ext cx="680580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1430280"/>
                    <a:ext cx="6805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848240" y="365040"/>
            <a:ext cx="661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lassificação dos Conhecimentos Compreendid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ela Engenharia Químic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04320" y="650880"/>
            <a:ext cx="72928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1.1.2 BREVE HISTÓRIC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GENHARIA QUIMICA “TRADICIONAL”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iências Básicas + Fundamentos + Eng. de Equipamen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QUESTÕES NOVAS (Formalização)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Interdependência dos Equipamen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Seleção de Equipamentos Alternativ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- Diferentes Arranjos de Equipamen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eoria de Sistemas + Inteligência Artifici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EORIA  DE PROJE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GENHARIA DE PROCESS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73920" y="-57240"/>
            <a:ext cx="6899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1.2 SISTEMA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2.1 CONCEI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racterísticas encontradas em organismos,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ispositivos, entidades, etc..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elementos interdependent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elementos com tarefa específic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c ) objetivo: tarefa complex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xemplos: energia, corpo humano, natureza, economi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cessos químicos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nominação Genérica: SISTEM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2298600"/>
          <a:ext cx="7529760" cy="27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8600"/>
                    <a:ext cx="7529760" cy="27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512800" y="5486400"/>
            <a:ext cx="491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xemplos de Estruturas de Sistem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98320" y="193680"/>
            <a:ext cx="6274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2.2 ESTRUTUR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rma como as conexões interligam os elemen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74280" y="41400"/>
            <a:ext cx="68752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2.3 PROJE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junto complexo de atividades. De forma resumida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JETO = SÍNTESE </a:t>
            </a: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ANÁLI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ÍNTE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escolher um elemento para cada taref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escolher a estrutura do siste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NÁLI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prever o comportamento do siste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avaliar o comportamento do siste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00200" y="1676520"/>
          <a:ext cx="7089840" cy="31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089840" cy="31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902600" y="4952880"/>
            <a:ext cx="6259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luxogramas Alternativos para 2 Sub-Tarefas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2 Elementos por Sub-Tarefa e Recicl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Multiplicidade: “Explosão Combinatória”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73560" y="41400"/>
            <a:ext cx="5554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2.4 SÍNTE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escolha de um elemento para cada taref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escolha da estrutura do siste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52480" y="1600200"/>
          <a:ext cx="69087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69087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744200" y="6400800"/>
            <a:ext cx="657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Otimização de um Sistema em Nível Paramétric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8400" y="41400"/>
            <a:ext cx="5947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2.5 ANÁLI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a) previsão: modelos matemátic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(b) avaliação: índice de mérito. Multiplicidade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7T18:27:34Z</dcterms:created>
  <dc:creator>Escola de Quimica</dc:creator>
  <dc:description/>
  <dc:language>en-US</dc:language>
  <cp:lastModifiedBy>osvaldo</cp:lastModifiedBy>
  <dcterms:modified xsi:type="dcterms:W3CDTF">2003-10-16T13:23:56Z</dcterms:modified>
  <cp:revision>8</cp:revision>
  <dc:subject/>
  <dc:title>Slide sem título </dc:title>
</cp:coreProperties>
</file>