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E82-BDCA-41A5-9655-CE4854D8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E3E-CE11-476F-86D6-B224737F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EB5-9605-4433-ACFA-64CDC5C8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F011-6A53-4E54-90CD-7860F886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8D0D-218E-4CB3-8414-1A95A7EF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AB5A-397E-49C3-9D22-137571B3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84E7-9B17-4A84-B319-BFE3F4B4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E4EC-C96F-46B2-A6E0-EF7E82FC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9D80-CAC0-490C-B305-DBA221B5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847D-5AC3-41C3-88F2-4ABC6C85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4C0A-7EEB-4CBC-BB6A-86C7C5EC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B26-A547-4F5C-B869-56D41CF4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2DE9-1EFE-4E60-93CB-6399121A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2271-9161-4905-95FF-8B66AD93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9A3F-68BF-4A80-B589-D0D07683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0333-75A0-40FF-81A1-CCB1E7DD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C81E-A72E-4A6E-92BD-58EFC4EF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2F0-DEA6-42D5-8976-27432DBC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DA2-6B1C-4B2A-9FD9-14EDE849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ED2-D58B-4F01-94C3-4928E5C9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867-3A96-4795-8C1D-84BFE09D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E60-ED30-4778-92D6-B7A1B91E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B54-B434-4E10-B663-FBF3288B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B31-EAF8-4E43-BE34-83476ACC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8280" cy="6856560"/>
            <a:chOff x="0" y="0"/>
            <a:chExt cx="15382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5840" y="3582000"/>
              <a:ext cx="622440" cy="182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11" y="21599"/>
                  </a:moveTo>
                  <a:arcTo wR="10800" hR="10800" stAng="5364740" swAng="106597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11" y="21599"/>
                  </a:moveTo>
                  <a:arcTo wR="10800" hR="10800" stAng="5364740" swAng="10659721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F189-D767-4363-8B35-34EDC0659E43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1538280" cy="6856560"/>
            <a:chOff x="0" y="0"/>
            <a:chExt cx="1538280" cy="685656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5840" y="3582000"/>
              <a:ext cx="622440" cy="182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11" y="21599"/>
                  </a:moveTo>
                  <a:arcTo wR="10800" hR="10800" stAng="5364740" swAng="106597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11" y="21599"/>
                  </a:moveTo>
                  <a:arcTo wR="10800" hR="10800" stAng="5364740" swAng="10659721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B99B-8A30-486D-AB3B-C71FCC3240F9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0000" y="-98280"/>
            <a:ext cx="725832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2. INTRODUÇÃO À ANÁLIS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E PROCESSO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1 Objetiv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2 Procedimento Ge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3 Reconhecimento do Process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4 Modelagem Matemáti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5 Levantamento de Dad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6 Dimensiona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6.1 Levantamento de Condições Conhecid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6.2 Balanço de Inform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6.3 Estabelecimento de uma Estratégia de Cálcul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6.4 Seleção de um Critério de Avaliação Econômi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6.5 Execução do Dimensiona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7 Simul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604880" y="2779560"/>
          <a:ext cx="7539120" cy="27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2779560"/>
                    <a:ext cx="7539120" cy="27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725560" y="1279440"/>
            <a:ext cx="4531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Caracterização das Atividades 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Dimensionamento e Simul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43320" y="1143000"/>
            <a:ext cx="7611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1 OBJETIVO: prever e avaliar o comporta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o processo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2 PROCEDIMENTO GE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a) reconhecimento do processo: equipamentos e estrutur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b) modelagem matemática: equipamentos e processo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c) levantamento de dados: parâmetros físicos e econômico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d) dimensionamento: dimensões principais e consumo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e) simulação: comportamento em outras situaçõ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512720" y="1517760"/>
          <a:ext cx="7554960" cy="48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2720" y="1517760"/>
                    <a:ext cx="755496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189520" y="517680"/>
            <a:ext cx="5750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Processo de recuperação de ácido benzóic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57200" y="117360"/>
            <a:ext cx="7495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2.6 DIMENSIONA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2.6.1 Condições Conhecid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- produção ou disponibilidade de M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- condições da alimentação, utilidades e insum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2.6.2 Balanço de Inform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2.6.3 Estratégia de Cálculo (Capítulo 3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2.6. 4 Critério de Avaliação Econômica (Capítulo 4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       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L = a R - b (Cutil + Cmat.prim.) - c I ($/a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2.6. 5 Execução do Dimensiona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G &gt; 0  </a:t>
            </a:r>
            <a:r>
              <a:rPr b="0" lang="pt-BR" sz="2400" spc="-1" strike="noStrike">
                <a:solidFill>
                  <a:srgbClr val="00008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Otimização Paramétrica (Capítulo 6)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219320" y="3276720"/>
          <a:ext cx="758988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276720"/>
                    <a:ext cx="758988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748880" y="6019920"/>
            <a:ext cx="627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Balanço de Informação do Processo Ilustrativ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77160" y="117360"/>
            <a:ext cx="729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6.2 BALANÇO DE INFORM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Variáveis Especificadas = Condições Conhecidas + Met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G = 0: solução únic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G &gt; 0: infinidade de soluções  </a:t>
            </a:r>
            <a:r>
              <a:rPr b="0" lang="en-US" sz="2400" spc="-1" strike="noStrike">
                <a:solidFill>
                  <a:srgbClr val="00008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otimizaçã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G &lt; 0: equações e/ou especificações redundant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428840" y="1600200"/>
          <a:ext cx="7715160" cy="24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1600200"/>
                    <a:ext cx="771516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370160" y="4648320"/>
            <a:ext cx="699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squema Lógico e os Módulos Computacionais par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o Dimensionamento do Processo Ilustrativ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8800" y="117360"/>
            <a:ext cx="61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6.5 EXECUÇÃO DO DIMENSIONAMEN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508040" y="1677960"/>
          <a:ext cx="753912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040" y="1677960"/>
                    <a:ext cx="753912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580760" y="669960"/>
            <a:ext cx="738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Resultado do Dimensionamento do Processo Ilustrativ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484280" y="1563840"/>
          <a:ext cx="758340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1563840"/>
                    <a:ext cx="758340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960920" y="669960"/>
            <a:ext cx="6517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Resultado da Otimização do Processo Ilustrativ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660680" y="1746360"/>
          <a:ext cx="733104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46360"/>
                    <a:ext cx="733104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436040" y="517680"/>
            <a:ext cx="75675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Resultado da Simulação do Processo Ilustrativ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Dimensionado com G = 0 , agora com W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= 150.000 kg/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7T18:27:34Z</dcterms:created>
  <dc:creator>Escola de Quimica</dc:creator>
  <dc:description/>
  <dc:language>en-US</dc:language>
  <cp:lastModifiedBy>Osvaldo Chiavone Filho</cp:lastModifiedBy>
  <dcterms:modified xsi:type="dcterms:W3CDTF">2002-10-09T11:17:04Z</dcterms:modified>
  <cp:revision>8</cp:revision>
  <dc:subject/>
  <dc:title>Slide sem título </dc:title>
</cp:coreProperties>
</file>