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AC8-4BFB-419E-9B11-E143238C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762-3B6C-4EA1-A41A-6727FCCC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C3C-8A46-4726-BE0E-48B2259C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8E0-B6E1-481B-8459-F7945234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AB37-1271-42D7-8257-9E57D23B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A78D-8F6E-4525-9303-9C7FF11E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6CB2-15C0-4661-BCCF-F506F263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32E7-A5D4-43B5-9987-AB8C71B2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91A6-3DEA-458C-B697-3FB7749A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D927-CCDC-4DD2-A338-B4B25EDA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E06F-2C7A-4D72-BAB3-7800736A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E9A-4A69-4669-B31C-435EA328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533D-59B4-4386-8269-C01D58D3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1391-3BE3-4C14-ABF6-E12D940B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9CB8-6D33-4516-A1A4-830080E9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F047-A538-43D9-854B-6A33427B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2469-5101-4F07-9C8E-68D6E777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AE7-9AF4-4A7A-94B9-5479F55A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1D2-0205-4DAB-B5A5-3EED63ED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871-8FC0-455C-BA42-D7864028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73D-9D8F-4118-ABA0-BE4A4361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DF3-F645-4F58-8F49-3D536D39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F20-2B16-4880-A3C4-DEB0A10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877-71E5-445B-B415-327880DA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7640" y="3585240"/>
              <a:ext cx="62172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6249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624908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895A-4B07-4440-BDAD-CFC3211E8221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17640" y="3585240"/>
              <a:ext cx="62172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6249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624908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859C-B7D2-44BF-B98E-5278449BB2E5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99760" y="-133200"/>
            <a:ext cx="663336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7. GERAÇÃO DO FLUXOGRAM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MATERIAL PRELIMINAR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7.1  O Fluxograma Material Prelimina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7.2 Geração do Fluxogram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7.3 Avaliação Econômica Preliminar. Margem Brut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L = R - Cm - C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 = Pp 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m = Pm 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B = R - C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L = MB - C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81840" y="914400"/>
            <a:ext cx="5294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O Fluxograma Mínimo de um Process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8280" y="2835360"/>
            <a:ext cx="511812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77120" y="685800"/>
            <a:ext cx="645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Fluxograma Mínimo na Presença de Impureza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Conversão Parcial e Co-Produt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00200" y="2282760"/>
            <a:ext cx="73278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35000" y="990720"/>
            <a:ext cx="4491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Fluxograma Material Prelimina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90920" y="2924280"/>
            <a:ext cx="51181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21960" y="762120"/>
            <a:ext cx="6770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Estrutura para o Fluxograma Material Prelimina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52480" y="1847880"/>
            <a:ext cx="7099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55480" y="380880"/>
            <a:ext cx="540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Fluxograma Material Preliminar para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Produção de Acetato de Etil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7708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15680" y="457200"/>
            <a:ext cx="52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Sistema de Produção de MVC Basead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na Matriz Estequiometri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50320" y="4479840"/>
            <a:ext cx="278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Matriz Estequiometrica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660920" cy="1176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58880" y="4952880"/>
            <a:ext cx="56707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2.8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.84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4.4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.43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.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93360" y="3200400"/>
            <a:ext cx="36579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6"/>
                </a:solidFill>
                <a:latin typeface="Times New Roman"/>
              </a:rPr>
              <a:t>R1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+ Cl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l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55440" y="3809880"/>
            <a:ext cx="4109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6"/>
                </a:solidFill>
                <a:latin typeface="Times New Roman"/>
              </a:rPr>
              <a:t>R2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C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H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Cl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8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C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H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Cl + HC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4920" y="3809880"/>
            <a:ext cx="54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A)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3520" y="3809880"/>
            <a:ext cx="524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B)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72280" y="3413160"/>
            <a:ext cx="54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C)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4440" y="3413160"/>
            <a:ext cx="59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M)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7240" y="3413160"/>
            <a:ext cx="54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D)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028960" y="457200"/>
            <a:ext cx="623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Sistema Aumentado para a Produção de MV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26280" y="3870360"/>
            <a:ext cx="278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Matriz Estequiometrica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16120" y="2590920"/>
            <a:ext cx="4573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6"/>
                </a:solidFill>
                <a:latin typeface="Times New Roman"/>
              </a:rPr>
              <a:t>R3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HCl + (1/2) O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l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+ H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5840" y="3124080"/>
            <a:ext cx="54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A)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79840" y="3124080"/>
            <a:ext cx="54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C)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7960" y="3108240"/>
            <a:ext cx="511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F)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86640" y="3124080"/>
            <a:ext cx="524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E)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6413400" cy="1015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96760" y="4419720"/>
            <a:ext cx="750024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/2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/2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2,8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,84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4,4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,43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,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37240" y="457200"/>
            <a:ext cx="621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Sistema Balanceado para a Produção de MV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26280" y="3870360"/>
            <a:ext cx="278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Matriz Estequiometrica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4200" y="3048120"/>
            <a:ext cx="348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6"/>
                </a:solidFill>
                <a:latin typeface="Times New Roman"/>
              </a:rPr>
              <a:t>Multiplicando R3 por 1/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05120" y="1076400"/>
            <a:ext cx="6565680" cy="1450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96760" y="4419720"/>
            <a:ext cx="75002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/4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/2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-1/4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7T18:27:34Z</dcterms:created>
  <dc:creator>Escola de Quimica</dc:creator>
  <dc:description/>
  <dc:language>en-US</dc:language>
  <cp:lastModifiedBy>daniel</cp:lastModifiedBy>
  <dcterms:modified xsi:type="dcterms:W3CDTF">2004-07-21T12:52:16Z</dcterms:modified>
  <cp:revision>11</cp:revision>
  <dc:subject/>
  <dc:title>Slide sem 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29158623</vt:r8>
  </property>
  <property fmtid="{D5CDD505-2E9C-101B-9397-08002B2CF9AE}" pid="3" name="_AuthorEmail">
    <vt:lpwstr>osvaldo@eq.ufrn.br</vt:lpwstr>
  </property>
  <property fmtid="{D5CDD505-2E9C-101B-9397-08002B2CF9AE}" pid="4" name="_AuthorEmailDisplayName">
    <vt:lpwstr>Osvaldo Chiavone Filho</vt:lpwstr>
  </property>
  <property fmtid="{D5CDD505-2E9C-101B-9397-08002B2CF9AE}" pid="5" name="_EmailSubject">
    <vt:lpwstr>AP. 7 E 8</vt:lpwstr>
  </property>
  <property fmtid="{D5CDD505-2E9C-101B-9397-08002B2CF9AE}" pid="6" name="_ReviewingToolsShownOnce">
    <vt:lpwstr/>
  </property>
</Properties>
</file>