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1A0-1092-4B9B-A4F9-D38FCD42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CAD-8149-4318-87BF-48BC05DC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3FF-0211-4089-9E43-6601ED28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EFB-D33D-4A62-9888-C2AA97F0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60B-88EF-427F-B4CF-5FEB7520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500D-7533-4CB7-941D-01575A11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2912-4F19-48F5-AE02-3F9E6AD2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26E0-9E43-48EF-8952-8E27971C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A27D-38C8-4FE4-A323-E3A8D683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E167-5A95-4963-BE67-4C761BA5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7C87-50A7-4186-9645-41B623E9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625-43AC-43DD-8346-D8FFF48E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67B6-83BF-46F9-825B-3EFC9A2E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09F6-D53D-46F5-9761-A4D8EE44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2845-C048-4F2B-8112-0B14A1FC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C1AC-82CE-4F2E-B902-36DB7FF9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37C5-D6E0-4F4C-B0E2-1D156686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DA7-0A2F-44CE-AFFC-8EC7E25B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E48-EE75-4E51-842E-40E6CB3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23B-250A-45F3-B99F-CB847AB9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43B-06E7-46FE-8818-03E89D20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293-A111-4A61-BF4C-5EE7E8F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6E2-2580-4880-BF16-041A250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F71-F95E-4629-817A-D212C1D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7640" y="3585240"/>
              <a:ext cx="62172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6249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624908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BC4E-D135-48C1-80B1-F7A33BDAE5FE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7640" y="3585240"/>
              <a:ext cx="62172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6249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624908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660A-B112-4E7B-B800-D7AF0AC05605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1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2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21640" y="-57240"/>
            <a:ext cx="75265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Times New Roman"/>
              </a:rPr>
              <a:t>5. OTIMIZAÇÃO PARAMÉTRICA N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80"/>
                </a:solidFill>
                <a:latin typeface="Times New Roman"/>
              </a:rPr>
              <a:t>ANÁLISE DE PROCESSO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1 Conceito de Otimiz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 Elementos Comuns em Problemas de Otimiz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.1 Variáveis de Decis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.2 Função Obje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.3 Restriç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.4 Região Viá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3 Condições Gerais para Valores Ótim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4 Problemas e Métodos de Otimiz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5 Problemas Univariáveis: métodos analítico e numérico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6 Problemas Multivaráveis: métodos analítico 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numéricos. Problemas irrestritos e restrito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579480" y="609480"/>
            <a:ext cx="293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ões Quadrátic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34560" y="3276720"/>
            <a:ext cx="118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IG 5.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75320" y="762120"/>
            <a:ext cx="644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Concavidade e Convexidade em 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dos Valores Característicos da Matriz Hessian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819520"/>
          <a:ext cx="9855360" cy="172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985536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819520" y="1981080"/>
          <a:ext cx="417348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41734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131920" y="914400"/>
            <a:ext cx="499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Restrições de 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7560" y="548640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5587920" cy="463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124080" y="5486400"/>
            <a:ext cx="2997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1920" y="914400"/>
            <a:ext cx="499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Restrições de 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0000" y="548640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743200" y="1752480"/>
          <a:ext cx="4173480" cy="32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752480"/>
                    <a:ext cx="417348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5587920" cy="463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124080" y="5486400"/>
            <a:ext cx="39880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1920" y="914400"/>
            <a:ext cx="499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Restrições de 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46920" y="5486400"/>
            <a:ext cx="52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786040" y="1905120"/>
          <a:ext cx="4173480" cy="30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1905120"/>
                    <a:ext cx="417348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5587920" cy="463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200400" y="5410080"/>
            <a:ext cx="3225960" cy="536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200400" y="6019920"/>
            <a:ext cx="31496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1920" y="914400"/>
            <a:ext cx="499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Restrições de 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0000" y="548640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5587920" cy="4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2709720" y="1892160"/>
          <a:ext cx="4173840" cy="30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9720" y="1892160"/>
                    <a:ext cx="41738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276720" y="5257800"/>
            <a:ext cx="3225600" cy="534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276720" y="5867280"/>
            <a:ext cx="2921040" cy="4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1560" y="914400"/>
            <a:ext cx="543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Restrições de Des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7560" y="548640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5270760" cy="425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4356360" cy="3584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886200" y="5413320"/>
            <a:ext cx="2603520" cy="619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971800" y="5489640"/>
            <a:ext cx="923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6"/>
                </a:solidFill>
                <a:latin typeface="Times New Roman"/>
              </a:rPr>
              <a:t>g(x)=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1560" y="914400"/>
            <a:ext cx="543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Restrições de Des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0000" y="548640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5270760" cy="425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71800" y="5489640"/>
            <a:ext cx="923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6"/>
                </a:solidFill>
                <a:latin typeface="Times New Roman"/>
              </a:rPr>
              <a:t>g(x)=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4356360" cy="3584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809880" y="5410080"/>
            <a:ext cx="25275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2640" y="914400"/>
            <a:ext cx="617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Duas Restrições de Des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89840" y="547056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5499000" cy="44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4203720" cy="3449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352680" y="5410080"/>
            <a:ext cx="2832120" cy="530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429000" y="5927760"/>
            <a:ext cx="26798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2640" y="914400"/>
            <a:ext cx="617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Duas Restrições de Des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2280" y="54705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5499000" cy="443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429000" y="5410080"/>
            <a:ext cx="2832120" cy="534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429000" y="6019920"/>
            <a:ext cx="2755800" cy="512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666880" y="1600200"/>
            <a:ext cx="42800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07880" y="304920"/>
            <a:ext cx="5326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nflito em Otimiz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ceita e Custos Contribuem de Form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nflitante para o Lucro 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76520" y="1523880"/>
          <a:ext cx="7035840" cy="50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703584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2640" y="914400"/>
            <a:ext cx="617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Duas Restrições de Des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9200" y="5470560"/>
            <a:ext cx="52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5499000" cy="443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29000" y="6019920"/>
            <a:ext cx="2755800" cy="512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666880" y="1676520"/>
            <a:ext cx="4280040" cy="3508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352680" y="5410080"/>
            <a:ext cx="28321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33360" y="3808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2640" y="914400"/>
            <a:ext cx="617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ubmetida a Duas Restrições de Desigual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2280" y="54705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5499000" cy="443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5410080"/>
            <a:ext cx="2832120" cy="534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666880" y="1676520"/>
            <a:ext cx="4356360" cy="3574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429000" y="5927760"/>
            <a:ext cx="26798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232880" y="327672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Fig 5.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5440" y="838080"/>
            <a:ext cx="44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gião de Busca em 3 Dimens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04760" y="5562720"/>
            <a:ext cx="175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a) Convex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520" y="609480"/>
            <a:ext cx="421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Natureza das Regiões de Bus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280040" cy="3587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038480" y="5276880"/>
            <a:ext cx="4127760" cy="485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038480" y="5707080"/>
            <a:ext cx="2603520" cy="477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038480" y="6076800"/>
            <a:ext cx="3365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08400" y="5562720"/>
            <a:ext cx="254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(b) Não - Convex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520" y="609480"/>
            <a:ext cx="421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Natureza das Regiões de Bus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19720" y="5257800"/>
            <a:ext cx="2679480" cy="498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419720" y="5665680"/>
            <a:ext cx="3670200" cy="519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419720" y="6095880"/>
            <a:ext cx="3670200" cy="532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2590920" y="1447920"/>
            <a:ext cx="42796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37000" y="914400"/>
            <a:ext cx="7011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Localização de valores extremos na faixa x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642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86320" y="914400"/>
            <a:ext cx="440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lação entre Funções e Regi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32880" y="327672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Fig 5.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88080" y="-34920"/>
            <a:ext cx="675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4 PROBLEMAS E MÉTODOS DE OTIMIZ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- Univariáveis ou Multivariáve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- Irrestritos ou Restri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MÉTOD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- Analíticos ou Numéric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- Diretos ou Indire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97520" y="914400"/>
            <a:ext cx="563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Extração de Ácido Benzóico com Benzen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34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65840" y="304920"/>
            <a:ext cx="611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  ELEMENTOS COMU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.1 Variáveis de Decisão: Variáveis de Proje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.2 Função Obje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(a) continui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(b) modali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(b) convexi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.3 Restriç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(a) de igauldade: h(x) = 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(b) de desigualdade: g(x) </a:t>
            </a:r>
            <a:r>
              <a:rPr b="0" lang="pt-BR" sz="2400" spc="-1" strike="noStrike">
                <a:solidFill>
                  <a:srgbClr val="000080"/>
                </a:solidFill>
                <a:latin typeface="Symbol"/>
                <a:ea typeface="Symbol"/>
              </a:rPr>
              <a:t>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5.2.4 Região Viável: convexi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27360" y="685800"/>
            <a:ext cx="669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Tipos de Função Objetivo Quanto à Continui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95280" y="1447920"/>
          <a:ext cx="7874280" cy="49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787428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42120" y="609480"/>
            <a:ext cx="467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Função Unimodal em 2 Dimens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81080" y="1676520"/>
          <a:ext cx="635004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63500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894040" y="838080"/>
            <a:ext cx="438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Função Bimodal em 1 Dimens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33720" y="2133720"/>
          <a:ext cx="596880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59688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93680" y="838080"/>
            <a:ext cx="448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Função Bimodal em 2 Dimens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0040" y="3429000"/>
            <a:ext cx="163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IG 5.4 (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191120" y="457200"/>
            <a:ext cx="18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nvexi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76520" y="2133720"/>
          <a:ext cx="6807240" cy="41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80724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751760" y="1447920"/>
            <a:ext cx="252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a) função côncav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91120" y="457200"/>
            <a:ext cx="18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nvexi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1760" y="1447920"/>
            <a:ext cx="237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b) função covex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057400"/>
          <a:ext cx="6959880" cy="45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69598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7T18:27:34Z</dcterms:created>
  <dc:creator>Escola de Quimica</dc:creator>
  <dc:description/>
  <dc:language>en-US</dc:language>
  <cp:lastModifiedBy>Carlos Augusto Perlingeiro</cp:lastModifiedBy>
  <dcterms:modified xsi:type="dcterms:W3CDTF">1998-10-27T16:07:40Z</dcterms:modified>
  <cp:revision>10</cp:revision>
  <dc:subject/>
  <dc:title>Slide sem título </dc:title>
</cp:coreProperties>
</file>