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E4E-3307-4243-8446-9C10E410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E4A-C4D4-4117-9CB8-44288CD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15C-9EF0-4B06-9996-47A1E326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AD4-B4FC-4285-92DF-BC669EAD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3CD-C054-4DC6-8941-A578CA2E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7D6-703A-4E0A-9467-47571D30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394-1B98-43BE-A29A-62033A37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9D5-064D-4518-92DE-C2107A8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6A9-56DB-4BAD-98D0-35E98B69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620-1DC1-4E9A-9788-F5CE895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F21-94B2-4A30-AAFB-C690167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E56-99EC-4B17-89F5-FB7A75D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A21-8839-40DE-BA3F-777B39706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at-Custos-F4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3962520" cy="36799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37160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124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stos de 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ntes de inform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nec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200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3886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v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4495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stas 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Chemical Engineer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COST INDE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981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ntes de inform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nec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3200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otes comput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mu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886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v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495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stas 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Chemical Engineer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Nat-Custos-F0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162920" cy="2766960"/>
          </a:xfrm>
          <a:prstGeom prst="rect">
            <a:avLst/>
          </a:prstGeom>
          <a:ln w="15840">
            <a:solidFill>
              <a:srgbClr val="ff66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37160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STO D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Nat-Custos-F1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6172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Nat-Custos-F2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6035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1219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. ESTIMATIVA DE CUSTO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3623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RIÁV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8195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Matérias-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2004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Utilidades, energia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5812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Catalis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9625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Mão de obra de operação e supervi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4197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Manutenção, suporte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876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Royalti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1219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. ESTIMATIVA DE CUSTO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3623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8195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Deprec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2004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Imp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5812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9625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Alug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4197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Apoio administ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4876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Cust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3372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ITAL DE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2362320"/>
            <a:ext cx="57913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Estoques de matérias-prim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Estoques de produ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Crédi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Débi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3. AVALIAÇÃO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4382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3623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da útil do empreendimento (10 ano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35053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o final recupera-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1911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Capital de g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47242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53341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Valor residual do invest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0948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AVALIAÇÃO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DE PROCESS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590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6576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studo da viabilidade de processos nov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modificações em processos existen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novos empreendi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nível de projeto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76720" y="533520"/>
            <a:ext cx="5029200" cy="5181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2860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Fluxo acumulado (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505320"/>
            <a:ext cx="5029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3526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352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533520"/>
            <a:ext cx="8381880" cy="5061600"/>
            <a:chOff x="304920" y="533520"/>
            <a:chExt cx="8381880" cy="5061600"/>
          </a:xfrm>
        </p:grpSpPr>
        <p:grpSp>
          <p:nvGrpSpPr>
            <p:cNvPr id="144" name=""/>
            <p:cNvGrpSpPr/>
            <p:nvPr/>
          </p:nvGrpSpPr>
          <p:grpSpPr>
            <a:xfrm>
              <a:off x="3276720" y="533520"/>
              <a:ext cx="5410080" cy="5061600"/>
              <a:chOff x="3276720" y="533520"/>
              <a:chExt cx="5410080" cy="50616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276720" y="533520"/>
                <a:ext cx="5410080" cy="5061600"/>
                <a:chOff x="3276720" y="533520"/>
                <a:chExt cx="5410080" cy="50616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276720" y="312408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3276720" y="685440"/>
                  <a:ext cx="5029200" cy="4572360"/>
                  <a:chOff x="3276720" y="685440"/>
                  <a:chExt cx="5029200" cy="457236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276720" y="3505320"/>
                    <a:ext cx="457200" cy="457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733920" y="3962520"/>
                    <a:ext cx="304560" cy="1066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038480" y="5029200"/>
                    <a:ext cx="3049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4343400" y="5105160"/>
                    <a:ext cx="304920" cy="15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4648320" y="838080"/>
                    <a:ext cx="3276360" cy="4267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7924680" y="685440"/>
                    <a:ext cx="381240" cy="15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>
                  <a:off x="3657600" y="365760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733920" y="495288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91120" y="525780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724280" y="5029200"/>
                  <a:ext cx="381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638680" y="3200400"/>
                  <a:ext cx="381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43800" y="60948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305920" y="5335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010280" y="990720"/>
                <a:ext cx="457200" cy="457200"/>
                <a:chOff x="7010280" y="990720"/>
                <a:chExt cx="457200" cy="457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086600" y="106668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cc99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010280" y="99072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304920" y="1219320"/>
              <a:ext cx="274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</a:rPr>
                <a:t>1. Fluxo de caixa acumul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4920" y="1981080"/>
            <a:ext cx="8001000" cy="3048120"/>
            <a:chOff x="304920" y="1981080"/>
            <a:chExt cx="8001000" cy="3048120"/>
          </a:xfrm>
        </p:grpSpPr>
        <p:grpSp>
          <p:nvGrpSpPr>
            <p:cNvPr id="166" name=""/>
            <p:cNvGrpSpPr/>
            <p:nvPr/>
          </p:nvGrpSpPr>
          <p:grpSpPr>
            <a:xfrm>
              <a:off x="3276720" y="1981080"/>
              <a:ext cx="5029200" cy="3048120"/>
              <a:chOff x="3276720" y="1981080"/>
              <a:chExt cx="5029200" cy="30481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391520" y="1981080"/>
                <a:ext cx="457200" cy="457200"/>
                <a:chOff x="7391520" y="1981080"/>
                <a:chExt cx="457200" cy="457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467840" y="205704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cc99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91520" y="198108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276720" y="2209680"/>
                <a:ext cx="5029200" cy="2819520"/>
                <a:chOff x="3276720" y="2209680"/>
                <a:chExt cx="5029200" cy="281952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4343400" y="4876560"/>
                  <a:ext cx="304920" cy="15228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3276720" y="2209680"/>
                  <a:ext cx="5029200" cy="2819520"/>
                  <a:chOff x="3276720" y="2209680"/>
                  <a:chExt cx="5029200" cy="28195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3276720" y="3505320"/>
                    <a:ext cx="457200" cy="38088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733920" y="3886200"/>
                    <a:ext cx="304560" cy="83808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4038480" y="4724280"/>
                    <a:ext cx="304920" cy="30492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>
                    <a:off x="4648320" y="2361960"/>
                    <a:ext cx="3276360" cy="251460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V="1">
                    <a:off x="7924680" y="2209680"/>
                    <a:ext cx="381240" cy="15264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8" name=""/>
            <p:cNvSpPr/>
            <p:nvPr/>
          </p:nvSpPr>
          <p:spPr>
            <a:xfrm>
              <a:off x="304920" y="2286000"/>
              <a:ext cx="274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</a:rPr>
                <a:t>2. Valor presente do fluxo de caixa acumul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4920" y="3505320"/>
            <a:ext cx="8001000" cy="2304000"/>
            <a:chOff x="304920" y="3505320"/>
            <a:chExt cx="8001000" cy="2304000"/>
          </a:xfrm>
        </p:grpSpPr>
        <p:grpSp>
          <p:nvGrpSpPr>
            <p:cNvPr id="180" name=""/>
            <p:cNvGrpSpPr/>
            <p:nvPr/>
          </p:nvGrpSpPr>
          <p:grpSpPr>
            <a:xfrm>
              <a:off x="7467480" y="3733920"/>
              <a:ext cx="457200" cy="457200"/>
              <a:chOff x="7467480" y="3733920"/>
              <a:chExt cx="457200" cy="457200"/>
            </a:xfrm>
          </p:grpSpPr>
          <p:sp>
            <p:nvSpPr>
              <p:cNvPr id="181" name=""/>
              <p:cNvSpPr/>
              <p:nvPr/>
            </p:nvSpPr>
            <p:spPr>
              <a:xfrm>
                <a:off x="7543800" y="38098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cc99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67480" y="373392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352680" y="3505320"/>
              <a:ext cx="4953240" cy="1143000"/>
              <a:chOff x="3352680" y="3505320"/>
              <a:chExt cx="4953240" cy="114300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4648320" y="4343040"/>
                <a:ext cx="152280" cy="228600"/>
              </a:xfrm>
              <a:prstGeom prst="line">
                <a:avLst/>
              </a:prstGeom>
              <a:ln w="3168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3352680" y="3505320"/>
                <a:ext cx="4953240" cy="1143000"/>
                <a:chOff x="3352680" y="3505320"/>
                <a:chExt cx="4953240" cy="1143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352680" y="3505320"/>
                  <a:ext cx="457200" cy="30456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809880" y="3809880"/>
                  <a:ext cx="304920" cy="68580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14800" y="4495680"/>
                  <a:ext cx="228600" cy="15264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4343400" y="4572000"/>
                  <a:ext cx="304920" cy="7632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00600" y="3505320"/>
                  <a:ext cx="3505320" cy="838080"/>
                </a:xfrm>
                <a:custGeom>
                  <a:avLst/>
                  <a:gdLst/>
                  <a:ahLst/>
                  <a:rect l="l" t="t" r="r" b="b"/>
                  <a:pathLst>
                    <a:path w="2208" h="528">
                      <a:moveTo>
                        <a:pt x="0" y="528"/>
                      </a:moveTo>
                      <a:cubicBezTo>
                        <a:pt x="28" y="484"/>
                        <a:pt x="56" y="440"/>
                        <a:pt x="144" y="384"/>
                      </a:cubicBezTo>
                      <a:cubicBezTo>
                        <a:pt x="232" y="328"/>
                        <a:pt x="248" y="248"/>
                        <a:pt x="528" y="192"/>
                      </a:cubicBezTo>
                      <a:cubicBezTo>
                        <a:pt x="808" y="136"/>
                        <a:pt x="1544" y="80"/>
                        <a:pt x="1824" y="48"/>
                      </a:cubicBezTo>
                      <a:cubicBezTo>
                        <a:pt x="2104" y="16"/>
                        <a:pt x="2156" y="8"/>
                        <a:pt x="2208" y="0"/>
                      </a:cubicBezTo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304920" y="5105520"/>
              <a:ext cx="274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. Taxa interna de reto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1219320"/>
            <a:ext cx="0" cy="434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352680"/>
            <a:ext cx="54100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3124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Nível de detalh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83808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aixa de er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2057400"/>
            <a:ext cx="0" cy="28195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5410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íntese de 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00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30 a 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514600"/>
            <a:ext cx="0" cy="1600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Projeto de 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819520"/>
            <a:ext cx="0" cy="11430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Times New Roman"/>
              </a:rPr>
              <a:t>Projeto b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048120"/>
            <a:ext cx="0" cy="6858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ojeto detalh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3124080"/>
            <a:ext cx="0" cy="4572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Projeto exec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20 a 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15 a 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2514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10 a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5 a 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533520"/>
            <a:ext cx="5943600" cy="2819160"/>
            <a:chOff x="2286000" y="533520"/>
            <a:chExt cx="5943600" cy="2819160"/>
          </a:xfrm>
        </p:grpSpPr>
        <p:sp>
          <p:nvSpPr>
            <p:cNvPr id="65" name=""/>
            <p:cNvSpPr/>
            <p:nvPr/>
          </p:nvSpPr>
          <p:spPr>
            <a:xfrm>
              <a:off x="2286000" y="533520"/>
              <a:ext cx="4495680" cy="2819160"/>
            </a:xfrm>
            <a:custGeom>
              <a:avLst/>
              <a:gdLst/>
              <a:ahLst/>
              <a:rect l="l" t="t" r="r" b="b"/>
              <a:pathLst>
                <a:path w="2832" h="1776">
                  <a:moveTo>
                    <a:pt x="0" y="1776"/>
                  </a:moveTo>
                  <a:cubicBezTo>
                    <a:pt x="112" y="1764"/>
                    <a:pt x="224" y="1752"/>
                    <a:pt x="384" y="1728"/>
                  </a:cubicBezTo>
                  <a:cubicBezTo>
                    <a:pt x="544" y="1704"/>
                    <a:pt x="768" y="1672"/>
                    <a:pt x="960" y="1632"/>
                  </a:cubicBezTo>
                  <a:cubicBezTo>
                    <a:pt x="1152" y="1592"/>
                    <a:pt x="1336" y="1568"/>
                    <a:pt x="1536" y="1488"/>
                  </a:cubicBezTo>
                  <a:cubicBezTo>
                    <a:pt x="1736" y="1408"/>
                    <a:pt x="1944" y="1400"/>
                    <a:pt x="2160" y="1152"/>
                  </a:cubicBezTo>
                  <a:cubicBezTo>
                    <a:pt x="2376" y="904"/>
                    <a:pt x="2604" y="452"/>
                    <a:pt x="28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080" y="53352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Custo de execução do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324480" cy="44244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6858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2286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2004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. ESTIMATIVA DE CUSTO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4648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3. AVALIAÇÃO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981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ntes de inform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nec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200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886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v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295280"/>
            <a:ext cx="8305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Bibli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BIEGLER, L.T., GROSSMANN, I.E., WESTERBERG, A.W. Systematic methods of chemical process 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design. 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Prentice Hall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DOUGLAS, J.M. Conceptual process design. McGraw-Hill, 198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PETERS M.S., TIMMERHAUS, K.D. Plant design and economics for chemical engineers. McGraw-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Hill, 199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SEIDER, W.D., SEADER, J.D., LEWIN, D.R. Process design principles: synthesis, analysis and 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evaluation. John Wiley &amp; Sons, 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SMITH, R. Chemical process design. McGraw-Hill, 199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Nat-Custos-F3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3809880" cy="370836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37160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124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stos de 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219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 ESTIMATIVA DE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343400" y="1828800"/>
            <a:ext cx="3962160" cy="2204280"/>
            <a:chOff x="4343400" y="1828800"/>
            <a:chExt cx="3962160" cy="2204280"/>
          </a:xfrm>
        </p:grpSpPr>
        <p:sp>
          <p:nvSpPr>
            <p:cNvPr id="84" name=""/>
            <p:cNvSpPr/>
            <p:nvPr/>
          </p:nvSpPr>
          <p:spPr>
            <a:xfrm>
              <a:off x="5192280" y="1888920"/>
              <a:ext cx="3042360" cy="180684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43400" y="182880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66"/>
                  </a:solidFill>
                  <a:latin typeface="Times New Roman"/>
                </a:rPr>
                <a:t>Va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66"/>
                  </a:solidFill>
                  <a:latin typeface="Times New Roman"/>
                </a:rPr>
                <a:t>($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48920" y="3695760"/>
              <a:ext cx="155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66"/>
                  </a:solidFill>
                  <a:latin typeface="Times New Roman"/>
                </a:rPr>
                <a:t>Capac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92280" y="2009160"/>
              <a:ext cx="3042360" cy="1686240"/>
            </a:xfrm>
            <a:custGeom>
              <a:avLst/>
              <a:gdLst/>
              <a:ahLst/>
              <a:rect l="l" t="t" r="r" b="b"/>
              <a:pathLst>
                <a:path w="2064" h="1344">
                  <a:moveTo>
                    <a:pt x="0" y="1344"/>
                  </a:moveTo>
                  <a:cubicBezTo>
                    <a:pt x="60" y="1208"/>
                    <a:pt x="120" y="1072"/>
                    <a:pt x="192" y="960"/>
                  </a:cubicBezTo>
                  <a:cubicBezTo>
                    <a:pt x="264" y="848"/>
                    <a:pt x="360" y="744"/>
                    <a:pt x="432" y="672"/>
                  </a:cubicBezTo>
                  <a:cubicBezTo>
                    <a:pt x="504" y="600"/>
                    <a:pt x="544" y="584"/>
                    <a:pt x="624" y="528"/>
                  </a:cubicBezTo>
                  <a:cubicBezTo>
                    <a:pt x="704" y="472"/>
                    <a:pt x="832" y="384"/>
                    <a:pt x="912" y="336"/>
                  </a:cubicBezTo>
                  <a:cubicBezTo>
                    <a:pt x="992" y="288"/>
                    <a:pt x="1016" y="272"/>
                    <a:pt x="1104" y="240"/>
                  </a:cubicBezTo>
                  <a:cubicBezTo>
                    <a:pt x="1192" y="208"/>
                    <a:pt x="1320" y="176"/>
                    <a:pt x="1440" y="144"/>
                  </a:cubicBezTo>
                  <a:cubicBezTo>
                    <a:pt x="1560" y="112"/>
                    <a:pt x="1720" y="72"/>
                    <a:pt x="1824" y="48"/>
                  </a:cubicBezTo>
                  <a:cubicBezTo>
                    <a:pt x="1928" y="24"/>
                    <a:pt x="1996" y="12"/>
                    <a:pt x="2064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1879560" cy="127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6858000" cy="213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1:44:29Z</dcterms:created>
  <dc:creator>Guardani</dc:creator>
  <dc:description/>
  <dc:language>en-US</dc:language>
  <cp:lastModifiedBy>Guardani</cp:lastModifiedBy>
  <dcterms:modified xsi:type="dcterms:W3CDTF">2002-06-11T20:00:16Z</dcterms:modified>
  <cp:revision>45</cp:revision>
  <dc:subject/>
  <dc:title>No Slide Title</dc:title>
</cp:coreProperties>
</file>