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B766-45BA-445A-86B0-A304778C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5DD-D6D7-410E-B98F-8FEE637A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155-BB65-4644-A116-18E329EB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C016-8620-49F5-BC23-729DCC70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48F7-6B75-44DE-93CC-49B8FF69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C524-E77D-4D47-BEA0-B9441600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A2E8-8F12-4185-A3F9-3BD15433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40A5-A6C9-4C2A-955F-1B734F20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E604-E9E5-4ED7-9950-177C4E11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89C2-903C-4041-A567-46BBC7E5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1458-928E-4057-9E6D-DFF53653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340-A080-4A64-8ACB-2674EDF9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4961-9193-4992-A2C5-A81FA815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6337-6E19-4ED0-A4EF-A11663C4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998E-FF6A-4663-8087-BBB41841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B38E-9F69-4903-9A8A-C2204421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B69C-8AC4-494E-B873-A1FBDA47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1750-47A4-4200-A497-5AFE9673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A7E3-2D25-4509-B04E-A33B071B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59F3-78AE-4818-BCE2-3D6B27A3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FC90-6E77-4AB9-A63A-9C08BB15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212D-CE37-456E-9BE4-798FE3B5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65C-7F2C-4804-B17B-66EEBF76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48DE-E706-4010-88A5-DCA000A2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857B-27B3-4119-A75F-D0895C56FD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2418-8A46-4479-9C1C-66FBE5A4D5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. SÍNTESE DE SISTEMAS DE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SEPAR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Sistemas de Separ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zado quando a separação desejada não pode ser efetuada por um único separ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O Problema de Sínt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.1 Enunci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elecer o sistema de custo mínimo que a partir de uma dada mistura, produza um conjunto de misturas de composição defini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52000" y="259920"/>
            <a:ext cx="8642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=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in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  ,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= volatilidade relativa adjac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Q=x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in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/x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  , x = fração m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Valores de R e Q próximos de 1 indicam que as volatilidades relativas adjacentes e as frações molares diferem pou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Valores de R e Q próximos de 0 indicam que essas variáveis diferem mui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5708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5 Resolução pelo Método Evolu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5.1 Regras Evolu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regras evolutivas norteiam as modificações no sentido da obtenção de fluxogramas vizinhos. Para processos de separação as regras sã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Inverter a ordem de corte de 2 colunas interligada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 trocar o tipo de separad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924680" cy="50724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3275640" y="5950080"/>
            <a:ext cx="39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zinha estrutural do probl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5.2 Estratégia Evolu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e para guiar a resolução na direção mais promissora, evitando a aplicação desordenada das regras evolut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411280" y="2563920"/>
            <a:ext cx="5113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5.3 Resolução de Problema Ilustrativo pelo Método Evolu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3882960" cy="2189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4932720" y="2492280"/>
            <a:ext cx="3842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UN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USTO ($/a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77,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32,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985,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TAL     1095,7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26880" y="148428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xograma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22766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5004000" y="2421000"/>
            <a:ext cx="3842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UN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USTO ($/a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33,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76,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985,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TAL     1095,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783240" y="170028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xograma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3421080" y="5373720"/>
            <a:ext cx="2514600" cy="9907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348000" y="4797360"/>
            <a:ext cx="259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olu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333360"/>
            <a:ext cx="72388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luxograma Vizinho do Fluxograma 1 pela Inversão dos Cortes das Colunas 1 e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18003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5643720" y="2276640"/>
            <a:ext cx="3842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UNA     CUSTO ($/a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33,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76,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246,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521,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TAL            878,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492360" y="5013360"/>
            <a:ext cx="259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olu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2916360" y="5589720"/>
            <a:ext cx="3657600" cy="8636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uxograma Vizinho do Fluxograma 2 pela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oca do Processo 2 pelo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59280" y="1484280"/>
            <a:ext cx="33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luxograma 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3672000" cy="26827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5942160" y="2492280"/>
            <a:ext cx="3842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UNA     CUSTO ($/a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77,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32,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246,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521,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TAL            878,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uxograma Vizinho do Fluxograma 3 pela Inversão dos Cortes das Colunas 1 e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43280" y="1484280"/>
            <a:ext cx="33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luxograma 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uxograma Vizinho do Fluxograma 3 pela Inversão dos Cortes das Colunas 9 e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4038480" cy="20163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5499360" y="1989000"/>
            <a:ext cx="3842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UNA     CUSTO ($/a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33,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249,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68,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521,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TAL            872,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59280" y="1268280"/>
            <a:ext cx="33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luxograma 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2557440" y="4941720"/>
            <a:ext cx="4038480" cy="16560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205080" y="4437000"/>
            <a:ext cx="259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olu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uxograma Vizinho do Fluxograma 5 pela Inversão dos Cortes das Colunas 1 e 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124440" cy="27349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5355720" y="1989000"/>
            <a:ext cx="3842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UNA     CUSTO ($/a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256,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14,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68,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521,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TAL            860,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4211640" y="5373720"/>
            <a:ext cx="4038480" cy="12603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2700360" y="1268280"/>
            <a:ext cx="33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luxograma 6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859280" y="4724280"/>
            <a:ext cx="259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olu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424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.2 Problema Ilustra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.3 Solu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839520" y="993600"/>
            <a:ext cx="3970440" cy="1569960"/>
            <a:chOff x="839520" y="993600"/>
            <a:chExt cx="3970440" cy="1569960"/>
          </a:xfrm>
        </p:grpSpPr>
        <p:sp>
          <p:nvSpPr>
            <p:cNvPr id="165" name=""/>
            <p:cNvSpPr/>
            <p:nvPr/>
          </p:nvSpPr>
          <p:spPr>
            <a:xfrm>
              <a:off x="2412720" y="1068120"/>
              <a:ext cx="1273320" cy="1495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87480" y="1143000"/>
              <a:ext cx="373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3985920" y="1068120"/>
              <a:ext cx="7488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985920" y="1143000"/>
              <a:ext cx="7488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062240" y="1817640"/>
              <a:ext cx="299880" cy="29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62240" y="1368360"/>
              <a:ext cx="747720" cy="372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87480" y="1517400"/>
              <a:ext cx="373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3985920" y="1442520"/>
              <a:ext cx="7488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985920" y="1517400"/>
              <a:ext cx="7488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2240" y="2192400"/>
              <a:ext cx="299880" cy="29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2240" y="993600"/>
              <a:ext cx="299880" cy="29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87480" y="1966680"/>
              <a:ext cx="373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3985920" y="1891800"/>
              <a:ext cx="7488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985920" y="1966680"/>
              <a:ext cx="7488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87480" y="2341440"/>
              <a:ext cx="373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3985920" y="2266560"/>
              <a:ext cx="7488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985920" y="2341440"/>
              <a:ext cx="7488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9520" y="1477800"/>
              <a:ext cx="1047960" cy="60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8920" y="1778040"/>
              <a:ext cx="523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337840" y="1778040"/>
              <a:ext cx="7452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2337840" y="1703160"/>
              <a:ext cx="7452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05480" y="1589040"/>
              <a:ext cx="921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02120" y="1888920"/>
              <a:ext cx="846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8320" y="1589040"/>
              <a:ext cx="921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76400" y="1888920"/>
              <a:ext cx="784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03800" y="1812960"/>
              <a:ext cx="921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02120" y="1589040"/>
              <a:ext cx="846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52600" y="1065240"/>
              <a:ext cx="921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25320" y="1439640"/>
              <a:ext cx="846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75440" y="1514520"/>
              <a:ext cx="846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27360" y="1439640"/>
              <a:ext cx="921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52600" y="1888920"/>
              <a:ext cx="921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49720" y="2262240"/>
              <a:ext cx="784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32120" y="1439640"/>
              <a:ext cx="5677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ISTEM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69280" y="1663560"/>
              <a:ext cx="1760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70560" y="1963800"/>
              <a:ext cx="788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EPARAÇÃ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294160" y="981000"/>
            <a:ext cx="3353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omponente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Simbo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opano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Buteno-1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-Butano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-Buteno-2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-Buteno-2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-Pentano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627280" y="3573360"/>
            <a:ext cx="40384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657600" cy="24368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5499360" y="1989000"/>
            <a:ext cx="3842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UNA     CUSTO ($/a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77,4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254,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1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521,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TAL            867,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2411280" y="5300640"/>
            <a:ext cx="4038840" cy="12636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411280" y="4797360"/>
            <a:ext cx="403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do final da resolu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843280" y="1268280"/>
            <a:ext cx="33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luxograma 7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uxograma Vizinho do Fluxograma 6 pela Inversão dos Cortes das Colunas 2 e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70880" cy="20113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do Final da Resolução do Problema pelo Método Evolutivo com a Tolerância de 1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6 Resolução por Método de Busca Orden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570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za-se um limite superior da seguinte form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Se o custo acumulado de uma solução completa se mostrar superior ao limite vigente, essa solução é abandon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Se o custo acumulado de uma solução completa se mostrar inferior ao limite vigente, essa solução é tomada como nova solução temporária e o seu custo é tomado como novo limite super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Sempre que o custo acumulado de um ramo se tornar maior do que o limite superior vigente, a busca neste ramo é interrompida, retornando-se ao nó anter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457200" y="907920"/>
          <a:ext cx="8229600" cy="5541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U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usto da colu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usto acumul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[A/BCDEF]</a:t>
                      </a:r>
                      <a:r>
                        <a:rPr b="0" lang="en-US" sz="20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[BCDE/F]</a:t>
                      </a:r>
                      <a:r>
                        <a:rPr b="0" lang="en-US" sz="20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[B/CDE]</a:t>
                      </a:r>
                      <a:r>
                        <a:rPr b="0" lang="en-US" sz="20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6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6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[C/DE]</a:t>
                      </a:r>
                      <a:r>
                        <a:rPr b="0" lang="en-US" sz="20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1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78,0 (primeiro “bound”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[C/BDE]</a:t>
                      </a:r>
                      <a:r>
                        <a:rPr b="0" lang="en-US" sz="20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5,5 (violou “bound’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[B/CDEF]</a:t>
                      </a:r>
                      <a:r>
                        <a:rPr b="0" lang="en-US" sz="20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[CDE/F]</a:t>
                      </a:r>
                      <a:r>
                        <a:rPr b="0" lang="en-US" sz="20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1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[C/DE]</a:t>
                      </a:r>
                      <a:r>
                        <a:rPr b="0" lang="en-US" sz="20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1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72,4 (novo “bound”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[C/DEF]</a:t>
                      </a:r>
                      <a:r>
                        <a:rPr b="0" lang="en-US" sz="20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2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[DE/F]</a:t>
                      </a:r>
                      <a:r>
                        <a:rPr b="0" lang="en-US" sz="20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0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[C/BDEF]</a:t>
                      </a:r>
                      <a:r>
                        <a:rPr b="0" lang="en-US" sz="20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47,0 (violou “bound’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395280" y="333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9640" y="33336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olução  do problema ilustrativ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457200" y="476280"/>
          <a:ext cx="8229600" cy="6116400"/>
        </p:xfrm>
        <a:graphic>
          <a:graphicData uri="http://schemas.openxmlformats.org/drawingml/2006/table">
            <a:tbl>
              <a:tblPr/>
              <a:tblGrid>
                <a:gridCol w="3068640"/>
                <a:gridCol w="2417760"/>
                <a:gridCol w="2743200"/>
              </a:tblGrid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U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usto da colu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usto acumula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[ABCDE/F]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[A/BCDE]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[B/CDE]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6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6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[C/DE]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1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78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[C/BDE]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5,5 (violou “bound’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[AB/CDE]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4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1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[C/DE]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[A/B]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1,3+14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7,4 </a:t>
                      </a: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ovo “bound”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[AC/BDE]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1,6 (violou “bound”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395280" y="549360"/>
          <a:ext cx="8147160" cy="3527280"/>
        </p:xfrm>
        <a:graphic>
          <a:graphicData uri="http://schemas.openxmlformats.org/drawingml/2006/table">
            <a:tbl>
              <a:tblPr/>
              <a:tblGrid>
                <a:gridCol w="3384720"/>
                <a:gridCol w="2046240"/>
                <a:gridCol w="27162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U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usto da colu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usto acumul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[AB/CDEF]</a:t>
                      </a:r>
                      <a:r>
                        <a:rPr b="0" lang="en-US" sz="20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6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6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[CDE/F]</a:t>
                      </a:r>
                      <a:r>
                        <a:rPr b="0" lang="en-US" sz="20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[A/B]</a:t>
                      </a:r>
                      <a:r>
                        <a:rPr b="0" lang="en-US" sz="20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,3 + 14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9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[C/DE]</a:t>
                      </a:r>
                      <a:r>
                        <a:rPr b="0" lang="en-US" sz="20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1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0,4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novo “bound”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[C/DEF]</a:t>
                      </a:r>
                      <a:r>
                        <a:rPr b="0" lang="en-US" sz="20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[A/B]</a:t>
                      </a:r>
                      <a:r>
                        <a:rPr b="0" lang="en-US" sz="20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2,2 + 14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3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[DE/F]</a:t>
                      </a:r>
                      <a:r>
                        <a:rPr b="0" lang="en-US" sz="20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8,2 (violou “bound”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539640" y="4797360"/>
          <a:ext cx="8002800" cy="1368000"/>
        </p:xfrm>
        <a:graphic>
          <a:graphicData uri="http://schemas.openxmlformats.org/drawingml/2006/table">
            <a:tbl>
              <a:tblPr/>
              <a:tblGrid>
                <a:gridCol w="2984760"/>
                <a:gridCol w="2350800"/>
                <a:gridCol w="266724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U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usto da colu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usto acumul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[AC/BDEF]</a:t>
                      </a:r>
                      <a:r>
                        <a:rPr b="0" lang="en-US" sz="20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47,5 (violou “bound”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038320" y="1600200"/>
            <a:ext cx="5067360" cy="45306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ução Ótima do Problema Ilustrativo Obtida pelo Método de Busca Orde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2000" y="333360"/>
            <a:ext cx="84963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.4 Representação por Listas Orden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403884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5708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4 Resolução pelo Método Heuríst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4.1 Regras Heurís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ra 1: Se a dificuldade dos cortes não diferir muito, então remover primeiro o componente em maior quantidade. Se as quantidades forem iguais, separar em partes iguai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ra 2: Se os componentes estiverem em quantidades equivalentes, então efetuar, por ultimo a separação mais difíc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ra 3: Ao usar destilação, remover um componente de cada vez como destil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5708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ra 4: Evitar extrapolações de temperatura e pressão, dando preferência a condições elevadas se tais extrapolações forem necessár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ra 5: Evitar separações que exigem espécies estranhas a mistur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ra 6: Remover logo os componentes corrosivos ou mais perigos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ra 7: Ao usar destilação, ou processo semelhante, remover como destilado a espécie de maior valor ou produto desej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4.2 Resolução do Problema Ilustrativo pelo Método Heurístico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1523880"/>
            <a:ext cx="4953240" cy="3854520"/>
            <a:chOff x="380880" y="1523880"/>
            <a:chExt cx="4953240" cy="3854520"/>
          </a:xfrm>
        </p:grpSpPr>
        <p:grpSp>
          <p:nvGrpSpPr>
            <p:cNvPr id="209" name=""/>
            <p:cNvGrpSpPr/>
            <p:nvPr/>
          </p:nvGrpSpPr>
          <p:grpSpPr>
            <a:xfrm>
              <a:off x="384480" y="1528560"/>
              <a:ext cx="4944960" cy="3844800"/>
              <a:chOff x="384480" y="1528560"/>
              <a:chExt cx="4944960" cy="384480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384480" y="1528560"/>
                <a:ext cx="1236240" cy="549360"/>
                <a:chOff x="384480" y="1528560"/>
                <a:chExt cx="1236240" cy="5493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0480" y="1528560"/>
                  <a:ext cx="11635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IMB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84480" y="1528560"/>
                  <a:ext cx="1236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20720" y="1528560"/>
                <a:ext cx="1236240" cy="549360"/>
                <a:chOff x="1620720" y="1528560"/>
                <a:chExt cx="1236240" cy="5493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656720" y="1528560"/>
                  <a:ext cx="11635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COMP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20720" y="1528560"/>
                  <a:ext cx="1236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2856960" y="1528560"/>
                <a:ext cx="1236240" cy="549360"/>
                <a:chOff x="2856960" y="1528560"/>
                <a:chExt cx="1236240" cy="5493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2892960" y="1528560"/>
                  <a:ext cx="11635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VAZÃO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(kgmol/h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856960" y="1528560"/>
                  <a:ext cx="1236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093200" y="1528560"/>
                <a:ext cx="1236240" cy="549360"/>
                <a:chOff x="4093200" y="1528560"/>
                <a:chExt cx="1236240" cy="5493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129200" y="1528560"/>
                  <a:ext cx="11635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TE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1" lang="pt-BR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(oC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093200" y="1528560"/>
                  <a:ext cx="1236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84480" y="2077920"/>
                <a:ext cx="1236240" cy="549360"/>
                <a:chOff x="384480" y="2077920"/>
                <a:chExt cx="1236240" cy="5493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20480" y="2077920"/>
                  <a:ext cx="11635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84480" y="2077920"/>
                  <a:ext cx="1236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620720" y="2077920"/>
                <a:ext cx="1236240" cy="549360"/>
                <a:chOff x="1620720" y="2077920"/>
                <a:chExt cx="1236240" cy="5493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656720" y="2077920"/>
                  <a:ext cx="11635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Propano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20720" y="2077920"/>
                  <a:ext cx="1236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856960" y="2077920"/>
                <a:ext cx="1236240" cy="549360"/>
                <a:chOff x="2856960" y="2077920"/>
                <a:chExt cx="1236240" cy="5493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892960" y="2077920"/>
                  <a:ext cx="11635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4,5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856960" y="2077920"/>
                  <a:ext cx="1236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4093200" y="2077920"/>
                <a:ext cx="1236240" cy="549360"/>
                <a:chOff x="4093200" y="2077920"/>
                <a:chExt cx="1236240" cy="5493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129200" y="2077920"/>
                  <a:ext cx="11635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-42,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093200" y="2077920"/>
                  <a:ext cx="1236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84480" y="2627280"/>
                <a:ext cx="1236240" cy="549000"/>
                <a:chOff x="384480" y="2627280"/>
                <a:chExt cx="1236240" cy="5490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0480" y="2627280"/>
                  <a:ext cx="11635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B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84480" y="2627280"/>
                  <a:ext cx="1236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1620720" y="2627280"/>
                <a:ext cx="1236240" cy="549000"/>
                <a:chOff x="1620720" y="2627280"/>
                <a:chExt cx="1236240" cy="5490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656720" y="2627280"/>
                  <a:ext cx="11635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Buteno-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620720" y="2627280"/>
                  <a:ext cx="1236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2856960" y="2627280"/>
                <a:ext cx="1236240" cy="549000"/>
                <a:chOff x="2856960" y="2627280"/>
                <a:chExt cx="1236240" cy="5490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2892960" y="2627280"/>
                  <a:ext cx="11635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45,4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856960" y="2627280"/>
                  <a:ext cx="1236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4093200" y="2627280"/>
                <a:ext cx="1236240" cy="549000"/>
                <a:chOff x="4093200" y="2627280"/>
                <a:chExt cx="1236240" cy="5490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4129200" y="2627280"/>
                  <a:ext cx="11635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-6,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093200" y="2627280"/>
                  <a:ext cx="1236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84480" y="3176280"/>
                <a:ext cx="1236240" cy="549360"/>
                <a:chOff x="384480" y="3176280"/>
                <a:chExt cx="1236240" cy="549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20480" y="3176280"/>
                  <a:ext cx="11635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C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84480" y="3176280"/>
                  <a:ext cx="1236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1620720" y="3176280"/>
                <a:ext cx="1236240" cy="549360"/>
                <a:chOff x="1620720" y="3176280"/>
                <a:chExt cx="1236240" cy="5493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1656720" y="3176280"/>
                  <a:ext cx="11635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n-butano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620720" y="3176280"/>
                  <a:ext cx="1236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2856960" y="3176280"/>
                <a:ext cx="1236240" cy="549360"/>
                <a:chOff x="2856960" y="3176280"/>
                <a:chExt cx="1236240" cy="5493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2892960" y="3176280"/>
                  <a:ext cx="11635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54,7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856960" y="3176280"/>
                  <a:ext cx="1236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093200" y="3176280"/>
                <a:ext cx="1236240" cy="549360"/>
                <a:chOff x="4093200" y="3176280"/>
                <a:chExt cx="1236240" cy="5493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129200" y="3176280"/>
                  <a:ext cx="11635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-0,5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093200" y="3176280"/>
                  <a:ext cx="1236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384480" y="3725640"/>
                <a:ext cx="1236240" cy="549360"/>
                <a:chOff x="384480" y="3725640"/>
                <a:chExt cx="1236240" cy="5493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420480" y="3725640"/>
                  <a:ext cx="11635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D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84480" y="3725640"/>
                  <a:ext cx="1236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1620720" y="3725640"/>
                <a:ext cx="1236240" cy="549360"/>
                <a:chOff x="1620720" y="3725640"/>
                <a:chExt cx="1236240" cy="5493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1656720" y="3725640"/>
                  <a:ext cx="11635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t-buteno-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620720" y="3725640"/>
                  <a:ext cx="1236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2856960" y="3725640"/>
                <a:ext cx="1236240" cy="549360"/>
                <a:chOff x="2856960" y="3725640"/>
                <a:chExt cx="1236240" cy="5493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2892960" y="3725640"/>
                  <a:ext cx="11635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48,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856960" y="3725640"/>
                  <a:ext cx="1236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4093200" y="3725640"/>
                <a:ext cx="1236240" cy="549360"/>
                <a:chOff x="4093200" y="3725640"/>
                <a:chExt cx="1236240" cy="5493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129200" y="3725640"/>
                  <a:ext cx="11635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0,9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093200" y="3725640"/>
                  <a:ext cx="1236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84480" y="4275000"/>
                <a:ext cx="1236240" cy="549360"/>
                <a:chOff x="384480" y="4275000"/>
                <a:chExt cx="1236240" cy="5493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420480" y="4275000"/>
                  <a:ext cx="11635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E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84480" y="4275000"/>
                  <a:ext cx="1236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1620720" y="4275000"/>
                <a:ext cx="1236240" cy="549360"/>
                <a:chOff x="1620720" y="4275000"/>
                <a:chExt cx="1236240" cy="5493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1656720" y="4275000"/>
                  <a:ext cx="11635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c-buteno-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620720" y="4275000"/>
                  <a:ext cx="1236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56960" y="4275000"/>
                <a:ext cx="1236240" cy="549360"/>
                <a:chOff x="2856960" y="4275000"/>
                <a:chExt cx="1236240" cy="5493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92960" y="4275000"/>
                  <a:ext cx="11635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36,7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56960" y="4275000"/>
                  <a:ext cx="1236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093200" y="4275000"/>
                <a:ext cx="1236240" cy="549360"/>
                <a:chOff x="4093200" y="4275000"/>
                <a:chExt cx="1236240" cy="5493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129200" y="4275000"/>
                  <a:ext cx="11635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3,7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093200" y="4275000"/>
                  <a:ext cx="1236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384480" y="4824360"/>
                <a:ext cx="1236240" cy="549000"/>
                <a:chOff x="384480" y="4824360"/>
                <a:chExt cx="1236240" cy="5490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420480" y="4824360"/>
                  <a:ext cx="11635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F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84480" y="4824360"/>
                  <a:ext cx="1236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1620720" y="4824360"/>
                <a:ext cx="1236240" cy="549000"/>
                <a:chOff x="1620720" y="4824360"/>
                <a:chExt cx="1236240" cy="549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1656720" y="4824360"/>
                  <a:ext cx="11635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n-pentano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620720" y="4824360"/>
                  <a:ext cx="1236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56960" y="4824360"/>
                <a:ext cx="1236240" cy="549000"/>
                <a:chOff x="2856960" y="4824360"/>
                <a:chExt cx="1236240" cy="5490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92960" y="4824360"/>
                  <a:ext cx="11635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8,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56960" y="4824360"/>
                  <a:ext cx="1236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093200" y="4824360"/>
                <a:ext cx="1236240" cy="549000"/>
                <a:chOff x="4093200" y="4824360"/>
                <a:chExt cx="1236240" cy="54900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129200" y="4824360"/>
                  <a:ext cx="11635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36,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093200" y="4824360"/>
                  <a:ext cx="1236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380880" y="1523880"/>
              <a:ext cx="4953240" cy="3854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791320" y="1600200"/>
            <a:ext cx="2631960" cy="3213000"/>
            <a:chOff x="5791320" y="1600200"/>
            <a:chExt cx="2631960" cy="3213000"/>
          </a:xfrm>
        </p:grpSpPr>
        <p:grpSp>
          <p:nvGrpSpPr>
            <p:cNvPr id="296" name=""/>
            <p:cNvGrpSpPr/>
            <p:nvPr/>
          </p:nvGrpSpPr>
          <p:grpSpPr>
            <a:xfrm>
              <a:off x="5796000" y="1604880"/>
              <a:ext cx="2622600" cy="3203640"/>
              <a:chOff x="5796000" y="1604880"/>
              <a:chExt cx="2622600" cy="320364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5796000" y="1604880"/>
                <a:ext cx="1390680" cy="457200"/>
                <a:chOff x="5796000" y="1604880"/>
                <a:chExt cx="1390680" cy="4572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840280" y="1604880"/>
                  <a:ext cx="1301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lang="en-US" sz="1600" spc="-1" strike="noStrike" baseline="-30000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796000" y="1604880"/>
                  <a:ext cx="13906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186680" y="1604880"/>
                <a:ext cx="1231920" cy="457200"/>
                <a:chOff x="7186680" y="1604880"/>
                <a:chExt cx="1231920" cy="4572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230960" y="1604880"/>
                  <a:ext cx="11430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lang="en-US" sz="1600" spc="-1" strike="noStrike" baseline="-30000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186680" y="1604880"/>
                  <a:ext cx="123192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796000" y="2062080"/>
                <a:ext cx="1390680" cy="549360"/>
                <a:chOff x="5796000" y="2062080"/>
                <a:chExt cx="1390680" cy="5493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840280" y="2062080"/>
                  <a:ext cx="13017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(A/B) = 2,45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796000" y="2062080"/>
                  <a:ext cx="13906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7186680" y="2062080"/>
                <a:ext cx="1231920" cy="549360"/>
                <a:chOff x="7186680" y="2062080"/>
                <a:chExt cx="1231920" cy="5493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7230960" y="2062080"/>
                  <a:ext cx="114300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186680" y="2062080"/>
                  <a:ext cx="123192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5796000" y="2611440"/>
                <a:ext cx="1390680" cy="549360"/>
                <a:chOff x="5796000" y="2611440"/>
                <a:chExt cx="1390680" cy="54936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840280" y="2611440"/>
                  <a:ext cx="13017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(A/C) = 2,89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796000" y="2611440"/>
                  <a:ext cx="13906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7186680" y="2611440"/>
                <a:ext cx="1231920" cy="549360"/>
                <a:chOff x="7186680" y="2611440"/>
                <a:chExt cx="1231920" cy="54936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7230960" y="2611440"/>
                  <a:ext cx="114300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186680" y="2611440"/>
                  <a:ext cx="123192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796000" y="3160800"/>
                <a:ext cx="1390680" cy="549000"/>
                <a:chOff x="5796000" y="3160800"/>
                <a:chExt cx="1390680" cy="5490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840280" y="3160800"/>
                  <a:ext cx="130176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(B/C) = 1,8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796000" y="3160800"/>
                  <a:ext cx="139068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186680" y="3160800"/>
                <a:ext cx="1231920" cy="549000"/>
                <a:chOff x="7186680" y="3160800"/>
                <a:chExt cx="1231920" cy="5490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230960" y="3160800"/>
                  <a:ext cx="114300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(C/B) = 1,17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186680" y="3160800"/>
                  <a:ext cx="123192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5796000" y="3709800"/>
                <a:ext cx="1390680" cy="549360"/>
                <a:chOff x="5796000" y="3709800"/>
                <a:chExt cx="1390680" cy="54936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5840280" y="3709800"/>
                  <a:ext cx="13017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(C/D) = 1,07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796000" y="3709800"/>
                  <a:ext cx="13906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7186680" y="3709800"/>
                <a:ext cx="1231920" cy="549360"/>
                <a:chOff x="7186680" y="3709800"/>
                <a:chExt cx="1231920" cy="54936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7230960" y="3709800"/>
                  <a:ext cx="114300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(C/D) = 1,7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186680" y="3709800"/>
                  <a:ext cx="123192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796000" y="4259160"/>
                <a:ext cx="1390680" cy="549360"/>
                <a:chOff x="5796000" y="4259160"/>
                <a:chExt cx="1390680" cy="5493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840280" y="4259160"/>
                  <a:ext cx="13017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(E/F) = 2,5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796000" y="4259160"/>
                  <a:ext cx="13906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7186680" y="4259160"/>
                <a:ext cx="1231920" cy="549360"/>
                <a:chOff x="7186680" y="4259160"/>
                <a:chExt cx="1231920" cy="5493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7230960" y="4259160"/>
                  <a:ext cx="114300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186680" y="4259160"/>
                  <a:ext cx="123192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3" name=""/>
            <p:cNvSpPr/>
            <p:nvPr/>
          </p:nvSpPr>
          <p:spPr>
            <a:xfrm>
              <a:off x="5791320" y="1600200"/>
              <a:ext cx="2631960" cy="3213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1981080" cy="16682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838080" y="365760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do 1 do probl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2846160" cy="21891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5219640" y="43657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do 2 do probl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733560" cy="30481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038840" cy="25383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219640" y="43657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do 4 do probl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4360" y="4653000"/>
            <a:ext cx="30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do 3 do probl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4.3 Heurística Dif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condição ENTÃO 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ra 1: Se (as concentrações diferem muito E a dificuldade dos cortes difere pouco), ENTÃO remover o componente com a maior concentraç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ra 2: Se (as concentrações diferem pouco E a dificuldade dos cortes difere muito), ENTÃO efetuar o corte mais fác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ra 3: Se (as concentrações diferem pouco E a dificuldade dos cortes difere pouco), ENTÃO remover o componente mais le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21:29:19Z</dcterms:created>
  <dc:creator>Sarah.</dc:creator>
  <dc:description/>
  <dc:language>en-US</dc:language>
  <cp:lastModifiedBy>daniel</cp:lastModifiedBy>
  <dcterms:modified xsi:type="dcterms:W3CDTF">2004-07-21T13:23:15Z</dcterms:modified>
  <cp:revision>30</cp:revision>
  <dc:subject/>
  <dc:title>8. SÍNTESE DE SISTEMAS DE       SEPARAÇÃO</dc:title>
</cp:coreProperties>
</file>