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1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B30-D7BB-43BB-96C4-7E0E418C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152-3341-42D0-89D4-6D6ACC1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45E-369A-40CA-BAB1-5D6F242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638-E9FA-4080-9B93-9FDFCFF9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8B4E-BFB8-4E3D-BC2A-D9DA1CD5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307-F815-4164-8E1A-FFD5F31E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01D8-8C78-49A0-9E82-79893E6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D545-F8FA-43AA-9F2F-E7AD7CD9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CEFD-9575-471A-8EF8-15DC9F65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7E5-804D-46DC-8F84-EE40396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24A2-7612-441C-AC9F-B685781D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E67-0F91-45DA-A9CB-12520C6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1917-8C92-42B2-96D2-4514F44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4CA-A8BB-474C-B9BE-2D748F3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318-042A-489A-8D99-10A8419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4ED-EBA6-4C32-93FD-01B5D127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D02B-3956-4099-AC2A-5B87CBE5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3E5-5BD5-4FBA-A9A9-8DEFFBE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4D5-19DB-474F-8167-8DC54E8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DFB-ABDD-499F-B617-7F1905CB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374-91BC-4326-BAAF-F05950A8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991-3789-4730-B519-36E7FF3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547-D990-4B35-AD74-6963E26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3EA-9C0D-4490-BA7D-F485DBB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F8E-7533-4B4A-9460-B33D425248E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801-BC3A-4C0F-871E-267C57F5669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79320" y="-57240"/>
            <a:ext cx="67827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3. ESTRATÉGIAS DE CÁLCULO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1 Resolução de Equações Não-Linea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 Resolução de Sistemas de Equações Não-Linea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.1 Métodos Simultâne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.2 Método Sequen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a) parti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(b) abertu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.3 Algoritmo de Ordenação de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.4 Regras Complementa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2.5 Eliminação de Cicl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3 Dimensionamento e Simulação de Equipament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4 Dimensionamento e Simulação de Process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4.1 Estratégia Glob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4.2 Estratégia Modu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5 Incerteza e Análise de Sensibilida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5.1 Questionamento do Proje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3.5.2 Questionamento do Desempenho Futuro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1440" y="746280"/>
            <a:ext cx="5661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Estágio da Sequência de Cálculo após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identificação das equações com incógnit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única e variáveis de frequência unitá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348000" y="4021200"/>
          <a:ext cx="5477040" cy="184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021200"/>
                    <a:ext cx="547704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620720" y="2305080"/>
          <a:ext cx="7172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2305080"/>
                    <a:ext cx="7172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10120" y="1203480"/>
            <a:ext cx="566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Sequência de Cálculo final para o sistem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14480" y="4332240"/>
          <a:ext cx="5477040" cy="18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4332240"/>
                    <a:ext cx="547704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55640" y="2438280"/>
          <a:ext cx="7259760" cy="12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5640" y="2438280"/>
                    <a:ext cx="7259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20240" y="289080"/>
            <a:ext cx="599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squemas de resolução do subsistema cíclic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o sistema  por abertu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716200" y="2292480"/>
          <a:ext cx="478332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6200" y="2292480"/>
                    <a:ext cx="478332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716200" y="4883040"/>
          <a:ext cx="4783320" cy="15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4883040"/>
                    <a:ext cx="478332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60040" y="1706400"/>
            <a:ext cx="26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a) Substituição Diret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37360" y="4297320"/>
            <a:ext cx="148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b) Bisseçã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74160" y="1050840"/>
            <a:ext cx="66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quações, Matriz Incidência e Grafo do Sistem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39800" y="1747800"/>
          <a:ext cx="7502760" cy="117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1747800"/>
                    <a:ext cx="7502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671480" y="2957400"/>
          <a:ext cx="7471080" cy="12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1480" y="2957400"/>
                    <a:ext cx="747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001960" y="4335480"/>
          <a:ext cx="6021360" cy="160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1960" y="4335480"/>
                    <a:ext cx="60213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861560" y="441360"/>
            <a:ext cx="27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: Sistem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01520" y="669960"/>
            <a:ext cx="468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Sequência de Cálculo do Sistem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568520"/>
          <a:ext cx="6718320" cy="117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68520"/>
                    <a:ext cx="67183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143000" y="2863800"/>
          <a:ext cx="7143840" cy="12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63800"/>
                    <a:ext cx="7143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595520" y="4235400"/>
          <a:ext cx="7146720" cy="1251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5520" y="4235400"/>
                    <a:ext cx="71467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127240" y="5567400"/>
          <a:ext cx="7015320" cy="12272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7240" y="5567400"/>
                    <a:ext cx="7015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90760" y="1127160"/>
            <a:ext cx="745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Sistema 1 como um Problema de Simulação ou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imensionamento sem Otimização - Sequência Acícl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20720" y="3181320"/>
          <a:ext cx="721836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3181320"/>
                    <a:ext cx="721836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52280" y="1584360"/>
            <a:ext cx="654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quações, Matriz Incidência e Grafo do Sistem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61560" y="441360"/>
            <a:ext cx="27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: Sistema 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27280" y="4108320"/>
          <a:ext cx="7188120" cy="17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108320"/>
                    <a:ext cx="718812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595520" y="2554200"/>
          <a:ext cx="7547040" cy="144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554200"/>
                    <a:ext cx="754704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59440" y="365040"/>
            <a:ext cx="55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Matriz Incidência e Sequência de Cálcul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o Sistema 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2514600"/>
          <a:ext cx="891540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915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795680" y="1425600"/>
            <a:ext cx="6591960" cy="458280"/>
          </a:xfrm>
          <a:prstGeom prst="rect">
            <a:avLst/>
          </a:prstGeom>
          <a:noFill/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Este é um teste para se escrever na transparênc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34400" y="1279440"/>
            <a:ext cx="71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Sistema 2 como um Problema de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com Otimização - Sequência Acícl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4760" y="3252960"/>
          <a:ext cx="7515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3252960"/>
                    <a:ext cx="7515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13960" y="365040"/>
            <a:ext cx="27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: Sistema 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54240" y="3911760"/>
          <a:ext cx="6213600" cy="218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3911760"/>
                    <a:ext cx="6213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670040" y="2438280"/>
          <a:ext cx="7397640" cy="1447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0040" y="2438280"/>
                    <a:ext cx="73976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806120" y="1355760"/>
            <a:ext cx="66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quações, Matriz Incidência e Grafo do Sistema 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371600"/>
            <a:ext cx="41907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3120" y="517680"/>
            <a:ext cx="50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étodo da Bisseção ou Busca Biná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86280" y="1562040"/>
          <a:ext cx="3865320" cy="23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1562040"/>
                    <a:ext cx="38653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162240" y="4114800"/>
          <a:ext cx="3865680" cy="241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2240" y="4114800"/>
                    <a:ext cx="386568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3048120"/>
          <a:ext cx="9142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9142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59440" y="1203480"/>
            <a:ext cx="55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Matriz Incidência e Sequência de Cálcul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o Sistema 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61320" y="1279440"/>
            <a:ext cx="732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Sistema 3 como um Problema Simulação ou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imensionamento sem Otimização - Sequência Cícl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42960" y="3405240"/>
          <a:ext cx="752328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3405240"/>
                    <a:ext cx="752328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28360" y="1432080"/>
            <a:ext cx="66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quações, Matriz Incidência e Grafo do Sistema 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0640" y="3984480"/>
          <a:ext cx="7004160" cy="22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3984480"/>
                    <a:ext cx="70041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713960" y="669960"/>
            <a:ext cx="27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: Sistema 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19200" y="2119320"/>
          <a:ext cx="7623360" cy="1660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9200" y="2119320"/>
                    <a:ext cx="762336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54400" y="1050840"/>
            <a:ext cx="55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Matriz Incidência e Sequência de Cálcul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do Sistema 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2743200"/>
          <a:ext cx="891540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8915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34400" y="1279440"/>
            <a:ext cx="7177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O Sistema 4 como um Problema de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com Otimização - Sequência Cícl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20720" y="3392640"/>
          <a:ext cx="7371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3392640"/>
                    <a:ext cx="7371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302560" y="593640"/>
            <a:ext cx="568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iclos Múltiplos em Sistemas de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057400" y="2263680"/>
          <a:ext cx="259092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63680"/>
                    <a:ext cx="25909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241960" y="1981080"/>
          <a:ext cx="2682720" cy="415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1960" y="1981080"/>
                    <a:ext cx="268272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65600" y="1279440"/>
            <a:ext cx="317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a) Ciclos em Sequênc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41040" y="1279440"/>
            <a:ext cx="281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b) Ciclos Aninhad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05040" y="2389320"/>
          <a:ext cx="276696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2389320"/>
                    <a:ext cx="276696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148360" y="2131920"/>
          <a:ext cx="3139920" cy="41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131920"/>
                    <a:ext cx="313992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02560" y="593640"/>
            <a:ext cx="568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iclos Múltiplos em Sistemas de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20680" y="974880"/>
            <a:ext cx="640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Variáveis de Abertura e de Projeto Simultân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57240" y="1981080"/>
          <a:ext cx="68598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981080"/>
                    <a:ext cx="68598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88920" y="746280"/>
            <a:ext cx="291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liminação de Cicl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25600" y="2514600"/>
          <a:ext cx="77169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5600" y="2514600"/>
                    <a:ext cx="7716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811840" y="1903320"/>
            <a:ext cx="3105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Times New Roman"/>
              </a:rPr>
              <a:t>b) Sequência com ciclo Eliminad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2720" y="1903320"/>
            <a:ext cx="210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Times New Roman"/>
              </a:rPr>
              <a:t>a) Squência com Cicl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2320" y="136440"/>
            <a:ext cx="770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Simulação do Processo Ilustrativo - Abordagem Modu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3880" y="762120"/>
          <a:ext cx="746784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746784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30360" y="2139840"/>
            <a:ext cx="760572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5200" y="1279440"/>
            <a:ext cx="417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étodo da Substituição Dire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00040" y="2286000"/>
          <a:ext cx="7697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286000"/>
                    <a:ext cx="7697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72800" y="1279440"/>
            <a:ext cx="470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esso com Estrutura Complex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712960"/>
          <a:ext cx="75438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12960"/>
                    <a:ext cx="75438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804320" y="974880"/>
            <a:ext cx="68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odulo Computacional de um Extrator Isotérmic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54160" y="1635120"/>
          <a:ext cx="417996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1635120"/>
                    <a:ext cx="41799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87920" y="746280"/>
            <a:ext cx="467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ódulos Computacionais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2 Extratores Isotérmicos em Séri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82560" y="1863720"/>
          <a:ext cx="742320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863720"/>
                    <a:ext cx="742320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50440" y="974880"/>
            <a:ext cx="57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ódulos Computacionais de 2 Extra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Isotérmicos Operando em Contracorren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41600" y="2073240"/>
          <a:ext cx="730728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2073240"/>
                    <a:ext cx="73072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14800" y="441360"/>
            <a:ext cx="7616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ódulo Computacional para os 2 Extra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Isotérmicos Operando em Contracorrente Aproveitan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as Tarefas Designadas para as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860560" y="1744560"/>
          <a:ext cx="455004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744560"/>
                    <a:ext cx="455004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11400" y="974880"/>
            <a:ext cx="262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Trocador de Cal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87600" y="2397240"/>
          <a:ext cx="38224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397240"/>
                    <a:ext cx="38224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40480" y="2585880"/>
                <a:ext cx="3343320" cy="25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Ad=0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23880" y="685800"/>
          <a:ext cx="72392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85800"/>
                    <a:ext cx="7239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05160" y="1050840"/>
            <a:ext cx="760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presentação Gráfica de uma das Equações do Sistem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382840" y="2360520"/>
          <a:ext cx="551196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2840" y="2360520"/>
                    <a:ext cx="55119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31240" y="1584360"/>
            <a:ext cx="70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struturas acíclica e cíclica de Sistemas de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66920" y="2635200"/>
          <a:ext cx="7548480" cy="29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2635200"/>
                    <a:ext cx="7548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93840" y="2728800"/>
          <a:ext cx="784872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2728800"/>
                    <a:ext cx="784872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421000" y="1432080"/>
            <a:ext cx="51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 de um Sistemas de Equaçõ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90960" y="898560"/>
            <a:ext cx="623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strutura de Informação do Sistema Anteri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95520" y="1614600"/>
          <a:ext cx="739620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614600"/>
                    <a:ext cx="7396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61000" y="1660680"/>
            <a:ext cx="406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artição do Sistema Anteri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92120" y="3564000"/>
          <a:ext cx="75978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3564000"/>
                    <a:ext cx="75978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43920" y="746280"/>
            <a:ext cx="629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Estágio da Sequência de Cálculo após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identificação das equações com incógnita ún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3400" y="1855800"/>
          <a:ext cx="8309160" cy="220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855800"/>
                    <a:ext cx="830916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814480" y="1365120"/>
          <a:ext cx="5477040" cy="426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1365120"/>
                    <a:ext cx="54770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Carlos Augusto Perlingeiro</cp:lastModifiedBy>
  <cp:lastPrinted>1998-10-27T12:36:41Z</cp:lastPrinted>
  <dcterms:modified xsi:type="dcterms:W3CDTF">1998-10-27T17:52:24Z</dcterms:modified>
  <cp:revision>10</cp:revision>
  <dc:subject/>
  <dc:title>Slide sem título </dc:title>
</cp:coreProperties>
</file>