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0.wmf" ContentType="image/x-wmf"/>
  <Override PartName="/ppt/media/image2.png" ContentType="image/png"/>
  <Override PartName="/ppt/media/image6.png" ContentType="image/png"/>
  <Override PartName="/ppt/media/image5.wmf" ContentType="image/x-wmf"/>
  <Override PartName="/ppt/media/image3.wmf" ContentType="image/x-wmf"/>
  <Override PartName="/ppt/media/image25.wmf" ContentType="image/x-wmf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4.wmf" ContentType="image/x-wm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0B27-CE56-4379-AAD5-C77DF7EC8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7538-2762-477E-B4C6-904733202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DF39-3198-4364-887C-6CE7C8829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746C-4768-4685-A357-FF4796878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45791-8CF5-480A-A6F3-ABE95748F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2906B-A9F9-4675-BDE4-39DC7232F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B7D54-42E2-4563-85B6-EAB99246B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9B0DA-D47F-4DF6-BEBF-399219CFC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FD25F-9958-41DB-B4BE-DDAB81D3F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2952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666A6-BA4A-4A96-A79F-2DE9631AC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95A6C-7218-4389-B60C-63234C21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9533-7F8A-4A22-8850-CB42B372A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24AF4-3D3C-47F7-90A5-501A3180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91704-9A6B-4286-A9F6-98C87739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53572-3E87-4AD8-A84E-6C7217FB9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24732-89C9-40A1-82A3-446135420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87980-EAC0-43F6-B852-922B3F4B3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59E4-FFF8-4714-B0AF-F72FD1029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AEFE-B32E-4E17-8130-A60035455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ABDE-7962-471A-98FE-32F0C33B9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2952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019C-4FCB-41BC-9B6E-E76913754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0093-4D3A-40DB-BEBD-7DC5C9CC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DD7E-81D2-4403-A56D-A025DF33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B4DB-4685-4ACE-BFE3-A3028BE3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c5c5c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538280" cy="6856560"/>
            <a:chOff x="0" y="0"/>
            <a:chExt cx="153828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21932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2193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7a7c9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380880"/>
              <a:ext cx="914400" cy="327672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523880"/>
              <a:ext cx="1219320" cy="838440"/>
            </a:xfrm>
            <a:prstGeom prst="rect">
              <a:avLst/>
            </a:prstGeom>
            <a:solidFill>
              <a:srgbClr val="5e6f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62120" y="685800"/>
              <a:ext cx="228600" cy="60199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4800600"/>
              <a:ext cx="838080" cy="152280"/>
            </a:xfrm>
            <a:prstGeom prst="rect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5105520"/>
              <a:ext cx="838080" cy="152280"/>
            </a:xfrm>
            <a:prstGeom prst="rect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5410080"/>
              <a:ext cx="838080" cy="152640"/>
            </a:xfrm>
            <a:prstGeom prst="rect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5840" y="3582000"/>
              <a:ext cx="622440" cy="1829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911" y="21599"/>
                  </a:moveTo>
                  <a:arcTo wR="10800" hR="10800" stAng="5364740" swAng="106597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911" y="21599"/>
                  </a:moveTo>
                  <a:arcTo wR="10800" hR="10800" stAng="5364740" swAng="10659721"/>
                </a:path>
              </a:pathLst>
            </a:custGeom>
            <a:solidFill>
              <a:srgbClr val="5e6f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1AC9C-C3CA-4E9B-87AD-7B6D176D2D2E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c5c5c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1538280" cy="6856560"/>
            <a:chOff x="0" y="0"/>
            <a:chExt cx="1538280" cy="685656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121932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2193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7a7c9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04920" y="380880"/>
              <a:ext cx="914400" cy="327672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1523880"/>
              <a:ext cx="1219320" cy="838440"/>
            </a:xfrm>
            <a:prstGeom prst="rect">
              <a:avLst/>
            </a:prstGeom>
            <a:solidFill>
              <a:srgbClr val="5e6f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62120" y="685800"/>
              <a:ext cx="228600" cy="60199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800600"/>
              <a:ext cx="838080" cy="152280"/>
            </a:xfrm>
            <a:prstGeom prst="rect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5105520"/>
              <a:ext cx="838080" cy="152280"/>
            </a:xfrm>
            <a:prstGeom prst="rect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5410080"/>
              <a:ext cx="838080" cy="152640"/>
            </a:xfrm>
            <a:prstGeom prst="rect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15840" y="3582000"/>
              <a:ext cx="622440" cy="1829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911" y="21599"/>
                  </a:moveTo>
                  <a:arcTo wR="10800" hR="10800" stAng="5364740" swAng="106597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911" y="21599"/>
                  </a:moveTo>
                  <a:arcTo wR="10800" hR="10800" stAng="5364740" swAng="10659721"/>
                </a:path>
              </a:pathLst>
            </a:custGeom>
            <a:solidFill>
              <a:srgbClr val="5e6f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2285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889AB-563A-4380-BE44-7194854F4E0F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c5c5c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292400" y="304920"/>
            <a:ext cx="5677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4. AVALIAÇÃO ECONÔMICA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DE PROCESSO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523880"/>
            <a:ext cx="693432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4.1 Introduçã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4.2 Estimativas Econômica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      </a:t>
            </a: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4.2.1 Estimativa de Custo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      </a:t>
            </a: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4.2.2 Estimativa de Investiment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4.3 Dados para a Estimativa de Custos e de Investiment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      </a:t>
            </a: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4.3.1 Rudd &amp; Wats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      </a:t>
            </a: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4.3.2 Dougla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c5c5c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371600" y="852480"/>
            <a:ext cx="75438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fd2b1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2b15"/>
                </a:solidFill>
                <a:latin typeface="Times New Roman"/>
                <a:ea typeface="Times New Roman"/>
              </a:rPr>
              <a:t>Estimativas aproximadas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– Baseada nas dimensões principais dos equipamentos mais importantes e nas estimativas de consumo de matérias primas, de insumos e de utilidades.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Estimativa mais incert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495680" y="2743200"/>
            <a:ext cx="533520" cy="0"/>
          </a:xfrm>
          <a:prstGeom prst="line">
            <a:avLst/>
          </a:prstGeom>
          <a:ln w="28440">
            <a:solidFill>
              <a:srgbClr val="0000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315200" y="2743200"/>
            <a:ext cx="457200" cy="0"/>
          </a:xfrm>
          <a:prstGeom prst="line">
            <a:avLst/>
          </a:prstGeom>
          <a:ln w="28440">
            <a:solidFill>
              <a:srgbClr val="0000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362240" y="3763800"/>
            <a:ext cx="739116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recisão é inferior, mas a sua execução é muito mais rápida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iscriminar diferentes alternativas nos 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estágios preliminares do projeto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, etapa em que a precisão não é relevante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d2b1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2b15"/>
                </a:solidFill>
                <a:latin typeface="Times New Roman"/>
                <a:ea typeface="Times New Roman"/>
              </a:rPr>
              <a:t>Estimativas detalhadas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- Finalidade de 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formalizar propostas para a compra dos equipamentos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43240" y="247176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correlacionado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62240" y="2500200"/>
            <a:ext cx="747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fatores empíricos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baseados na experiência acumulada no projeto de processo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19920" y="304920"/>
            <a:ext cx="363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4.2 Estimativas Econômica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c5c5c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519920" y="304920"/>
            <a:ext cx="363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4.2 Estimativas Econômica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81040" y="990720"/>
            <a:ext cx="42339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d1705"/>
                </a:solidFill>
                <a:latin typeface="Times New Roman"/>
                <a:ea typeface="Times New Roman"/>
              </a:rPr>
              <a:t>ESTIMATIVAS DE CUSTO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70" name="DEQ372_Analiseconom" descr=""/>
          <p:cNvPicPr/>
          <p:nvPr/>
        </p:nvPicPr>
        <p:blipFill>
          <a:blip r:embed="rId1"/>
          <a:stretch/>
        </p:blipFill>
        <p:spPr>
          <a:xfrm>
            <a:off x="6324480" y="380880"/>
            <a:ext cx="2239920" cy="990720"/>
          </a:xfrm>
          <a:prstGeom prst="rect">
            <a:avLst/>
          </a:prstGeom>
          <a:ln w="0">
            <a:noFill/>
          </a:ln>
        </p:spPr>
      </p:pic>
      <p:pic>
        <p:nvPicPr>
          <p:cNvPr id="171" name="DEQ372_Analiseconom1" descr=""/>
          <p:cNvPicPr/>
          <p:nvPr/>
        </p:nvPicPr>
        <p:blipFill>
          <a:blip r:embed="rId2"/>
          <a:stretch/>
        </p:blipFill>
        <p:spPr>
          <a:xfrm>
            <a:off x="1447920" y="1565280"/>
            <a:ext cx="749772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c5c5c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332240" y="1523880"/>
            <a:ext cx="419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1705"/>
                </a:solidFill>
                <a:latin typeface="Times New Roman"/>
                <a:ea typeface="Times New Roman"/>
              </a:rPr>
              <a:t>Preço ou custo unitário do item </a:t>
            </a:r>
            <a:r>
              <a:rPr b="1" lang="en-US" sz="2000" spc="-1" strike="noStrike">
                <a:solidFill>
                  <a:srgbClr val="fd1705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fd1705"/>
                </a:solidFill>
                <a:latin typeface="Times New Roman"/>
                <a:ea typeface="Times New Roman"/>
              </a:rPr>
              <a:t> ($/kg)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19920" y="304920"/>
            <a:ext cx="363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4.2 Estimativas Econômica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81040" y="990720"/>
            <a:ext cx="42339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d1705"/>
                </a:solidFill>
                <a:latin typeface="Times New Roman"/>
                <a:ea typeface="Times New Roman"/>
              </a:rPr>
              <a:t>ESTIMATIVAS DE CUSTO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135080" y="1913040"/>
            <a:ext cx="3675240" cy="485640"/>
            <a:chOff x="1135080" y="1913040"/>
            <a:chExt cx="3675240" cy="485640"/>
          </a:xfrm>
        </p:grpSpPr>
        <p:sp>
          <p:nvSpPr>
            <p:cNvPr id="176" name=""/>
            <p:cNvSpPr/>
            <p:nvPr/>
          </p:nvSpPr>
          <p:spPr>
            <a:xfrm>
              <a:off x="1135080" y="1913040"/>
              <a:ext cx="367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</a:t>
              </a:r>
              <a:r>
                <a:rPr b="0" lang="pt-BR" sz="20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matprim</a:t>
              </a:r>
              <a:r>
                <a:rPr b="0" lang="pt-BR" sz="24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 + C</a:t>
              </a:r>
              <a:r>
                <a:rPr b="0" lang="pt-BR" sz="20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util = (     pi.qi).fo </a:t>
              </a:r>
              <a:endParaRPr b="0" lang="en-US" sz="20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7" name=""/>
                <p:cNvSpPr txBox="1"/>
                <p:nvPr/>
              </p:nvSpPr>
              <p:spPr>
                <a:xfrm>
                  <a:off x="3505320" y="1933560"/>
                  <a:ext cx="398520" cy="46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/>
                      </m:nary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8" name=""/>
          <p:cNvSpPr/>
          <p:nvPr/>
        </p:nvSpPr>
        <p:spPr>
          <a:xfrm>
            <a:off x="4038480" y="1684440"/>
            <a:ext cx="304920" cy="3045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fd1705"/>
              </a:gs>
              <a:gs pos="100000">
                <a:srgbClr val="dddddd"/>
              </a:gs>
            </a:gsLst>
            <a:lin ang="5400000"/>
          </a:gra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 rot="10495200">
            <a:off x="4266360" y="2370240"/>
            <a:ext cx="306360" cy="296640"/>
          </a:xfrm>
          <a:custGeom>
            <a:avLst/>
            <a:gdLst>
              <a:gd name="textAreaLeft" fmla="*/ 0 w 306360"/>
              <a:gd name="textAreaRight" fmla="*/ 306360 w 30636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35" stAng="10800000" swAng="5400000"/>
                <a:lnTo>
                  <a:pt x="15075" y="2925"/>
                </a:lnTo>
                <a:lnTo>
                  <a:pt x="15075" y="0"/>
                </a:lnTo>
                <a:lnTo>
                  <a:pt x="21600" y="6079"/>
                </a:lnTo>
                <a:lnTo>
                  <a:pt x="15075" y="12158"/>
                </a:lnTo>
                <a:lnTo>
                  <a:pt x="15075" y="9233"/>
                </a:lnTo>
                <a:lnTo>
                  <a:pt x="12427" y="9233"/>
                </a:lnTo>
                <a:arcTo wR="6119" hR="2927" stAng="16200000" swAng="-5400000"/>
                <a:lnTo>
                  <a:pt x="6308" y="21600"/>
                </a:lnTo>
                <a:close/>
              </a:path>
            </a:pathLst>
          </a:custGeom>
          <a:gradFill rotWithShape="0">
            <a:gsLst>
              <a:gs pos="0">
                <a:srgbClr val="fd1705"/>
              </a:gs>
              <a:gs pos="100000">
                <a:srgbClr val="dddddd"/>
              </a:gs>
            </a:gsLst>
            <a:lin ang="5400000"/>
          </a:gra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60480" y="2362320"/>
            <a:ext cx="442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1705"/>
                </a:solidFill>
                <a:latin typeface="Times New Roman"/>
                <a:ea typeface="Times New Roman"/>
              </a:rPr>
              <a:t>Taxa de consumo horário do item </a:t>
            </a:r>
            <a:r>
              <a:rPr b="1" lang="en-US" sz="2000" spc="-1" strike="noStrike">
                <a:solidFill>
                  <a:srgbClr val="fd1705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fd1705"/>
                </a:solidFill>
                <a:latin typeface="Times New Roman"/>
                <a:ea typeface="Times New Roman"/>
              </a:rPr>
              <a:t> (kg/a)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19600" y="2104920"/>
            <a:ext cx="380880" cy="152640"/>
          </a:xfrm>
          <a:prstGeom prst="rightArrow">
            <a:avLst>
              <a:gd name="adj1" fmla="val 50000"/>
              <a:gd name="adj2" fmla="val 62382"/>
            </a:avLst>
          </a:prstGeom>
          <a:gradFill rotWithShape="0">
            <a:gsLst>
              <a:gs pos="0">
                <a:srgbClr val="fd1705"/>
              </a:gs>
              <a:gs pos="100000">
                <a:srgbClr val="dddddd"/>
              </a:gs>
            </a:gsLst>
            <a:lin ang="5400000"/>
          </a:gra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19480" y="1967040"/>
            <a:ext cx="411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d1705"/>
                </a:solidFill>
                <a:latin typeface="Times New Roman"/>
                <a:ea typeface="Times New Roman"/>
              </a:rPr>
              <a:t>Fator anual de oper da planta (horas/a)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43240" y="3200400"/>
            <a:ext cx="50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Utilidades (C</a:t>
            </a:r>
            <a:r>
              <a:rPr b="0" lang="pt-BR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util</a:t>
            </a:r>
            <a:r>
              <a:rPr b="0" lang="pt-BR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) – Insumos (solventes)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874880" y="4800600"/>
            <a:ext cx="2768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80"/>
                </a:solidFill>
                <a:latin typeface="Times New Roman"/>
              </a:rPr>
              <a:t>I</a:t>
            </a:r>
            <a:r>
              <a:rPr b="1" lang="pt-PT" sz="2400" spc="-1" strike="noStrike" baseline="-25000">
                <a:solidFill>
                  <a:srgbClr val="000080"/>
                </a:solidFill>
                <a:latin typeface="Times New Roman"/>
              </a:rPr>
              <a:t>fixo</a:t>
            </a: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 ????? </a:t>
            </a:r>
            <a:r>
              <a:rPr b="1" lang="pt-PT" sz="2400" spc="-1" strike="noStrike">
                <a:solidFill>
                  <a:srgbClr val="000080"/>
                </a:solidFill>
                <a:latin typeface="Times New Roman"/>
              </a:rPr>
              <a:t>I</a:t>
            </a:r>
            <a:r>
              <a:rPr b="1" lang="pt-PT" sz="2400" spc="-1" strike="noStrike" baseline="-25000">
                <a:solidFill>
                  <a:srgbClr val="000080"/>
                </a:solidFill>
                <a:latin typeface="Times New Roman"/>
              </a:rPr>
              <a:t>total</a:t>
            </a: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 ?????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c5c5c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519920" y="304920"/>
            <a:ext cx="363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4.2 Estimativas Econômica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86" name="DEQ372_Analiseconom2" descr=""/>
          <p:cNvPicPr/>
          <p:nvPr/>
        </p:nvPicPr>
        <p:blipFill>
          <a:blip r:embed="rId1"/>
          <a:stretch/>
        </p:blipFill>
        <p:spPr>
          <a:xfrm>
            <a:off x="3124080" y="685800"/>
            <a:ext cx="3543480" cy="35784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2440800" y="5029200"/>
            <a:ext cx="140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ISBL ??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09440" y="5029200"/>
            <a:ext cx="255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ISBL = f</a:t>
            </a:r>
            <a:r>
              <a:rPr b="0" lang="pt-BR" sz="2400" spc="-1" strike="noStrike" baseline="-25000">
                <a:solidFill>
                  <a:srgbClr val="000080"/>
                </a:solidFill>
                <a:latin typeface="Times New Roman"/>
              </a:rPr>
              <a:t>T</a:t>
            </a: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 f</a:t>
            </a:r>
            <a:r>
              <a:rPr b="0" lang="pt-BR" sz="2400" spc="-1" strike="noStrike" baseline="-25000">
                <a:solidFill>
                  <a:srgbClr val="000080"/>
                </a:solidFill>
                <a:latin typeface="Times New Roman"/>
              </a:rPr>
              <a:t>D</a:t>
            </a: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 f</a:t>
            </a:r>
            <a:r>
              <a:rPr b="0" lang="pt-BR" sz="2400" spc="-1" strike="noStrike" baseline="-25000">
                <a:solidFill>
                  <a:srgbClr val="000080"/>
                </a:solidFill>
                <a:latin typeface="Times New Roman"/>
              </a:rPr>
              <a:t>L</a:t>
            </a: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80"/>
                </a:solidFill>
                <a:latin typeface="Symbol"/>
                <a:ea typeface="Symbol"/>
              </a:rPr>
              <a:t></a:t>
            </a: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 I</a:t>
            </a:r>
            <a:r>
              <a:rPr b="0" lang="pt-BR" sz="2400" spc="-1" strike="noStrike" baseline="-25000">
                <a:solidFill>
                  <a:srgbClr val="000080"/>
                </a:solidFill>
                <a:latin typeface="Times New Roman"/>
              </a:rPr>
              <a:t>Ei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c5c5c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519920" y="304920"/>
            <a:ext cx="363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4.2 Estimativas Econômica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286000"/>
            <a:ext cx="66294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I</a:t>
            </a:r>
            <a:r>
              <a:rPr b="0" lang="pt-BR" sz="2400" spc="-1" strike="noStrike" baseline="-25000">
                <a:solidFill>
                  <a:srgbClr val="000080"/>
                </a:solidFill>
                <a:latin typeface="Times New Roman"/>
              </a:rPr>
              <a:t>Ei</a:t>
            </a:r>
            <a:r>
              <a:rPr b="1" lang="pt-BR" sz="2400" spc="-1" strike="noStrike">
                <a:solidFill>
                  <a:srgbClr val="000080"/>
                </a:solidFill>
                <a:latin typeface="Times New Roman"/>
              </a:rPr>
              <a:t> = </a:t>
            </a: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Preço de compra do equipamento i, estimado num determinado ano e numa determinada região.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65120" y="1143000"/>
            <a:ext cx="260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ISBL = f</a:t>
            </a:r>
            <a:r>
              <a:rPr b="0" lang="pt-BR" sz="2400" spc="-1" strike="noStrike" baseline="-25000">
                <a:solidFill>
                  <a:srgbClr val="000080"/>
                </a:solidFill>
                <a:latin typeface="Times New Roman"/>
              </a:rPr>
              <a:t>T</a:t>
            </a: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 f</a:t>
            </a:r>
            <a:r>
              <a:rPr b="0" lang="pt-BR" sz="2400" spc="-1" strike="noStrike" baseline="-25000">
                <a:solidFill>
                  <a:srgbClr val="000080"/>
                </a:solidFill>
                <a:latin typeface="Times New Roman"/>
              </a:rPr>
              <a:t>D</a:t>
            </a: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 f</a:t>
            </a:r>
            <a:r>
              <a:rPr b="0" lang="pt-BR" sz="2400" spc="-1" strike="noStrike" baseline="-25000">
                <a:solidFill>
                  <a:srgbClr val="000080"/>
                </a:solidFill>
                <a:latin typeface="Times New Roman"/>
              </a:rPr>
              <a:t>L</a:t>
            </a: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80"/>
                </a:solidFill>
                <a:latin typeface="Symbol"/>
                <a:ea typeface="Symbol"/>
              </a:rPr>
              <a:t></a:t>
            </a: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 I</a:t>
            </a:r>
            <a:r>
              <a:rPr b="0" lang="pt-BR" sz="2400" spc="-1" strike="noStrike" baseline="-25000">
                <a:solidFill>
                  <a:srgbClr val="000080"/>
                </a:solidFill>
                <a:latin typeface="Times New Roman"/>
              </a:rPr>
              <a:t>Ei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600200" y="3581280"/>
            <a:ext cx="700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f</a:t>
            </a:r>
            <a:r>
              <a:rPr b="0" lang="pt-BR" sz="2400" spc="-1" strike="noStrike" baseline="-25000">
                <a:solidFill>
                  <a:srgbClr val="000080"/>
                </a:solidFill>
                <a:latin typeface="Times New Roman"/>
              </a:rPr>
              <a:t>L</a:t>
            </a:r>
            <a:r>
              <a:rPr b="1" lang="pt-BR" sz="2400" spc="-1" strike="noStrike">
                <a:solidFill>
                  <a:srgbClr val="000080"/>
                </a:solidFill>
                <a:latin typeface="Times New Roman"/>
              </a:rPr>
              <a:t> = </a:t>
            </a: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Fator experimental  - fator de la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828800" y="4419720"/>
          <a:ext cx="6095880" cy="191916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Times New Roman"/>
                        </a:rPr>
                        <a:t>Tipo de processamento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8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Times New Roman"/>
                        </a:rPr>
                        <a:t>f</a:t>
                      </a:r>
                      <a:r>
                        <a:rPr b="0" lang="en-US" sz="2400" spc="-1" strike="noStrike" baseline="-25000">
                          <a:solidFill>
                            <a:srgbClr val="000080"/>
                          </a:solidFill>
                          <a:latin typeface="Times New Roman"/>
                        </a:rPr>
                        <a:t>L</a:t>
                      </a:r>
                      <a:r>
                        <a:rPr b="1" lang="en-US" sz="2400" spc="-1" strike="noStrike">
                          <a:solidFill>
                            <a:srgbClr val="00008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Times New Roman"/>
                        </a:rPr>
                        <a:t>Sólido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Times New Roman"/>
                        </a:rPr>
                        <a:t>3,9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Times New Roman"/>
                        </a:rPr>
                        <a:t>Sólido e Fluido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Times New Roman"/>
                        </a:rPr>
                        <a:t>4,1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Times New Roman"/>
                        </a:rPr>
                        <a:t>Fluido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Times New Roman"/>
                        </a:rPr>
                        <a:t>4,8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c5c5c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519920" y="304920"/>
            <a:ext cx="363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4.2 Estimativas Econômica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14300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f</a:t>
            </a:r>
            <a:r>
              <a:rPr b="0" lang="pt-BR" sz="2400" spc="-1" strike="noStrike" baseline="-25000">
                <a:solidFill>
                  <a:srgbClr val="000080"/>
                </a:solidFill>
                <a:latin typeface="Times New Roman"/>
              </a:rPr>
              <a:t>D</a:t>
            </a: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 = Fator de atualização de preços para o ano vigent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23880" y="2895480"/>
            <a:ext cx="70074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8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Fator experimental da transferência de região na qual foi estimado o preço, para a região onde será seguida a instalaçã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09200" y="1905120"/>
            <a:ext cx="1718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f</a:t>
            </a:r>
            <a:r>
              <a:rPr b="0" lang="pt-BR" sz="2400" spc="-1" strike="noStrike" baseline="-25000">
                <a:solidFill>
                  <a:srgbClr val="000080"/>
                </a:solidFill>
                <a:latin typeface="Times New Roman"/>
              </a:rPr>
              <a:t>D</a:t>
            </a: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 = ICa/ICb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18880" y="4191120"/>
            <a:ext cx="213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f</a:t>
            </a:r>
            <a:r>
              <a:rPr b="0" lang="pt-BR" sz="2400" spc="-1" strike="noStrike" baseline="-25000">
                <a:solidFill>
                  <a:srgbClr val="000080"/>
                </a:solidFill>
                <a:latin typeface="Times New Roman"/>
              </a:rPr>
              <a:t>D</a:t>
            </a: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 = P</a:t>
            </a:r>
            <a:r>
              <a:rPr b="0" lang="pt-BR" sz="1800" spc="-1" strike="noStrike">
                <a:solidFill>
                  <a:srgbClr val="000080"/>
                </a:solidFill>
                <a:latin typeface="Times New Roman"/>
              </a:rPr>
              <a:t>I</a:t>
            </a: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.f</a:t>
            </a:r>
            <a:r>
              <a:rPr b="0" lang="pt-BR" sz="1800" spc="-1" strike="noStrike">
                <a:solidFill>
                  <a:srgbClr val="000080"/>
                </a:solidFill>
                <a:latin typeface="Times New Roman"/>
              </a:rPr>
              <a:t>I + </a:t>
            </a: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P</a:t>
            </a:r>
            <a:r>
              <a:rPr b="0" lang="pt-BR" sz="1800" spc="-1" strike="noStrike">
                <a:solidFill>
                  <a:srgbClr val="000080"/>
                </a:solidFill>
                <a:latin typeface="Times New Roman"/>
              </a:rPr>
              <a:t>B</a:t>
            </a: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.f</a:t>
            </a:r>
            <a:r>
              <a:rPr b="0" lang="pt-BR" sz="1800" spc="-1" strike="noStrike">
                <a:solidFill>
                  <a:srgbClr val="00008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08040" y="4925880"/>
            <a:ext cx="588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008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 - % do valor do equipamento que deve ser importado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30280" y="6373800"/>
            <a:ext cx="720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80"/>
                </a:solidFill>
                <a:latin typeface="Times New Roman"/>
              </a:rPr>
              <a:t>f</a:t>
            </a:r>
            <a:r>
              <a:rPr b="0" lang="pt-BR" sz="1800" spc="-1" strike="noStrike">
                <a:solidFill>
                  <a:srgbClr val="000080"/>
                </a:solidFill>
                <a:latin typeface="Times New Roman"/>
              </a:rPr>
              <a:t>B</a:t>
            </a:r>
            <a:r>
              <a:rPr b="0" lang="pt-BR" sz="2000" spc="-1" strike="noStrike">
                <a:solidFill>
                  <a:srgbClr val="000080"/>
                </a:solidFill>
                <a:latin typeface="Times New Roman"/>
              </a:rPr>
              <a:t> – fator que relaciona o preço de compra no Brasil/região estimada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10920" y="5383080"/>
            <a:ext cx="546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80"/>
                </a:solidFill>
                <a:latin typeface="Times New Roman"/>
              </a:rPr>
              <a:t>f</a:t>
            </a:r>
            <a:r>
              <a:rPr b="0" lang="pt-BR" sz="1800" spc="-1" strike="noStrike">
                <a:solidFill>
                  <a:srgbClr val="000080"/>
                </a:solidFill>
                <a:latin typeface="Times New Roman"/>
              </a:rPr>
              <a:t>I</a:t>
            </a:r>
            <a:r>
              <a:rPr b="0" lang="pt-BR" sz="2000" spc="-1" strike="noStrike">
                <a:solidFill>
                  <a:srgbClr val="000080"/>
                </a:solidFill>
                <a:latin typeface="Times New Roman"/>
              </a:rPr>
              <a:t> – fator que leva em conta despesas de importação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465560" y="5892840"/>
            <a:ext cx="627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008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 - % do valor do equipamento nacional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(1-PI)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40360" y="1700280"/>
            <a:ext cx="46083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f</a:t>
            </a:r>
            <a:r>
              <a:rPr b="0" lang="pt-BR" sz="2400" spc="-1" strike="noStrike" baseline="-25000">
                <a:solidFill>
                  <a:srgbClr val="000080"/>
                </a:solidFill>
                <a:latin typeface="Times New Roman"/>
              </a:rPr>
              <a:t>D</a:t>
            </a: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 = valor do ano vigente/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valor no ano que em foi estimado o investiment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c5c5c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519920" y="304920"/>
            <a:ext cx="363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4.2 Estimativas Econômica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05" name="DEQ372_Analiseconom3" descr=""/>
          <p:cNvPicPr/>
          <p:nvPr/>
        </p:nvPicPr>
        <p:blipFill>
          <a:blip r:embed="rId1"/>
          <a:stretch/>
        </p:blipFill>
        <p:spPr>
          <a:xfrm>
            <a:off x="1371600" y="5410080"/>
            <a:ext cx="7772400" cy="949320"/>
          </a:xfrm>
          <a:prstGeom prst="rect">
            <a:avLst/>
          </a:prstGeom>
          <a:ln w="0">
            <a:noFill/>
          </a:ln>
        </p:spPr>
      </p:pic>
      <p:pic>
        <p:nvPicPr>
          <p:cNvPr id="206" name="DEQ372_Analiseconom2" descr=""/>
          <p:cNvPicPr/>
          <p:nvPr/>
        </p:nvPicPr>
        <p:blipFill>
          <a:blip r:embed="rId2"/>
          <a:stretch/>
        </p:blipFill>
        <p:spPr>
          <a:xfrm>
            <a:off x="3200400" y="762120"/>
            <a:ext cx="3543480" cy="35780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204920" y="4572000"/>
            <a:ext cx="789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80"/>
                </a:solidFill>
                <a:latin typeface="Times New Roman"/>
              </a:rPr>
              <a:t>LE</a:t>
            </a:r>
            <a:r>
              <a:rPr b="0" lang="pt-PT" sz="2400" spc="-1" strike="noStrike">
                <a:solidFill>
                  <a:srgbClr val="000080"/>
                </a:solidFill>
                <a:latin typeface="Times New Roman"/>
              </a:rPr>
              <a:t> = (1-t)[0,97 R - 1,37 (</a:t>
            </a:r>
            <a:r>
              <a:rPr b="1" lang="pt-PT" sz="2400" spc="-1" strike="noStrike">
                <a:solidFill>
                  <a:srgbClr val="000080"/>
                </a:solidFill>
                <a:latin typeface="Times New Roman"/>
              </a:rPr>
              <a:t>C</a:t>
            </a:r>
            <a:r>
              <a:rPr b="1" lang="pt-PT" sz="2400" spc="-1" strike="noStrike" baseline="-25000">
                <a:solidFill>
                  <a:srgbClr val="000080"/>
                </a:solidFill>
                <a:latin typeface="Times New Roman"/>
              </a:rPr>
              <a:t>matprim</a:t>
            </a:r>
            <a:r>
              <a:rPr b="0" lang="pt-PT" sz="2400" spc="-1" strike="noStrike">
                <a:solidFill>
                  <a:srgbClr val="000080"/>
                </a:solidFill>
                <a:latin typeface="Times New Roman"/>
              </a:rPr>
              <a:t> + </a:t>
            </a:r>
            <a:r>
              <a:rPr b="1" lang="pt-PT" sz="2400" spc="-1" strike="noStrike">
                <a:solidFill>
                  <a:srgbClr val="000080"/>
                </a:solidFill>
                <a:latin typeface="Times New Roman"/>
              </a:rPr>
              <a:t>C</a:t>
            </a:r>
            <a:r>
              <a:rPr b="1" lang="pt-PT" sz="2400" spc="-1" strike="noStrike" baseline="-25000">
                <a:solidFill>
                  <a:srgbClr val="000080"/>
                </a:solidFill>
                <a:latin typeface="Times New Roman"/>
              </a:rPr>
              <a:t>util</a:t>
            </a:r>
            <a:r>
              <a:rPr b="0" lang="pt-PT" sz="2400" spc="-1" strike="noStrike">
                <a:solidFill>
                  <a:srgbClr val="000080"/>
                </a:solidFill>
                <a:latin typeface="Times New Roman"/>
              </a:rPr>
              <a:t>) - 0,204 </a:t>
            </a:r>
            <a:r>
              <a:rPr b="1" lang="pt-PT" sz="2400" spc="-1" strike="noStrike">
                <a:solidFill>
                  <a:srgbClr val="000080"/>
                </a:solidFill>
                <a:latin typeface="Times New Roman"/>
              </a:rPr>
              <a:t>I</a:t>
            </a:r>
            <a:r>
              <a:rPr b="1" lang="pt-PT" sz="2400" spc="-1" strike="noStrike" baseline="-25000">
                <a:solidFill>
                  <a:srgbClr val="000080"/>
                </a:solidFill>
                <a:latin typeface="Times New Roman"/>
              </a:rPr>
              <a:t>fixo</a:t>
            </a:r>
            <a:r>
              <a:rPr b="0" lang="pt-PT" sz="2400" spc="-1" strike="noStrike">
                <a:solidFill>
                  <a:srgbClr val="000080"/>
                </a:solidFill>
                <a:latin typeface="Times New Roman"/>
              </a:rPr>
              <a:t>] - i</a:t>
            </a:r>
            <a:r>
              <a:rPr b="0" lang="pt-PT" sz="2400" spc="-1" strike="noStrike" baseline="-25000">
                <a:solidFill>
                  <a:srgbClr val="000080"/>
                </a:solidFill>
                <a:latin typeface="Times New Roman"/>
              </a:rPr>
              <a:t>m </a:t>
            </a:r>
            <a:r>
              <a:rPr b="1" lang="pt-PT" sz="2400" spc="-1" strike="noStrike">
                <a:solidFill>
                  <a:srgbClr val="000080"/>
                </a:solidFill>
                <a:latin typeface="Times New Roman"/>
              </a:rPr>
              <a:t>I</a:t>
            </a:r>
            <a:r>
              <a:rPr b="1" lang="pt-PT" sz="2400" spc="-1" strike="noStrike" baseline="-25000">
                <a:solidFill>
                  <a:srgbClr val="00008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c5c5c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516320" y="304920"/>
            <a:ext cx="720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4.3 Dados para a estimativas de Custos e de Investiment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00400" y="20574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I</a:t>
            </a:r>
            <a:r>
              <a:rPr b="0" lang="pt-BR" sz="1800" spc="-1" strike="noStrike">
                <a:solidFill>
                  <a:srgbClr val="000080"/>
                </a:solidFill>
                <a:latin typeface="Times New Roman"/>
              </a:rPr>
              <a:t>Ei</a:t>
            </a: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 = I</a:t>
            </a:r>
            <a:r>
              <a:rPr b="0" lang="pt-BR" sz="1800" spc="-1" strike="noStrike">
                <a:solidFill>
                  <a:srgbClr val="000080"/>
                </a:solidFill>
                <a:latin typeface="Times New Roman"/>
              </a:rPr>
              <a:t>Ebi</a:t>
            </a: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 (Q</a:t>
            </a:r>
            <a:r>
              <a:rPr b="0" lang="pt-BR" sz="1800" spc="-1" strike="noStrike">
                <a:solidFill>
                  <a:srgbClr val="000080"/>
                </a:solidFill>
                <a:latin typeface="Times New Roman"/>
              </a:rPr>
              <a:t>i</a:t>
            </a: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/Q</a:t>
            </a:r>
            <a:r>
              <a:rPr b="0" lang="pt-BR" sz="1800" spc="-1" strike="noStrike">
                <a:solidFill>
                  <a:srgbClr val="000080"/>
                </a:solidFill>
                <a:latin typeface="Times New Roman"/>
              </a:rPr>
              <a:t>bi</a:t>
            </a: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)M</a:t>
            </a:r>
            <a:r>
              <a:rPr b="0" lang="pt-BR" sz="1800" spc="-1" strike="noStrike">
                <a:solidFill>
                  <a:srgbClr val="00008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23880" y="297180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I</a:t>
            </a:r>
            <a:r>
              <a:rPr b="0" lang="pt-BR" sz="1800" spc="-1" strike="noStrike">
                <a:solidFill>
                  <a:srgbClr val="000080"/>
                </a:solidFill>
                <a:latin typeface="Times New Roman"/>
              </a:rPr>
              <a:t>Ebi</a:t>
            </a: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 – Preço para um equipamento i para uma dimensão ou capacidade de referência Q</a:t>
            </a:r>
            <a:r>
              <a:rPr b="0" lang="pt-BR" sz="1800" spc="-1" strike="noStrike">
                <a:solidFill>
                  <a:srgbClr val="000080"/>
                </a:solidFill>
                <a:latin typeface="Times New Roman"/>
              </a:rPr>
              <a:t>bi</a:t>
            </a: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13800" y="4114800"/>
            <a:ext cx="697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8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– Fator experimental de escala para o equipamento i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21360" y="762120"/>
            <a:ext cx="60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4.3.1  - Dados apresentados em Rudd &amp; Wats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973520" y="1371600"/>
            <a:ext cx="567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(a) Dados para a estimativas de Investiment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" name="">
            <a:hlinkClick r:id="" action="ppaction://hlinkshowjump?jump=nextslide"/>
          </p:cNvPr>
          <p:cNvSpPr/>
          <p:nvPr/>
        </p:nvSpPr>
        <p:spPr>
          <a:xfrm>
            <a:off x="4648320" y="4724280"/>
            <a:ext cx="457200" cy="357480"/>
          </a:xfrm>
          <a:custGeom>
            <a:avLst/>
            <a:gdLst>
              <a:gd name="textAreaLeft" fmla="*/ 23040 w 457200"/>
              <a:gd name="textAreaRight" fmla="*/ 434160 w 45720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27619" h="21600">
                <a:moveTo>
                  <a:pt x="0" y="0"/>
                </a:moveTo>
                <a:lnTo>
                  <a:pt x="27619" y="0"/>
                </a:lnTo>
                <a:lnTo>
                  <a:pt x="27619" y="21600"/>
                </a:lnTo>
                <a:lnTo>
                  <a:pt x="0" y="21600"/>
                </a:lnTo>
                <a:close/>
              </a:path>
              <a:path fill="lightenLess" w="27619" h="21600">
                <a:moveTo>
                  <a:pt x="0" y="0"/>
                </a:moveTo>
                <a:lnTo>
                  <a:pt x="27619" y="0"/>
                </a:lnTo>
                <a:lnTo>
                  <a:pt x="26219" y="1400"/>
                </a:lnTo>
                <a:lnTo>
                  <a:pt x="1400" y="1400"/>
                </a:lnTo>
                <a:close/>
              </a:path>
              <a:path fill="darken" w="27619" h="21600">
                <a:moveTo>
                  <a:pt x="27619" y="0"/>
                </a:moveTo>
                <a:lnTo>
                  <a:pt x="27619" y="21600"/>
                </a:lnTo>
                <a:lnTo>
                  <a:pt x="26219" y="20200"/>
                </a:lnTo>
                <a:lnTo>
                  <a:pt x="26219" y="1400"/>
                </a:lnTo>
                <a:close/>
              </a:path>
              <a:path fill="darkenLess" w="27619" h="21600">
                <a:moveTo>
                  <a:pt x="276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19" y="20200"/>
                </a:lnTo>
                <a:close/>
              </a:path>
              <a:path fill="lighten" w="276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619" h="21600">
                <a:moveTo>
                  <a:pt x="17309" y="10800"/>
                </a:moveTo>
                <a:lnTo>
                  <a:pt x="6803" y="17806"/>
                </a:lnTo>
                <a:lnTo>
                  <a:pt x="6803" y="3794"/>
                </a:lnTo>
                <a:close/>
              </a:path>
              <a:path fill="darken" w="27619" h="21600">
                <a:moveTo>
                  <a:pt x="19154" y="3794"/>
                </a:moveTo>
                <a:lnTo>
                  <a:pt x="19154" y="17806"/>
                </a:lnTo>
                <a:lnTo>
                  <a:pt x="20816" y="17806"/>
                </a:lnTo>
                <a:lnTo>
                  <a:pt x="20816" y="3794"/>
                </a:lnTo>
                <a:close/>
              </a:path>
            </a:pathLst>
          </a:custGeom>
          <a:solidFill>
            <a:srgbClr val="0066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00200" y="5715000"/>
            <a:ext cx="320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f</a:t>
            </a:r>
            <a:r>
              <a:rPr b="0" lang="pt-BR" sz="2400" spc="-1" strike="noStrike" baseline="-25000">
                <a:solidFill>
                  <a:srgbClr val="000080"/>
                </a:solidFill>
                <a:latin typeface="Times New Roman"/>
              </a:rPr>
              <a:t>L</a:t>
            </a:r>
            <a:r>
              <a:rPr b="1" lang="pt-BR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– (1+</a:t>
            </a:r>
            <a:r>
              <a:rPr b="0" lang="pt-BR" sz="2400" spc="-1" strike="noStrike">
                <a:solidFill>
                  <a:srgbClr val="000080"/>
                </a:solidFill>
                <a:latin typeface="Symbol"/>
                <a:ea typeface="Symbol"/>
              </a:rPr>
              <a:t></a:t>
            </a: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 f</a:t>
            </a:r>
            <a:r>
              <a:rPr b="0" lang="pt-BR" sz="1800" spc="-1" strike="noStrike">
                <a:solidFill>
                  <a:srgbClr val="000080"/>
                </a:solidFill>
                <a:latin typeface="Times New Roman"/>
              </a:rPr>
              <a:t>i</a:t>
            </a: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) (1+</a:t>
            </a:r>
            <a:r>
              <a:rPr b="0" lang="pt-BR" sz="2400" spc="-1" strike="noStrike">
                <a:solidFill>
                  <a:srgbClr val="000080"/>
                </a:solidFill>
                <a:latin typeface="Symbol"/>
                <a:ea typeface="Symbol"/>
              </a:rPr>
              <a:t></a:t>
            </a: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f</a:t>
            </a:r>
            <a:r>
              <a:rPr b="0" lang="pt-BR" sz="1800" spc="-1" strike="noStrike">
                <a:solidFill>
                  <a:srgbClr val="000080"/>
                </a:solidFill>
                <a:latin typeface="Times New Roman"/>
              </a:rPr>
              <a:t>j</a:t>
            </a: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ddddd"/>
            </a:gs>
            <a:gs pos="100000">
              <a:srgbClr val="c5c5c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745920" y="593640"/>
            <a:ext cx="7622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Correlações de Custo para Alguns Equipamentos Típico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1238400" y="1066680"/>
          <a:ext cx="6762600" cy="541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8400" y="1066680"/>
                    <a:ext cx="6762600" cy="541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>
            <a:hlinkClick r:id="" action="ppaction://hlinkshowjump?jump=previousslide"/>
          </p:cNvPr>
          <p:cNvSpPr/>
          <p:nvPr/>
        </p:nvSpPr>
        <p:spPr>
          <a:xfrm>
            <a:off x="8381880" y="6400800"/>
            <a:ext cx="304920" cy="281160"/>
          </a:xfrm>
          <a:custGeom>
            <a:avLst/>
            <a:gdLst>
              <a:gd name="textAreaLeft" fmla="*/ 18000 w 304920"/>
              <a:gd name="textAreaRight" fmla="*/ 286920 w 304920"/>
              <a:gd name="textAreaTop" fmla="*/ 18000 h 281160"/>
              <a:gd name="textAreaBottom" fmla="*/ 263160 h 281160"/>
            </a:gdLst>
            <a:ahLst/>
            <a:rect l="textAreaLeft" t="textAreaTop" r="textAreaRight" b="textAreaBottom"/>
            <a:pathLst>
              <a:path w="23423" h="21600">
                <a:moveTo>
                  <a:pt x="0" y="0"/>
                </a:moveTo>
                <a:lnTo>
                  <a:pt x="23423" y="0"/>
                </a:lnTo>
                <a:lnTo>
                  <a:pt x="23423" y="21600"/>
                </a:lnTo>
                <a:lnTo>
                  <a:pt x="0" y="21600"/>
                </a:lnTo>
                <a:close/>
              </a:path>
              <a:path fill="lightenLess" w="23423" h="21600">
                <a:moveTo>
                  <a:pt x="0" y="0"/>
                </a:moveTo>
                <a:lnTo>
                  <a:pt x="23423" y="0"/>
                </a:lnTo>
                <a:lnTo>
                  <a:pt x="22023" y="1400"/>
                </a:lnTo>
                <a:lnTo>
                  <a:pt x="1400" y="1400"/>
                </a:lnTo>
                <a:close/>
              </a:path>
              <a:path fill="darken" w="23423" h="21600">
                <a:moveTo>
                  <a:pt x="23423" y="0"/>
                </a:moveTo>
                <a:lnTo>
                  <a:pt x="23423" y="21600"/>
                </a:lnTo>
                <a:lnTo>
                  <a:pt x="22023" y="20200"/>
                </a:lnTo>
                <a:lnTo>
                  <a:pt x="22023" y="1400"/>
                </a:lnTo>
                <a:close/>
              </a:path>
              <a:path fill="darkenLess" w="23423" h="21600">
                <a:moveTo>
                  <a:pt x="23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23" y="20200"/>
                </a:lnTo>
                <a:close/>
              </a:path>
              <a:path fill="lighten" w="23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23" h="21600">
                <a:moveTo>
                  <a:pt x="8213" y="10800"/>
                </a:moveTo>
                <a:lnTo>
                  <a:pt x="18718" y="3794"/>
                </a:lnTo>
                <a:lnTo>
                  <a:pt x="18718" y="17806"/>
                </a:lnTo>
                <a:close/>
              </a:path>
              <a:path fill="darken" w="23423" h="21600">
                <a:moveTo>
                  <a:pt x="4705" y="3794"/>
                </a:moveTo>
                <a:lnTo>
                  <a:pt x="6367" y="3794"/>
                </a:lnTo>
                <a:lnTo>
                  <a:pt x="6367" y="17806"/>
                </a:lnTo>
                <a:lnTo>
                  <a:pt x="4705" y="17806"/>
                </a:lnTo>
                <a:close/>
              </a:path>
            </a:pathLst>
          </a:custGeom>
          <a:solidFill>
            <a:srgbClr val="0066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c5c5c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516320" y="304920"/>
            <a:ext cx="720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4.3 Dados para a estimativas de Custos e de Investiment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521360" y="762120"/>
            <a:ext cx="60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4.3.1  - Dados apresentados em Rudd &amp; Wats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22" name="DEQ372_Analiseconom4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695304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c5c5c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447920" y="685800"/>
            <a:ext cx="7315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esempenho previsto – fase de projet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esempenho de um processo – fase de operaçã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just"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odem ser medidos através de </a:t>
            </a:r>
            <a:r>
              <a:rPr b="1" lang="en-US" sz="2400" spc="-1" strike="noStrike">
                <a:solidFill>
                  <a:srgbClr val="fd2b15"/>
                </a:solidFill>
                <a:latin typeface="Times New Roman"/>
                <a:ea typeface="Times New Roman"/>
              </a:rPr>
              <a:t>critérios econômicos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expressos por funções de tipo </a:t>
            </a:r>
            <a:r>
              <a:rPr b="1" lang="en-US" sz="2400" spc="-1" strike="noStrike">
                <a:solidFill>
                  <a:srgbClr val="fd2b15"/>
                </a:solidFill>
                <a:latin typeface="Times New Roman"/>
                <a:ea typeface="Times New Roman"/>
              </a:rPr>
              <a:t>lucro ou custo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just"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Estes critérios são utilizados tanto em problemas de </a:t>
            </a:r>
            <a:r>
              <a:rPr b="1" lang="en-US" sz="2400" spc="-1" strike="noStrike">
                <a:solidFill>
                  <a:srgbClr val="fd2b15"/>
                </a:solidFill>
                <a:latin typeface="Times New Roman"/>
                <a:ea typeface="Times New Roman"/>
              </a:rPr>
              <a:t>simulação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como de </a:t>
            </a:r>
            <a:r>
              <a:rPr b="1" lang="en-US" sz="2400" spc="-1" strike="noStrike">
                <a:solidFill>
                  <a:srgbClr val="fd2b15"/>
                </a:solidFill>
                <a:latin typeface="Times New Roman"/>
                <a:ea typeface="Times New Roman"/>
              </a:rPr>
              <a:t>dimensionamento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just"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Em problemas com graus de liberdade maior que 0, o critério econômico serve para nortear a busca do dimensionamento ótimo.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9280" y="304920"/>
            <a:ext cx="26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4.1 INTRODUÇÃ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71600" y="559440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OBJETIVO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studo da viabilidade de processos novos, de modificações em processos existentes, de novos empreendimento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c5c5c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440720" y="304920"/>
            <a:ext cx="60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(b) Dados para a estimativas Custos de utilidad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24" name="DEQ372_Analiseconom5" descr=""/>
          <p:cNvPicPr/>
          <p:nvPr/>
        </p:nvPicPr>
        <p:blipFill>
          <a:blip r:embed="rId1"/>
          <a:stretch/>
        </p:blipFill>
        <p:spPr>
          <a:xfrm>
            <a:off x="1362240" y="762120"/>
            <a:ext cx="769608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c5c5c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446840" y="30492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4.3.2. Dados apresentados em Dougla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0000" y="762120"/>
            <a:ext cx="577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(a) Dados para a estimativas de investimento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17760" y="1447920"/>
            <a:ext cx="55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(a.1 ) Custo instalado de trocadores de calo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3349440" cy="7207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5181480" y="2133720"/>
            <a:ext cx="3349800" cy="7207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1219320" y="3048120"/>
            <a:ext cx="7924680" cy="1131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1219320" y="4282920"/>
            <a:ext cx="7924680" cy="898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5"/>
          <a:stretch/>
        </p:blipFill>
        <p:spPr>
          <a:xfrm>
            <a:off x="1219320" y="5432400"/>
            <a:ext cx="7924680" cy="6984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987640" y="1916280"/>
            <a:ext cx="49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d1705"/>
                </a:solidFill>
                <a:latin typeface="Times New Roman"/>
              </a:rPr>
              <a:t>Área de troca térmica – 200&lt;A&lt; 5000ft2</a:t>
            </a:r>
            <a:endParaRPr b="0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48000" y="1916280"/>
            <a:ext cx="49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d1705"/>
                </a:solidFill>
                <a:latin typeface="Times New Roman"/>
              </a:rPr>
              <a:t>Fator global de coreção – material, pressão e tipo</a:t>
            </a:r>
            <a:endParaRPr b="0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c5c5c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446840" y="30492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4.3.2. Dados apresentados em Dougla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440000" y="762120"/>
            <a:ext cx="577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(a) Dados para a estimativas de investimento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517040" y="1447920"/>
            <a:ext cx="58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(a.2 ) Custo instalado de colunas de destilaçã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676520" y="2209680"/>
            <a:ext cx="3771720" cy="7207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5638680" y="23623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F</a:t>
            </a:r>
            <a:r>
              <a:rPr b="0" lang="pt-BR" sz="2000" spc="-1" strike="noStrike">
                <a:solidFill>
                  <a:srgbClr val="000080"/>
                </a:solidFill>
                <a:latin typeface="Times New Roman"/>
              </a:rPr>
              <a:t>c</a:t>
            </a: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 = F</a:t>
            </a:r>
            <a:r>
              <a:rPr b="0" lang="pt-BR" sz="2000" spc="-1" strike="noStrike">
                <a:solidFill>
                  <a:srgbClr val="000080"/>
                </a:solidFill>
                <a:latin typeface="Times New Roman"/>
              </a:rPr>
              <a:t>p</a:t>
            </a: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 F</a:t>
            </a:r>
            <a:r>
              <a:rPr b="0" lang="pt-BR" sz="2000" spc="-1" strike="noStrike">
                <a:solidFill>
                  <a:srgbClr val="00008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1219320" y="3429000"/>
            <a:ext cx="7924680" cy="7812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1295280" y="4648320"/>
            <a:ext cx="7658280" cy="7207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348000" y="1916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d1705"/>
                </a:solidFill>
                <a:latin typeface="Times New Roman"/>
              </a:rPr>
              <a:t>diâmetro</a:t>
            </a:r>
            <a:endParaRPr b="0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211640" y="1916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d1705"/>
                </a:solidFill>
                <a:latin typeface="Times New Roman"/>
              </a:rPr>
              <a:t>altura</a:t>
            </a:r>
            <a:endParaRPr b="0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264440" y="242100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d1705"/>
                </a:solidFill>
                <a:latin typeface="Times New Roman"/>
              </a:rPr>
              <a:t>Pressão e material</a:t>
            </a:r>
            <a:endParaRPr b="0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c5c5c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446840" y="30492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4.3.2. Dados apresentados em Dougla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40000" y="762120"/>
            <a:ext cx="577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(a) Dados para a estimativas de investimento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519920" y="144792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(a.3 ) Custo instalado dos refervedor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2666880" y="2209680"/>
            <a:ext cx="3772080" cy="8352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1597320" y="3886200"/>
            <a:ext cx="51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(a.4 ) Custo instalado dos condensador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3124080" y="4495680"/>
            <a:ext cx="2892600" cy="8352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588000" y="2205000"/>
            <a:ext cx="23050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d1705"/>
                </a:solidFill>
                <a:latin typeface="Times New Roman"/>
              </a:rPr>
              <a:t>Qc - Carga térmica do condensador</a:t>
            </a:r>
            <a:endParaRPr b="0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d1705"/>
                </a:solidFill>
                <a:latin typeface="Times New Roman"/>
              </a:rPr>
              <a:t>Tb – Temperatura de bolha do destilado</a:t>
            </a:r>
            <a:endParaRPr b="0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372360" y="4653000"/>
            <a:ext cx="230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d1705"/>
                </a:solidFill>
                <a:latin typeface="Times New Roman"/>
              </a:rPr>
              <a:t>Q</a:t>
            </a:r>
            <a:r>
              <a:rPr b="0" lang="pt-BR" sz="1000" spc="-1" strike="noStrike">
                <a:solidFill>
                  <a:srgbClr val="fd1705"/>
                </a:solidFill>
                <a:latin typeface="Times New Roman"/>
              </a:rPr>
              <a:t>R</a:t>
            </a:r>
            <a:r>
              <a:rPr b="0" lang="pt-BR" sz="1600" spc="-1" strike="noStrike">
                <a:solidFill>
                  <a:srgbClr val="fd1705"/>
                </a:solidFill>
                <a:latin typeface="Times New Roman"/>
              </a:rPr>
              <a:t> - Carga térmica do refervedor</a:t>
            </a:r>
            <a:endParaRPr b="0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69" dur="1" fill="hold"/>
                                  <p:tgtEl>
                                    <p:spTgt spid="2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c5c5c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446840" y="30492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4.3.2. Dados apresentados em Dougla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440000" y="762120"/>
            <a:ext cx="63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(b) Dados para a estimativas de custos e utilidad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21720" y="1447920"/>
            <a:ext cx="31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(b.1 ) Utilidades quent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597680" y="3886200"/>
            <a:ext cx="279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(b.2 ) Utilidades fria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3048120" y="2209680"/>
            <a:ext cx="3120840" cy="8352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6588000" y="2205000"/>
            <a:ext cx="23050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d1705"/>
                </a:solidFill>
                <a:latin typeface="Times New Roman"/>
              </a:rPr>
              <a:t>Q</a:t>
            </a:r>
            <a:r>
              <a:rPr b="0" lang="pt-BR" sz="1200" spc="-1" strike="noStrike">
                <a:solidFill>
                  <a:srgbClr val="fd1705"/>
                </a:solidFill>
                <a:latin typeface="Times New Roman"/>
              </a:rPr>
              <a:t>R</a:t>
            </a:r>
            <a:r>
              <a:rPr b="0" lang="pt-BR" sz="1600" spc="-1" strike="noStrike">
                <a:solidFill>
                  <a:srgbClr val="fd1705"/>
                </a:solidFill>
                <a:latin typeface="Times New Roman"/>
              </a:rPr>
              <a:t> - Carga térmica do refervedor</a:t>
            </a:r>
            <a:endParaRPr b="0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d1705"/>
                </a:solidFill>
                <a:latin typeface="Times New Roman"/>
              </a:rPr>
              <a:t>Cv – Custo do vapor</a:t>
            </a:r>
            <a:endParaRPr b="0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516720" y="4437000"/>
            <a:ext cx="230508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d1705"/>
                </a:solidFill>
                <a:latin typeface="Times New Roman"/>
              </a:rPr>
              <a:t>Qc - Carga térmica do condensador</a:t>
            </a:r>
            <a:endParaRPr b="0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d1705"/>
                </a:solidFill>
                <a:latin typeface="Times New Roman"/>
              </a:rPr>
              <a:t>Ca – Custo da água</a:t>
            </a:r>
            <a:endParaRPr b="0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d1705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fd1705"/>
                </a:solidFill>
                <a:latin typeface="Times New Roman"/>
              </a:rPr>
              <a:t>(US$ 0,1335/1000 gal</a:t>
            </a:r>
            <a:endParaRPr b="0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2987640" y="4508640"/>
          <a:ext cx="3240000" cy="722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87640" y="4508640"/>
                    <a:ext cx="324000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5" dur="1" fill="hold"/>
                                  <p:tgtEl>
                                    <p:spTgt spid="2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ddddd"/>
            </a:gs>
            <a:gs pos="100000">
              <a:srgbClr val="c5c5c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788120" y="746280"/>
            <a:ext cx="5607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Fator de Escala no Custo de Investiment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de um Trocador de Calo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365120" y="2016000"/>
          <a:ext cx="5523120" cy="369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5120" y="2016000"/>
                    <a:ext cx="5523120" cy="36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c5c5c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447920" y="838080"/>
            <a:ext cx="7391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rincipais aspectos econômicos que influenciam sobre os projeto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Análise de Projeto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just"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Valor presente do fluxo do caix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just"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Taxa interna de retorn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- Depende do investido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Estrangeiro x Brasileiro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Estatal x Privado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- Depende do financiamento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A taxa de financiamento também influi na taxa interna de retorno.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62560" y="571500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US$ - menor taxa de financiament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9280" y="304920"/>
            <a:ext cx="26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4.1 INTRODUÇÃ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c5c5c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447920" y="914400"/>
            <a:ext cx="739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- Depende do risc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Todo capital corre risco, mas quanto maior este for, maior terá que ser a remuneração. Quanto maior o risco maior a taxa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2895480"/>
            <a:ext cx="7086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Impostos  - 30% do investimento no Brasil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d2b15"/>
                </a:solidFill>
                <a:latin typeface="Times New Roman"/>
                <a:ea typeface="Times New Roman"/>
              </a:rPr>
              <a:t>A Viabilidade econômica é relação entre a receita liquida anual de um projeto e o investimento necessário à sua realização. Esta receita deve ser suficiente para que seu valor presente seja maior do que o investimento</a:t>
            </a:r>
            <a:r>
              <a:rPr b="0" lang="en-US" sz="2400" spc="-1" strike="noStrike">
                <a:solidFill>
                  <a:srgbClr val="fd2b15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29280" y="304920"/>
            <a:ext cx="26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4.1 INTRODUÇÃ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c5c5c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529280" y="304920"/>
            <a:ext cx="26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4.1 INTRODUÇÃ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0" y="1219320"/>
            <a:ext cx="0" cy="43434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0" y="3352680"/>
            <a:ext cx="5410080" cy="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315200" y="31240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Times New Roman"/>
              </a:rPr>
              <a:t>Nível de detalhamento</a:t>
            </a:r>
            <a:endParaRPr b="0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838080"/>
            <a:ext cx="1676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Times New Roman"/>
              </a:rPr>
              <a:t>Faixa de erros</a:t>
            </a:r>
            <a:endParaRPr b="0" lang="en-US" sz="1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Times New Roman"/>
              </a:rPr>
              <a:t>(%)</a:t>
            </a:r>
            <a:endParaRPr b="0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2057400"/>
            <a:ext cx="0" cy="281952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81080" y="54100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Síntese de processo</a:t>
            </a:r>
            <a:endParaRPr b="0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81080" y="16002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Times New Roman"/>
              </a:rPr>
              <a:t>(30 a 50)</a:t>
            </a:r>
            <a:endParaRPr b="0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9880" y="2514600"/>
            <a:ext cx="0" cy="160020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71800" y="46483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Times New Roman"/>
              </a:rPr>
              <a:t>Projeto de processo</a:t>
            </a:r>
            <a:endParaRPr b="0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00600" y="2819520"/>
            <a:ext cx="0" cy="114300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6200" y="56386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Times New Roman"/>
              </a:rPr>
              <a:t>Projeto básico</a:t>
            </a:r>
            <a:endParaRPr b="0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15000" y="3048120"/>
            <a:ext cx="0" cy="68580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952880" y="46483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Projeto detalhado</a:t>
            </a:r>
            <a:endParaRPr b="0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05720" y="3124080"/>
            <a:ext cx="0" cy="457200"/>
          </a:xfrm>
          <a:prstGeom prst="line">
            <a:avLst/>
          </a:prstGeom>
          <a:ln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5334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Times New Roman"/>
              </a:rPr>
              <a:t>Projeto executivo</a:t>
            </a:r>
            <a:endParaRPr b="0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95480" y="20574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Times New Roman"/>
              </a:rPr>
              <a:t>(20 a 30)</a:t>
            </a:r>
            <a:endParaRPr b="0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86200" y="23623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Times New Roman"/>
              </a:rPr>
              <a:t>(15 a 20)</a:t>
            </a:r>
            <a:endParaRPr b="0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00600" y="25146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Times New Roman"/>
              </a:rPr>
              <a:t>(10 a 15)</a:t>
            </a:r>
            <a:endParaRPr b="0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943600" y="25909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Times New Roman"/>
              </a:rPr>
              <a:t>(5 a 10)</a:t>
            </a:r>
            <a:endParaRPr b="0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286000" y="533520"/>
            <a:ext cx="5943600" cy="2819160"/>
            <a:chOff x="2286000" y="533520"/>
            <a:chExt cx="5943600" cy="2819160"/>
          </a:xfrm>
        </p:grpSpPr>
        <p:sp>
          <p:nvSpPr>
            <p:cNvPr id="135" name=""/>
            <p:cNvSpPr/>
            <p:nvPr/>
          </p:nvSpPr>
          <p:spPr>
            <a:xfrm>
              <a:off x="2286000" y="533520"/>
              <a:ext cx="4495680" cy="2819160"/>
            </a:xfrm>
            <a:custGeom>
              <a:avLst/>
              <a:gdLst/>
              <a:ahLst/>
              <a:rect l="l" t="t" r="r" b="b"/>
              <a:pathLst>
                <a:path w="2832" h="1776">
                  <a:moveTo>
                    <a:pt x="0" y="1776"/>
                  </a:moveTo>
                  <a:cubicBezTo>
                    <a:pt x="112" y="1764"/>
                    <a:pt x="224" y="1752"/>
                    <a:pt x="384" y="1728"/>
                  </a:cubicBezTo>
                  <a:cubicBezTo>
                    <a:pt x="544" y="1704"/>
                    <a:pt x="768" y="1672"/>
                    <a:pt x="960" y="1632"/>
                  </a:cubicBezTo>
                  <a:cubicBezTo>
                    <a:pt x="1152" y="1592"/>
                    <a:pt x="1336" y="1568"/>
                    <a:pt x="1536" y="1488"/>
                  </a:cubicBezTo>
                  <a:cubicBezTo>
                    <a:pt x="1736" y="1408"/>
                    <a:pt x="1944" y="1400"/>
                    <a:pt x="2160" y="1152"/>
                  </a:cubicBezTo>
                  <a:cubicBezTo>
                    <a:pt x="2376" y="904"/>
                    <a:pt x="2604" y="452"/>
                    <a:pt x="2832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553080" y="533520"/>
              <a:ext cx="1676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Custo de execução do projeto</a:t>
              </a:r>
              <a:endParaRPr b="0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c5c5c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371600" y="914400"/>
            <a:ext cx="7026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“</a:t>
            </a: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Venture Profit” (Happel)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d2b15"/>
                </a:solidFill>
                <a:latin typeface="Times New Roman"/>
              </a:rPr>
              <a:t>Lucro do empreendimento (LE)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Investimento em processo industrial sujeito a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                          </a:t>
            </a: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Risco Comerci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                                        </a:t>
            </a:r>
            <a:r>
              <a:rPr b="0" lang="pt-BR" sz="2400" spc="-1" strike="noStrike">
                <a:solidFill>
                  <a:srgbClr val="000080"/>
                </a:solidFill>
                <a:latin typeface="Symbol"/>
                <a:ea typeface="Symbol"/>
              </a:rPr>
              <a:t>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Investimento com retorno garantido 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          </a:t>
            </a: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Risco Zer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29280" y="304920"/>
            <a:ext cx="26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4.1 INTRODUÇÃ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ddddd"/>
            </a:gs>
            <a:gs pos="100000">
              <a:srgbClr val="c5c5c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002240" y="898560"/>
            <a:ext cx="7242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Fluxograma Ilustrativo do Lucro do Empreendiment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8680" y="1828800"/>
          <a:ext cx="908388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80" y="1828800"/>
                    <a:ext cx="908388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124000" y="2189160"/>
                <a:ext cx="16178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Prod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3429000" y="4114800"/>
            <a:ext cx="1143000" cy="272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96080" y="3200400"/>
            <a:ext cx="1143000" cy="272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3171960"/>
            <a:ext cx="1143000" cy="272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29000" y="3200400"/>
            <a:ext cx="1219320" cy="272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3200400"/>
            <a:ext cx="1143000" cy="272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53240" y="4295880"/>
            <a:ext cx="1143000" cy="272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4267080"/>
            <a:ext cx="1143000" cy="27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4876920"/>
            <a:ext cx="1143000" cy="272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95680" y="1781280"/>
            <a:ext cx="2667240" cy="272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733920" y="5715000"/>
            <a:ext cx="2438280" cy="272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8120" y="2590920"/>
            <a:ext cx="609480" cy="457200"/>
          </a:xfrm>
          <a:prstGeom prst="rect">
            <a:avLst/>
          </a:prstGeom>
          <a:noFill/>
          <a:ln w="28440">
            <a:solidFill>
              <a:srgbClr val="fd2b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362320" y="4648320"/>
            <a:ext cx="1295280" cy="457200"/>
          </a:xfrm>
          <a:prstGeom prst="rect">
            <a:avLst/>
          </a:prstGeom>
          <a:noFill/>
          <a:ln w="28440">
            <a:solidFill>
              <a:srgbClr val="fd2b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ddddd"/>
            </a:gs>
            <a:gs pos="100000">
              <a:srgbClr val="c5c5c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745200" y="1355760"/>
            <a:ext cx="765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Valores Típicos da Taxa de Retorno sobre o Investiment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99960" y="2789280"/>
          <a:ext cx="8286840" cy="14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2789280"/>
                    <a:ext cx="82868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ddddd"/>
            </a:gs>
            <a:gs pos="100000">
              <a:srgbClr val="c5c5c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043720" y="746280"/>
            <a:ext cx="5029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Valores Típicos para a Taxa de Risc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162080" y="1546200"/>
          <a:ext cx="714384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2080" y="1546200"/>
                    <a:ext cx="714384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7T18:27:34Z</dcterms:created>
  <dc:creator>Escola de Quimica</dc:creator>
  <dc:description/>
  <dc:language>en-US</dc:language>
  <cp:lastModifiedBy>Josinira Amorim</cp:lastModifiedBy>
  <dcterms:modified xsi:type="dcterms:W3CDTF">2003-12-11T00:02:11Z</dcterms:modified>
  <cp:revision>59</cp:revision>
  <dc:subject/>
  <dc:title>Slide sem título </dc:title>
</cp:coreProperties>
</file>