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B4E-F242-4DFC-99BE-647A2956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8E6-7367-45BF-BE87-0F78A9C9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258-5C89-4B6B-A9D4-B260D11B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AC1-410F-4581-AFE0-89DB4986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8B4F-6FD8-4079-80F6-CE78D58A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DC6B-E168-47C4-8BC9-E025835D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C71A-D53E-42D5-8AD4-DD2765FE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CD34-1399-45A1-9038-E1EA2A8B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252E-71A5-4222-9AFC-8BA56C59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B3C0-530A-431D-8BE9-AEC091F8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DF01-B4EF-463F-B179-2B41D660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47F-849F-4B11-B403-953B4796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14A6-8E26-483B-85E8-67BFE42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39C3-4A06-45D4-962D-376479E8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00C8-DF21-47C0-999B-EF3EC0AC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2107-C608-4E3D-AFE5-7A08CD03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B006-8C2E-4748-884E-0BF83F65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EF0-3804-473D-A62E-6DCB282B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E7B-D82D-4C23-B9C0-51A8A4F9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649-F3EB-44E6-86BF-D5F7D5A8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121-5A39-48E0-861A-1F87CA38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CB6-DFB0-42A5-8FAA-021545E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104-4143-4617-8037-527B6739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F74-8A72-4E67-8D54-E292ABE2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7640" y="3585240"/>
              <a:ext cx="62172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6249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624908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3632-F045-46D1-BC2C-97691E60983A}" type="slidenum">
              <a:rPr b="0" lang="pt-BR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7640" y="3585240"/>
              <a:ext cx="62172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6249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624908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B07B-A579-4281-BA2C-A69BF80356B3}" type="slidenum">
              <a:rPr b="0" lang="pt-BR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27400" y="-57240"/>
            <a:ext cx="57067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6. INTRODUÇÃO À SÍNTES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E PROCESSO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6.1 Decomposição de Problem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6.2 Representação e Resolução de Problem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6.2.1 Árvores de Estad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6.2.2 Superestrutur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54520" y="5029200"/>
            <a:ext cx="58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per-estrutura do Problema evidenciand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o Fluxograma 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32780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37480" y="414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6.2.2 SUPER - ESTRUTUR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Represent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1880" y="6137280"/>
            <a:ext cx="63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Resolução: Otimização por Programação Mis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88080" y="41400"/>
            <a:ext cx="54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6.1 DECOMPOSIÇÃO DE PROBLEM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jeto 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Sínte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náli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AREFA DO PROCESS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téria Prima 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Produ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UB-TAREF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Re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Separ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Integração Material e Energét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Cont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98800" y="304920"/>
            <a:ext cx="7948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6.2 REPRESENTAÇÃO E RESOLUÇÃO DE PROBLEM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 representação tem como finalidade ORGANIZAR o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ementos do problema objetivando ORIENTAR a resolução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   resolução  consiste  em  obter  a  solução  através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um procedimento orientado pela representação escolhid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6.2.1 Árvores de Estad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Represent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Resolu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Busca Exaustiv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Busca Heuríst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Busca Evolutiv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Busca com Limit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2600" y="914400"/>
            <a:ext cx="564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quipamentos para o Processo Ilustr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320" y="2133720"/>
            <a:ext cx="89280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80120" y="304920"/>
            <a:ext cx="705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Os Fluxogramas Possíveis para a Process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Ilustrativo com os Equipamentos da Figura anter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1833840" cy="336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1371600"/>
            <a:ext cx="1835280" cy="321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676920" y="1219320"/>
            <a:ext cx="1870200" cy="3517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048120" y="5181480"/>
            <a:ext cx="36702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80120" y="304920"/>
            <a:ext cx="705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Os Fluxogramas Possíveis para a Process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Ilustrativo com os Equipamentos da Figura anter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1601640" cy="298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3213000" cy="241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4127760" cy="1720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95880" y="4344840"/>
            <a:ext cx="29084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94400" y="838080"/>
            <a:ext cx="617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presentação do Problema de Síntese de u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ocesso por Árvore de Estad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72518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53352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solução do problem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b.1) Busca Exaustiv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b.2 ) Busca Heuríst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b.3 ) Busca Evolutiv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b.4 ) Busca por Ramificações Limitad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30760" y="1143000"/>
            <a:ext cx="627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O Fluxograma 1 e os seus Vizinhos Estrutura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4584960" cy="351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732840" y="533520"/>
            <a:ext cx="229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6"/>
                </a:solidFill>
                <a:latin typeface="Times New Roman"/>
              </a:rPr>
              <a:t>Busca Evolutiv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7T18:27:34Z</dcterms:created>
  <dc:creator>Escola de Quimica</dc:creator>
  <dc:description/>
  <dc:language>en-US</dc:language>
  <cp:lastModifiedBy>daniel</cp:lastModifiedBy>
  <dcterms:modified xsi:type="dcterms:W3CDTF">2004-07-21T12:29:44Z</dcterms:modified>
  <cp:revision>15</cp:revision>
  <dc:subject/>
  <dc:title>Slide sem título </dc:title>
</cp:coreProperties>
</file>